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BCA-E871-466F-8A0B-3E4C1A15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8B1-CD2C-47AC-8AB2-DB0AD1AD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BEB-7434-49EB-89BB-CB9FB189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FE1-5770-405D-A071-1A0A2902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53D-42E3-4EC1-85EA-A7391B50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BD3-DB87-4BDE-8867-6DD5EFE5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1D2-C831-4168-B282-D955A9A7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AD6-22D1-441C-B957-79C7490B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B26-9223-43A5-A2F2-55D71838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2F9-1F41-4129-9436-4BC3E25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A62-90AA-4F5E-9664-AE177DD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3B6-0DAE-45B5-AE1D-0EEE049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6768-79B9-4A6D-AF56-07458BFAD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1760" y="1700280"/>
            <a:ext cx="62402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72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396720" y="602136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96720" y="602136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752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95520" y="2141640"/>
            <a:ext cx="60008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 Black"/>
              </a:rPr>
              <a:t>Estructura del S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3040" y="1550880"/>
            <a:ext cx="81313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5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631880"/>
            <a:ext cx="8858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0908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577880"/>
            <a:ext cx="87138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2920" y="1471680"/>
            <a:ext cx="88930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20:49:17Z</dcterms:created>
  <dc:creator>Luis Seguel</dc:creator>
  <dc:description/>
  <dc:language>en-US</dc:language>
  <cp:lastModifiedBy>Luis Seguel</cp:lastModifiedBy>
  <dcterms:modified xsi:type="dcterms:W3CDTF">2009-03-20T17:15:43Z</dcterms:modified>
  <cp:revision>5</cp:revision>
  <dc:subject/>
  <dc:title>SII / Organigrama</dc:title>
</cp:coreProperties>
</file>