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D50A-F5F8-4669-9F39-F6980F2D9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3B17-3194-4557-B6C3-80A72CDC0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F1EE-2453-4133-8C6A-B00D2F5EA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A120-96AA-42D2-B253-5FBAB3F2D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6D61-F28F-4B4E-BE96-70217D92E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36E7-9CC1-4A23-9D21-8E2ADA104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9512-53A8-4217-A3F5-7BFE116DD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7305-343C-406F-A256-654B857B5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5833-1B02-49C6-85C6-5D9BA3FB3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13E8-B697-401D-ABF8-7ADC99A2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24DF-0D2A-4D9D-AD7D-A6B77391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6B45-AC25-4A05-8596-943AB9FF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6DBE1-6870-48E9-8E26-DB40483B9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71760" y="1700280"/>
            <a:ext cx="624024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109080" cy="67280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-396720" y="6021360"/>
            <a:ext cx="201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 Black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52560"/>
            <a:ext cx="9144000" cy="6752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-396720" y="6021360"/>
            <a:ext cx="201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 Black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411280" y="1125360"/>
            <a:ext cx="40752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95520" y="2141640"/>
            <a:ext cx="600084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 Black"/>
              </a:rPr>
              <a:t>Estructura del S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73040" y="1550880"/>
            <a:ext cx="813132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885672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9280" y="1631880"/>
            <a:ext cx="8858520" cy="28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539640"/>
            <a:ext cx="9109080" cy="59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0920" y="1577880"/>
            <a:ext cx="8713800" cy="29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2920" y="1471680"/>
            <a:ext cx="889308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20:49:17Z</dcterms:created>
  <dc:creator>Luis Seguel</dc:creator>
  <dc:description/>
  <dc:language>en-US</dc:language>
  <cp:lastModifiedBy>Luis Seguel</cp:lastModifiedBy>
  <dcterms:modified xsi:type="dcterms:W3CDTF">2009-03-20T17:15:43Z</dcterms:modified>
  <cp:revision>5</cp:revision>
  <dc:subject/>
  <dc:title>SII / Organigrama</dc:title>
</cp:coreProperties>
</file>