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CEC-921D-411D-B09B-538C5EBB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1AD-8E0C-43E4-A094-84B33406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7B7-D0CD-48BC-8568-6D6B5F76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003-EEE3-4B91-AD22-6C5B74F8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E71-D095-4013-ADB1-D016F31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FD1-509D-4BDE-8579-A20A28FA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C0B-6771-4F9C-A00F-E305C78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E60-42C8-46FE-8E2C-658A902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936-93A5-4512-A4B1-77E64EDE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78E-8C1C-49F9-86EC-361003C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FBE-83A2-4A48-9D49-FA16B32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D52-EDBD-4B05-B3BA-F3D92F0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1DD-27A5-4BF6-8689-122C3F28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1700280"/>
            <a:ext cx="62402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72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75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95520" y="2141640"/>
            <a:ext cx="6000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 Black"/>
              </a:rPr>
              <a:t>Estructura del S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3040" y="1550880"/>
            <a:ext cx="8131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631880"/>
            <a:ext cx="8858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0908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77880"/>
            <a:ext cx="87138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9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9:17Z</dcterms:created>
  <dc:creator>Luis Seguel</dc:creator>
  <dc:description/>
  <dc:language>en-US</dc:language>
  <cp:lastModifiedBy>Luis Seguel</cp:lastModifiedBy>
  <dcterms:modified xsi:type="dcterms:W3CDTF">2009-03-20T17:15:43Z</dcterms:modified>
  <cp:revision>5</cp:revision>
  <dc:subject/>
  <dc:title>SII / Organigrama</dc:title>
</cp:coreProperties>
</file>