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DC2-79A3-44AF-B5FB-2D3D19A4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DA6-C32B-499A-B16E-4A65F56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C99-2FBF-4F1D-BBA9-129EE5C0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AFD-DA65-4E2E-B6DB-7913E803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5EA-E437-4BA3-96D2-B4307E3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8A8-C491-44EF-84B0-8A68835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66E-6EFF-468E-ABB9-F02DE9C2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0C0-8EA0-4479-965C-CA7FD25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E79-FC47-4E7F-AA66-77B2059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EE8-85BA-4A64-A264-3F6E815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118-042B-461C-BA51-19FD255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6BE-7456-40CD-8FB6-4389E687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59C-BCB4-4751-921E-FE3C196C3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1760" y="1700280"/>
            <a:ext cx="62402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72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752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95520" y="2141640"/>
            <a:ext cx="6000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 Black"/>
              </a:rPr>
              <a:t>Estructura del S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3040" y="1550880"/>
            <a:ext cx="8131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631880"/>
            <a:ext cx="8858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0908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577880"/>
            <a:ext cx="87138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2920" y="1471680"/>
            <a:ext cx="889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0:49:17Z</dcterms:created>
  <dc:creator>Luis Seguel</dc:creator>
  <dc:description/>
  <dc:language>en-US</dc:language>
  <cp:lastModifiedBy>Luis Seguel</cp:lastModifiedBy>
  <dcterms:modified xsi:type="dcterms:W3CDTF">2009-03-20T17:15:43Z</dcterms:modified>
  <cp:revision>5</cp:revision>
  <dc:subject/>
  <dc:title>SII / Organigrama</dc:title>
</cp:coreProperties>
</file>