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592F-7CC8-4DB9-92B3-593DB290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7230-6EE4-41C1-AC06-35FDEE9A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EE52-56D4-4AFF-8F17-0EC1E6F0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5054-1D30-4748-A1DF-41A595D0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1EC5-2B69-4C21-BEA0-27F093EB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181A-2D54-4B60-B4EA-29292287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5B94-B070-4FDB-B355-EAAEB2ED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045E-F303-4E59-835D-05FBDA6F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8C91-1592-490B-BC10-7880EC5A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CD6F-3CED-43B2-B567-CCEDEB25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25FA-FFCA-403B-9097-1A0127DE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088A-CFAA-433B-ABCB-E4AD39C7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2611-20A6-403C-B927-D0A35A5F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11D8-98DA-4EE1-82B6-F1BCD93C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81C7-F75B-4BA5-9938-A8D81507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D0B8-49C5-4667-A571-8CCA8A65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2314-4EE3-4349-8E28-FF49C540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AC52-1597-4B3E-A582-3943882B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2186-6290-4EEF-B275-4082B80E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C5E0-2B73-4797-BF97-1C3DDFF3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9800-D098-40AD-AB77-CFD86884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C42B-F1FB-48D4-9810-5EB44FB6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D371-0B8C-4FFC-8785-5B964B66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65F1-F452-410C-8D44-B66092E5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3A2B-8657-4626-9A80-899D14FE86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-1035000" y="1521000"/>
            <a:ext cx="10179000" cy="5337000"/>
            <a:chOff x="-1035000" y="1521000"/>
            <a:chExt cx="10179000" cy="5337000"/>
          </a:xfrm>
        </p:grpSpPr>
        <p:sp>
          <p:nvSpPr>
            <p:cNvPr id="45" name="Freeform 2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3"/>
            <p:cNvSpPr/>
            <p:nvPr/>
          </p:nvSpPr>
          <p:spPr>
            <a:xfrm>
              <a:off x="-1035000" y="1521000"/>
              <a:ext cx="6726240" cy="53370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423B-D730-4A2F-BB06-9D97DB84DD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ahoo.com/" TargetMode="External"/><Relationship Id="rId2" Type="http://schemas.openxmlformats.org/officeDocument/2006/relationships/hyperlink" Target="http://www.yahoo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Verdana"/>
              </a:rPr>
              <a:t>Acceso a la</a:t>
            </a:r>
            <a:r>
              <a:rPr b="0" lang="en-US" sz="5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5400" spc="-1" strike="noStrike">
                <a:solidFill>
                  <a:srgbClr val="ffcc00"/>
                </a:solidFill>
                <a:latin typeface="Verdana"/>
              </a:rPr>
              <a:t>Información Web</a:t>
            </a:r>
            <a:br>
              <a:rPr sz="6600"/>
            </a:b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18 al 22 de agosto, 2002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89" name="Object 3"/>
          <p:cNvGraphicFramePr/>
          <p:nvPr/>
        </p:nvGraphicFramePr>
        <p:xfrm>
          <a:off x="1981080" y="533520"/>
          <a:ext cx="5056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5056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C735-8ADD-4710-B26B-B9B3CC2D63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Verdana"/>
              </a:rPr>
              <a:t>Motores Recomendad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Googl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google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see más de 2 billones de sitios en su base de da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plazó a AltaVi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 un buscador p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tiliza un sistema de ranking basado en número de enlaces a un sit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CD55-5432-4D04-9E4D-E1B49872A6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Verdana"/>
              </a:rPr>
              <a:t>Motores Recomendad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Google</a:t>
            </a: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google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see más de 2 billones de sitios en su base de da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plazó a AltaVi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 un buscador p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tiliza un sistema de ranking basado en número de enlaces a un sit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2D8D-2561-4178-8C2D-E83F8AD918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Verdana"/>
              </a:rPr>
              <a:t>Motores Recomendad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533520" y="1219320"/>
            <a:ext cx="83055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eoma</a:t>
            </a: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ww.teoma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ueva alternativa que se perfila como competencia de Goo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Alltheweb</a:t>
            </a: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www.alltheweb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Categoriza las búsquedas por tipo de forma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33"/>
              </a:buClr>
              <a:buSzPct val="5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Recursos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33"/>
              </a:buClr>
              <a:buSzPct val="5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F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33"/>
              </a:buClr>
              <a:buSzPct val="5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MP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67E8-101D-4ACB-A626-EF6268F820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Verdana"/>
              </a:rPr>
              <a:t>Metabuscado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ultan información sobre un tema en varios buscadores o directorios temáticos al mismo ti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 son dueños de bases de da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túan como intermediarios: envían la consulta, recopilan las respuestas de los diferentes buscadors y entregan un informe con los resultados de los distintos recurs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88FE-544F-4E1C-9E2F-2C8FC23AF3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Verdana"/>
              </a:rPr>
              <a:t>Metabuscado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Caracteris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horro de ti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vita buscar información en cada buscador o directorio temát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 una sola consulta el usuario recibe la información de todos los resul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tregan una visión general de los tipos de documentos que existen con los términos consult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F7F8-7140-46AC-B863-7025A2F101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-228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Verdana"/>
              </a:rPr>
              <a:t>Metabuscado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990720"/>
            <a:ext cx="716292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Cuándo usar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ando se busca sobre un tema poco conoci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ando se puede usar un enunciado de búsqueda simp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ando no se obtienen resultados satisfactorios usando un directorio temático o un motor de búsque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ra recuperar tantos documentos como sea posible con un sólo enunci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4C97-7BC3-4EAF-B55C-1BF5502D34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Verdana"/>
              </a:rPr>
              <a:t>Metabuscadores</a:t>
            </a:r>
            <a:br>
              <a:rPr sz="4000"/>
            </a:br>
            <a:r>
              <a:rPr b="0" lang="en-US" sz="4000" spc="-1" strike="noStrike">
                <a:solidFill>
                  <a:srgbClr val="ff9933"/>
                </a:solidFill>
                <a:latin typeface="Verdana"/>
              </a:rPr>
              <a:t>Recomendad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xquick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www.ixquick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Copernic </a:t>
            </a:r>
            <a:r>
              <a:rPr b="0" lang="en-US" sz="2000" spc="-1" strike="noStrike">
                <a:solidFill>
                  <a:srgbClr val="ff0033"/>
                </a:solidFill>
                <a:latin typeface="Verdana"/>
              </a:rPr>
              <a:t>www.copernic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Metacrawler </a:t>
            </a:r>
            <a:r>
              <a:rPr b="0" lang="en-US" sz="2000" spc="-1" strike="noStrike">
                <a:solidFill>
                  <a:srgbClr val="ff0033"/>
                </a:solidFill>
                <a:latin typeface="Verdana"/>
              </a:rPr>
              <a:t>www.metacrawler.c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40D1-76AD-4726-834D-280ACDB9F4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Verdana"/>
              </a:rPr>
              <a:t>Consejos para buscar mejor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Para exploración indefinida, búsqueda por tem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a Directorios Temáticos (Yahoo, lii.or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Para búsqueda genérica sobre un tem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a Metabuscador (Ixquick, Copern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Para búsqueda concreta de un tema específi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a Motor de Búsqueda (Google, Teoma, Alltheweb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67BD-36C8-40CC-BF6A-DA728B1D68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Verdana"/>
              </a:rPr>
              <a:t>Consejos para buscar mejor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2" marL="1108440" indent="-221400"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a comillas para unir palabras en una fras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sta del So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pecifica las palabras que deben aparecer en los resultados anteponiendo el signo  “ + “ en cada palab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héroes + silen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pecifica las palabras que no deben aparecer en los resultados anteponiendo el signo “ - “ a la palab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uación - ac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sa Truncación (comodín) “*” representa las letras desconocidas de una palab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ibrar* (ies - y - ian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3EF5-9F76-4DB6-85C5-B946E33C04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457200" y="1066680"/>
            <a:ext cx="8326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tablecer qué se quiere obtener como resultado de búsque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finir en pocas palabras lo que se quiere buscar, por 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Quiero buscar información acerca de estadísticas de bibliotecas y construcción de indicad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dentificar palabras cla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Quiero buscar información acerca de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informes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bre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estadística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de </a:t>
            </a: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bibliotecas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 construcción de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indic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838080" y="3049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Verdana"/>
              </a:rPr>
              <a:t>Consejos para buscar mej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B92F-4D90-44DC-B361-AF789545E1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Directorios Temático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s directorios temáticos son una guía jerárquica de temas o áreas que abarca desde los má general a los más particul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grupa las web que pertenecen a un área, bajo categorías predefinidas y jerárquicas para facilitar las búsquedas a los usuario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D6EE-3439-42B1-AE2D-9F032A8F75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ropiados para búsquedas temáticas gener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aborados por especialist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jor punto de partida para comenzar una búsqueda general sobre un te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ácil de revis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gieren páginas de cal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Útiles cuando no se está seguro sobre qué recurso us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Directorios Temático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C056-038D-408C-B876-BB353440CC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Verdana"/>
              </a:rPr>
              <a:t>Directorios Recomendad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lvl="2" marL="109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Yahoo</a:t>
            </a: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f0033"/>
                </a:solidFill>
                <a:uFillTx/>
                <a:latin typeface="Verdana"/>
                <a:hlinkClick r:id="rId1"/>
              </a:rPr>
              <a:t>http://www.yahoo.com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0033"/>
                </a:solidFill>
                <a:uFillTx/>
                <a:latin typeface="Verdana"/>
                <a:hlinkClick r:id="rId2"/>
              </a:rPr>
              <a:t>P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Verdana"/>
              </a:rPr>
              <a:t>osee más de 20.000 categorías temát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ionero en la búsqueda de inform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83C0-4988-487B-AC0E-81A6C2BEC7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Verdana"/>
              </a:rPr>
              <a:t>Directorios Recomendad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Librarian’s Index to the Interne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lii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see más de 10.000 recursos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tios seleccionados y evaluados por bibliotecar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an número de categorías y subcategorí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ma parte del indice de Berkeley SunS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FE12-2B1C-410D-ADE8-9804994698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motores de búsqueda emplean programas  llamados </a:t>
            </a:r>
            <a:r>
              <a:rPr b="0" lang="es-ES" sz="2800" spc="-1" strike="noStrike">
                <a:solidFill>
                  <a:srgbClr val="ff0033"/>
                </a:solidFill>
                <a:latin typeface="Verdana"/>
              </a:rPr>
              <a:t>robots o araña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que saltan de una página a otra de la Web recogiendo páginas y almacenando toda la información en una gigantesca base de datos. Esta base de datos contiene, entre otros datos, el título de la página, una descripción, palabras clave y los enla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990720" y="38088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Verdana"/>
              </a:rPr>
              <a:t>Motores de Búsqued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A7BE-0D22-4EB1-8E1B-E3E6E4F39F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Verdana"/>
              </a:rPr>
              <a:t>Motores de Búsqued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scan en grandes bases de da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cuperan sitios provenientes de grupos de discusión, listas de interés, páginas web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frecen diferentes alternativas y estrategias de búsque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miten obtener resultados orden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cupera gran cantidad de resul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2E58-606D-4834-972B-67F6021706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Compon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BOTS (programas que completan los índic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Buscan en servidores d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Grupos de discu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Listas de inter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etc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ndice o base de datos URL con información 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ítulo del archivo HTML o primeros párraf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Palabras de 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Hiperenla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escriptores (ocacionalmen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066680" y="0"/>
            <a:ext cx="716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Verdana"/>
              </a:rPr>
              <a:t>Motores de Búsqued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8769-E100-4EAC-A6A2-FB9938E654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Verdana"/>
              </a:rPr>
              <a:t>Motores de Búsqued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Algunos criterios de sele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bertura de las bases de datos (cantidad de recursos, tipo de recurs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Área del documento que consulta (títulos, encabezamient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ciones de búsqueda que ofrece (booleana, truncación, idioma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8:04Z</dcterms:created>
  <dc:creator>DIC</dc:creator>
  <dc:description/>
  <dc:language>en-US</dc:language>
  <cp:lastModifiedBy>Facultad de Derecho</cp:lastModifiedBy>
  <cp:lastPrinted>1999-06-22T12:48:37Z</cp:lastPrinted>
  <dcterms:modified xsi:type="dcterms:W3CDTF">2009-03-24T13:33:18Z</dcterms:modified>
  <cp:revision>63</cp:revision>
  <dc:subject/>
  <dc:title>Bases de Datos Comerciales</dc:title>
</cp:coreProperties>
</file>