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1203-8341-41B4-BFEE-B9AC8469F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0308-A34D-4888-A292-FEF5AE24A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BD27-B7E5-4876-9D87-931BB7AB1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7777-F210-48F1-A462-B64C690D9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082F1-7AF0-41E7-B606-76920B8D5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9BDA1-8DAD-4596-80F8-8B30FF2D9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4C793-0897-4842-BA83-802959D38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2E6B1-FC86-48AF-8E0C-A985E1340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6ED74-842F-4E70-97F2-AF2BB4086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521E6-001F-4350-A80D-55F9A1A14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607E1-BF42-4300-8259-B2BC1AF49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89DF-F383-4ADF-A14F-BF33BBE41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B42C4-AB4F-469D-8336-812DD6B2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EB20B-2F91-41DE-96CA-CCDB0F0B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E5226-F689-4C66-8E13-2DA065CFF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5EC57-C231-49EA-BFEF-6DEB544CF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B3CCA-BEB4-4E89-87DB-1BE8BE90F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4E83-339A-4FCC-BAF0-9B5501C18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E414-BCA1-4198-BC2E-E0CBC6E5D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E64E-7B48-41E6-B543-A22E30FF7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884F-1B9F-4CFB-ABC6-1D7C94A61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5A28-46F8-4BAC-BCCB-0CFCCE6B2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0DCA-4BF5-4930-BD44-95367E03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2D9B-12C7-461A-8E36-C2ABBDE47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3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istema de Servicios de Información y Bibliotecas, SISIB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C8912-2CA2-4043-9A77-7F2FCDC2ED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4"/>
          <p:cNvGrpSpPr/>
          <p:nvPr/>
        </p:nvGrpSpPr>
        <p:grpSpPr>
          <a:xfrm>
            <a:off x="-1035000" y="1521000"/>
            <a:ext cx="10179000" cy="5337000"/>
            <a:chOff x="-1035000" y="1521000"/>
            <a:chExt cx="10179000" cy="5337000"/>
          </a:xfrm>
        </p:grpSpPr>
        <p:sp>
          <p:nvSpPr>
            <p:cNvPr id="45" name="Freeform 2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3"/>
            <p:cNvSpPr/>
            <p:nvPr/>
          </p:nvSpPr>
          <p:spPr>
            <a:xfrm>
              <a:off x="-1035000" y="1521000"/>
              <a:ext cx="6726240" cy="53370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istema de Servicios de Información y Bibliotecas, SISIB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86746-2F45-4D09-9A67-B0BE5EE6CD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ahoo.com/" TargetMode="External"/><Relationship Id="rId2" Type="http://schemas.openxmlformats.org/officeDocument/2006/relationships/hyperlink" Target="http://www.yahoo.com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Verdana"/>
              </a:rPr>
              <a:t>Acceso a la</a:t>
            </a:r>
            <a:r>
              <a:rPr b="0" lang="en-US" sz="5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5400" spc="-1" strike="noStrike">
                <a:solidFill>
                  <a:srgbClr val="ffcc00"/>
                </a:solidFill>
                <a:latin typeface="Verdana"/>
              </a:rPr>
              <a:t>Información Web</a:t>
            </a:r>
            <a:br>
              <a:rPr sz="6600"/>
            </a:b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 18 al 22 de agosto, 2002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89" name="Object 3"/>
          <p:cNvGraphicFramePr/>
          <p:nvPr/>
        </p:nvGraphicFramePr>
        <p:xfrm>
          <a:off x="1981080" y="533520"/>
          <a:ext cx="505620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533520"/>
                    <a:ext cx="5056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istema de Servicios de Información y Bibliotecas, SISIB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66F8E-ED45-4F87-BA1E-B5D090787D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Verdana"/>
              </a:rPr>
              <a:t>Motores Recomendad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Verdana"/>
              </a:rPr>
              <a:t>Googl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ww.google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osee más de 2 billones de sitios en su base de da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splazó a AltaVis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s un buscador pu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tiliza un sistema de ranking basado en número de enlaces a un siti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istema de Servicios de Información y Bibliotecas, SISIB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BC3B0-BBC9-4C07-8AD6-2A479DFB0A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Verdana"/>
              </a:rPr>
              <a:t>Motores Recomendad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Google</a:t>
            </a:r>
            <a:r>
              <a:rPr b="0" lang="en-US" sz="3200" spc="-1" strike="noStrike">
                <a:solidFill>
                  <a:srgbClr val="ff9933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ww.google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osee más de 2 billones de sitios en su base de da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splazó a AltaVis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s un buscador pu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tiliza un sistema de ranking basado en número de enlaces a un siti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istema de Servicios de Información y Bibliotecas, SISIB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210EF-3654-4B05-AD32-F711F1E935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Verdana"/>
              </a:rPr>
              <a:t>Motores Recomendad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696080" cy="533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533520" y="1219320"/>
            <a:ext cx="830556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Teoma</a:t>
            </a:r>
            <a:r>
              <a:rPr b="0" lang="en-US" sz="3200" spc="-1" strike="noStrike">
                <a:solidFill>
                  <a:srgbClr val="ff9933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ww.teoma.co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ueva alternativa que se perfila como competencia de Goog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Alltheweb</a:t>
            </a:r>
            <a:r>
              <a:rPr b="0" lang="en-US" sz="3200" spc="-1" strike="noStrike">
                <a:solidFill>
                  <a:srgbClr val="ff9933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9933"/>
                </a:solidFill>
                <a:latin typeface="Verdana"/>
              </a:rPr>
              <a:t>www.alltheweb.co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Categoriza las búsquedas por tipo de format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9933"/>
              </a:buClr>
              <a:buSzPct val="5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Recursos We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9933"/>
              </a:buClr>
              <a:buSzPct val="5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FT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9933"/>
              </a:buClr>
              <a:buSzPct val="5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MP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istema de Servicios de Información y Bibliotecas, SISIB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97F08-A733-4A02-9138-66DEC719D8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Verdana"/>
              </a:rPr>
              <a:t>Metabuscador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sultan información sobre un tema en varios buscadores o directorios temáticos al mismo tiemp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o son dueños de bases de da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ctúan como intermediarios: envían la consulta, recopilan las respuestas de los diferentes buscadors y entregan un informe con los resultados de los distintos recurs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istema de Servicios de Información y Bibliotecas, SISIB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875F3-0CD1-452C-856E-ACAF65520E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Verdana"/>
              </a:rPr>
              <a:t>Metabuscador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1760" y="129528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Caracteristic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horro de tiemp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vita buscar información en cada buscador o directorio temátic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 una sola consulta el usuario recibe la información de todos los result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ntregan una visión general de los tipos de documentos que existen con los términos consultad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istema de Servicios de Información y Bibliotecas, SISIB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A4FB6-05E5-4681-97FE-B1D987B7CE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-2289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Verdana"/>
              </a:rPr>
              <a:t>Metabuscador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990720"/>
            <a:ext cx="7162920" cy="533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Cuándo usarl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uando se busca sobre un tema poco conocid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uando se puede usar un enunciado de búsqueda simp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uando no se obtienen resultados satisfactorios usando un directorio temático o un motor de búsqued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ara recuperar tantos documentos como sea posible con un sólo enunciad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istema de Servicios de Información y Bibliotecas, SISIB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F18FD-B0D3-4558-BAEA-6AB196B25B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Verdana"/>
              </a:rPr>
              <a:t>Metabuscadores</a:t>
            </a:r>
            <a:br>
              <a:rPr sz="4000"/>
            </a:br>
            <a:r>
              <a:rPr b="0" lang="en-US" sz="4000" spc="-1" strike="noStrike">
                <a:solidFill>
                  <a:srgbClr val="ff9933"/>
                </a:solidFill>
                <a:latin typeface="Verdana"/>
              </a:rPr>
              <a:t>Recomendado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Ixquick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www.ixquick.co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Copernic </a:t>
            </a:r>
            <a:r>
              <a:rPr b="0" lang="en-US" sz="2000" spc="-1" strike="noStrike">
                <a:solidFill>
                  <a:srgbClr val="ff0033"/>
                </a:solidFill>
                <a:latin typeface="Verdana"/>
              </a:rPr>
              <a:t>www.copernic.co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Metacrawler </a:t>
            </a:r>
            <a:r>
              <a:rPr b="0" lang="en-US" sz="2000" spc="-1" strike="noStrike">
                <a:solidFill>
                  <a:srgbClr val="ff0033"/>
                </a:solidFill>
                <a:latin typeface="Verdana"/>
              </a:rPr>
              <a:t>www.metacrawler.c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istema de Servicios de Información y Bibliotecas, SISIB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35FDF-EE7A-4ACA-A2BC-BCE07CE415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Verdana"/>
              </a:rPr>
              <a:t>Consejos para buscar mejor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Para exploración indefinida, búsqueda por tem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sa Directorios Temáticos (Yahoo, lii.or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Para búsqueda genérica sobre un tem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sa Metabuscador (Ixquick, Coperni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Para búsqueda concreta de un tema específic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sa Motor de Búsqueda (Google, Teoma, Alltheweb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istema de Servicios de Información y Bibliotecas, SISIB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F028F-F3A8-4270-BDE1-23FFAA8643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Verdana"/>
              </a:rPr>
              <a:t>Consejos para buscar mejor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lvl="2" marL="1108440" indent="-221400">
              <a:spcBef>
                <a:spcPts val="601"/>
              </a:spcBef>
              <a:buClr>
                <a:srgbClr val="ff0033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a comillas para unir palabras en una frase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sta del Sol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ff0033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specifica las palabras que deben aparecer en los resultados anteponiendo el signo  “ + “ en cada palabr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 héroes + silen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ff0033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specifica las palabras que no deben aparecer en los resultados anteponiendo el signo “ - “ a la palabr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uación - act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ff0033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Usa Truncación (comodín) “*” representa las letras desconocidas de una palabr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ibrar* (ies - y - ian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istema de Servicios de Información y Bibliotecas, SISIB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33A69-9A03-47D6-AEC8-2697F99362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457200" y="1066680"/>
            <a:ext cx="8326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stablecer qué se quiere obtener como resultado de búsque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efinir en pocas palabras lo que se quiere buscar, por ejempl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Quiero buscar información acerca de estadísticas de bibliotecas y construcción de indicador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dentificar palabras clav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Quiero buscar información acerca de 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informes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obre 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estadísticas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de </a:t>
            </a:r>
            <a:r>
              <a:rPr b="1" lang="en-US" sz="2400" spc="-1" strike="noStrike">
                <a:solidFill>
                  <a:srgbClr val="ffcc00"/>
                </a:solidFill>
                <a:latin typeface="Verdana"/>
              </a:rPr>
              <a:t>bibliotecas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y construcción de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indicad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838080" y="30492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Verdana"/>
              </a:rPr>
              <a:t>Consejos para buscar mej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istema de Servicios de Información y Bibliotecas, SISIB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A372A-9855-4C5E-B232-09786429E8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Times New Roman"/>
              </a:rPr>
              <a:t>Directorios Temáticos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os directorios temáticos son una guía jerárquica de temas o áreas que abarca desde los má general a los más particula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grupa las web que pertenecen a un área, bajo categorías predefinidas y jerárquicas para facilitar las búsquedas a los usuario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istema de Servicios de Información y Bibliotecas, SISIB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A3011-5194-4B76-AE33-B2D6EDC7FB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09480" y="8377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aracterístic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ropiados para búsquedas temáticas general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aborados por especialist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jor punto de partida para comenzar una búsqueda general sobre un tem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ácil de revis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gieren páginas de calid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Útiles cuando no se está seguro sobre qué recurso us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Times New Roman"/>
              </a:rPr>
              <a:t>Directorios Temáticos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istema de Servicios de Información y Bibliotecas, SISIB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27AE8-536F-4DF2-B83C-EB7D709B3F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Verdana"/>
              </a:rPr>
              <a:t>Directorios Recomendado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904760"/>
            <a:ext cx="84582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lvl="2" marL="1097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Yahoo</a:t>
            </a:r>
            <a:r>
              <a:rPr b="0" lang="en-US" sz="3200" spc="-1" strike="noStrike">
                <a:solidFill>
                  <a:srgbClr val="ff9933"/>
                </a:solidFill>
                <a:latin typeface="Verdana"/>
              </a:rPr>
              <a:t> </a:t>
            </a:r>
            <a:r>
              <a:rPr b="0" lang="en-US" sz="3200" spc="-1" strike="noStrike" u="sng">
                <a:solidFill>
                  <a:srgbClr val="ff0033"/>
                </a:solidFill>
                <a:uFillTx/>
                <a:latin typeface="Verdana"/>
                <a:hlinkClick r:id="rId1"/>
              </a:rPr>
              <a:t>http://www.yahoo.com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ff0033"/>
                </a:solidFill>
                <a:uFillTx/>
                <a:latin typeface="Verdana"/>
                <a:hlinkClick r:id="rId2"/>
              </a:rPr>
              <a:t>P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Verdana"/>
              </a:rPr>
              <a:t>osee más de 20.000 categorías temátic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Pionero en la búsqueda de inform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istema de Servicios de Información y Bibliotecas, SISIB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08081-FC7C-434E-A35C-3B618E0F25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Verdana"/>
              </a:rPr>
              <a:t>Directorios Recomendad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Librarian’s Index to the Interne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lii.or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osee más de 10.000 recursos we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tios seleccionados y evaluados por bibliotecari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ran número de categorías y subcategorí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rma parte del indice de Berkeley SunSI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istema de Servicios de Información y Bibliotecas, SISIB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C1419-5DB1-4389-94A4-6F9584C680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9144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Los motores de búsqueda emplean programas  llamados </a:t>
            </a:r>
            <a:r>
              <a:rPr b="0" lang="es-ES" sz="2800" spc="-1" strike="noStrike">
                <a:solidFill>
                  <a:srgbClr val="ff0033"/>
                </a:solidFill>
                <a:latin typeface="Verdana"/>
              </a:rPr>
              <a:t>robots o arañas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, que saltan de una página a otra de la Web recogiendo páginas y almacenando toda la información en una gigantesca base de datos. Esta base de datos contiene, entre otros datos, el título de la página, una descripción, palabras clave y los enlac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990720" y="380880"/>
            <a:ext cx="7162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Verdana"/>
              </a:rPr>
              <a:t>Motores de Búsqued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istema de Servicios de Información y Bibliotecas, SISIB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F9B61-56ED-41FA-BC50-1E976BBAAA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Verdana"/>
              </a:rPr>
              <a:t>Motores de Búsqueda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Característic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uscan en grandes bases de da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cuperan sitios provenientes de grupos de discusión, listas de interés, páginas web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frecen diferentes alternativas y estrategias de búsque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ermiten obtener resultados orden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cupera gran cantidad de result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istema de Servicios de Información y Bibliotecas, SISIB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372AB-38AB-4A18-B7CB-A959F642DC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0492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Componen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BOTS (programas que completan los índic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Buscan en servidores de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WW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Grupos de discus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Listas de inter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etc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Indice o base de datos URL con información d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Título del archivo HTML o primeros párraf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Palabras de 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Hiperenla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Descriptores (ocacionalment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1066680" y="0"/>
            <a:ext cx="7162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Verdana"/>
              </a:rPr>
              <a:t>Motores de Búsqued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istema de Servicios de Información y Bibliotecas, SISIB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AC009-9964-424F-8BD6-11BAC5E0C5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Verdana"/>
              </a:rPr>
              <a:t>Motores de Búsqued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Algunos criterios de selec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bertura de las bases de datos (cantidad de recursos, tipo de recurso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Área del documento que consulta (títulos, encabezamiento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pciones de búsqueda que ofrece (booleana, truncación, idioma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28:04Z</dcterms:created>
  <dc:creator>DIC</dc:creator>
  <dc:description/>
  <dc:language>en-US</dc:language>
  <cp:lastModifiedBy>Facultad de Derecho</cp:lastModifiedBy>
  <cp:lastPrinted>1999-06-22T12:48:37Z</cp:lastPrinted>
  <dcterms:modified xsi:type="dcterms:W3CDTF">2009-03-24T13:33:18Z</dcterms:modified>
  <cp:revision>63</cp:revision>
  <dc:subject/>
  <dc:title>Bases de Datos Comerciales</dc:title>
</cp:coreProperties>
</file>