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DF10-4A07-40B9-B5D1-9951C34EF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C64D-4642-47BF-A580-C9F81027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31CD-1E0C-44D9-B37F-242D0542A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76F1-6644-478B-B8AA-1ACE1196B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742D-6D2B-494C-8754-E94BF4A40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1B8F-74A8-4F94-A6CA-97E3B159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5728-120A-46BA-8D4A-FCD4D2FB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6FC3-4DFC-4DCD-B289-50524691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8BB0-8A52-4930-8F95-5C76B1C8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3290-A9E9-4F90-9476-2747AE2D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8799-9121-4003-BC8E-C8E37B92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8E47-D98E-42CC-BBE3-1948DD7D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1C89-D2BC-454A-B51F-79ACF08D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94D5-9B39-49DB-AA2E-6E24F85B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3224-D2DF-42F7-BC4D-7D49D335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63FE-2B9C-4B59-9804-308E3165A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8580-FD2F-4A70-9E76-30229E3C8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8AAE-3EBE-4001-B1F7-A99B0D08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9148-7026-43B8-A68A-270B3F84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2006-C697-47D4-B992-F3EDFCA5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6B68-B40A-446A-A9EB-4BC0A997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B9AC-ECCD-4B9B-907E-E929EA26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DE0E-E531-443D-BE3B-49EEDFB1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8EFD-C30F-4B94-BBD5-81B7B1CE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7149-8249-441B-B91D-CF0365B7A51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E0C6-81B2-4BCC-B8E3-12F5C59A98D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programascomputo.com.mx/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ALLER DE MEMORIA</a:t>
            </a:r>
            <a:br>
              <a:rPr sz="4400"/>
            </a:b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DERECHO INTERNACION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FESOR: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LBERTO RIOSEC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GILDA CIC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agramación del Tex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icio de cada párrafo con una sangría de 5 espac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 espacio entre párraf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o sólo por un lado de la pág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tilización de reglas gramaticales para separación de sílab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o de mayúscula en los títulos de las página prelimina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o de minúscula en los subtítulos, con excepción de la primera letra de la primera palab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y que distingui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IBRO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Si se va a citar un libro deberá indic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nombre del autor con mayúscula, partiendo por los apelli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ítul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de la edición (excepto si es la primer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ginación (si se trata de obras con más de un volumen deberá indicar el número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1 auto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PIEGEL, Murray R. Teoría y problemas de probabilidad y estadística. Madrid, McGraw- Hill, 1988.327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2 autor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KOOG, Douglas A., WEST, Donald M. Química Analítica. 4 ed. Madrid, MacGraw- Hill, 1989.725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PÍTULO DE LIBR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utor ( es)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ítulo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, (subrayado y seguido de dos puntos), autor (es) del libro con mayúscul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ítulo del libr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ición si la hubier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í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ginación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KATZ B., R. Institucional y marco legal vigente. En: Sandoval L.H.,PRENDEZ B, (Eds.). Contaminación atmosférica en Santiago: estado actual y soluciones. Santiago, Universidad de Chile y Comisión de Descontaminación de la Región Metropolitana, 1993. pp. 263-286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I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or de la tesis, memoria y/o semin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ítulo de la tesis, memoria y/o semin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ción al grado que se op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tución patrocin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in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DAROS Cárcamo, Rodrigo Eduardo. Sismicidad y tectónica del extremo sur de Chile ( Magíster en Ciencias con mención en Geología). Santiago de Chile, Universidad de Chile, Facultad de Ciencias Físicas y matemáticas, 2003. 82 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ÍCULO DE REVIS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r (es) del 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ítulo del 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ítulo de la revista (subrayado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lumen ( cuando la revista lo incluy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úmero entre parénte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inación precedida de dos pun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cha de publicación: indicar mes y añ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YES Morales, Nira: Mito y realidades del modelo chileno.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Le Monde Diplomatiqu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18(5):,200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GRESO, CONFERENCIA O REUN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mbre completo del congreso, conferencia, seminario o reun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de la conferencia, año y lugar del evento, entre paréntes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ítul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y país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 o institución (es) que lo patrocin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total de páginas si las hubier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PRESENTACIÓN DE LA MEMORIA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SPECTOS FORMA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MINARIO Regional de política fiscal. (11º, Brasilia, Brasil, 1999). La política fiscal en América Latina: una selección de temas y experiencias de fines y comienzos de siglo. Santiago, Chile, Naciones Unidas, CEPAL, 1999. 451 P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úmero de la le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mbre de la ley o del decreto, si lo tie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ítulo de la publicación en la que aparece oficialm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cha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inación si la hubie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y 18.403 CHILE. Drogas y estupefacientes. Manuel de antecedentes normativos para servicios de salud y colaboradores del SNSS. Ministerio de Salud, Santiago de Chile, agosto de 1985.15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TERIAL CARTOGRÁFIC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MAPAS, CARTAS METEREOLÓGICAS, FOTOGRAFÍAS AÉRE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  Tipo del material y autor, personal o institucio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ción (excepto la primer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cala, proyeccione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tidad de mapas, dimensiones, color ( si tiene esa características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ESSERTIFICATION map of the world. FAO 197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XTOS ELECTRÓNICOS, BASES DE DATOS Y PROGRAM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Au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) Títul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) Soporte en corche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) Lugar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) Edi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) Dirección electrónica entre ángul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) Fecha de consulta entre corche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CICLOPEDIA sobre virus informáticos en pc´s [en línea] </a:t>
            </a:r>
            <a:r>
              <a:rPr b="0" lang="es-E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programascomputo.com.m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[consulta: 06 de agosto de 1999]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PECTOS FUNDAMENTALES DEL CUERPO DE LA MEMOR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TRODUCCIÓN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la presentación clara, breve y precisa del contenido de la memoria ( no debe tener conclusiones ni resultado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 elaborar la introducción debe tener en consideración los siguientes aspect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s razones que motivaron la elección del te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s fundamentos que lo sustent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s objetivos del trabaj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hipótesis present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metodología utiliz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uede indicar someramente qué abordará en cada capít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artes de una Memori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DICATO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RADECIMI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BLA DE CONTENI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ERPO DE LA OB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EX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BLIOGRAF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UERPO DE LA OBRA: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ella se describe detalladamente el problema de la investigación, el marco teórico, y la discusión de los result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cuerpo de la obra está constituido p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pítu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ubcapítu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artes o secc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CLUSIONES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a parte importante de la tesis donde el autor emite juicios con relación a su hipótesis, la refuta o la comprueba en base a los resultados obteni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 conclusiones deben tener una redacción clara, concreta y directa, no un resumen de la investig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 momento de redactar sus conclusiones usted deberá tener presente los siguientes aspect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ados obten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robación/refutación de la hipóte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lusión gener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ortación  al campo o disciplina al que pertenece su investig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IBLIOGRAFÍ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pectos a consider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 autores se escriben con mayúscul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 autores se ordenan alfabétic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ando hay más de una referencia bibliográfica de un mismo autor, se ordenan cronológic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 hay dos o más referencias bibliográficas de un mismo autor y de un mismo año, se ordenan alfabéticamente por título y se diferencian con las letras a), b), c)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[ejemplo: 1997 a; 1997 b]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presentación de la memoria en papel está sujeta al cumplimiento de las siguientes formalidad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 presenta en papel blanco liso, tamaño carta 28 x21,5 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 márgenes de las páginas s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gen izquierdo y superior 4 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gen derecho e inferior 2.5 cm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 texto de la memoria se hará a espacio de 1.5 interlínea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epcionalmente se puede usar espacio simple en los siguientes cas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Notas y citas textu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Párrafos de list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) Bibliografí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) Índices de ilustraciones y tabl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) Anex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cuanto a la letra, las fuente que puede utilizar s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Arial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Times New Ro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tamaño de la letra, en cualquier caso, deberá ser Nº 1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odrá utilizar tamaño reducido de letra sólo en los anexos, ilustraciones y tabl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epcionalmente podrá utilizar letra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cursiva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 los siguientes cas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labras en idioma extranjer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a numerar ilustraciones y tabl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 cuanto a la paginación, podrá realizarla de dos maner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Números romanos en minúscula para el cuerpo preliminar del trabajo, comenzando por la página de portada de la memor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Números árabes para el tex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 cualquiera de los dos casos, en número se escribe en el ángulo inferior derecho de la página a 1.5 cm. al borde del pape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agramación del Tex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 diagramar el texto deberán seguirse las siguientes regl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 cada capítulo en una nueva pági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 los títulos en la segunda línea a partir del margen superior de la página, centrado, escrito en mayúscula y negri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l texto después de dos espacios bajo el títu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16:35:01Z</dcterms:created>
  <dc:creator>bparada</dc:creator>
  <dc:description/>
  <dc:language>en-US</dc:language>
  <cp:lastModifiedBy>bparada</cp:lastModifiedBy>
  <dcterms:modified xsi:type="dcterms:W3CDTF">2009-03-31T19:23:02Z</dcterms:modified>
  <cp:revision>38</cp:revision>
  <dc:subject/>
  <dc:title>PRESENTACIÓN DE LA TESIS</dc:title>
</cp:coreProperties>
</file>