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76F-4B09-413D-8FB8-74F752AA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06E-3418-46AC-8387-FA54BB6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8A7-48E1-46C7-A694-C68A424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33B-FDB1-4E2C-B71B-722A8AC8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161-2355-40B2-8F15-37285631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2235-C156-400F-890E-EE781336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7FB2-291F-4B7B-800D-97A55016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5DDF-9D84-4589-B14F-345CE27C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9DD3-A98F-45DF-8BAC-F83BCB0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6870-A476-4F6F-9331-8640A8F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080-8FB1-4C5D-B9A2-CDF5487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038-33FA-46C0-BE14-5D490583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BCF-00F5-4642-8768-7299826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D5D-C8A5-4FBB-BB22-B00B111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187-8559-4486-9FC8-9D0BF224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CC08-7150-4B77-9181-8AB16772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B9C-9DD5-4C0E-8996-90CE511E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9FC-AD24-4B9B-930E-1E18BC3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28D-A63C-49A6-B69F-ED7D5E4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CDB-1A41-4A56-9BC5-395C738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008-49E9-45BA-AEA6-45E3DF9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C5C-4FCD-4B3E-9611-85A3C9C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A8D-9C86-49D0-A4BE-E321B5EF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972-A0B3-4C6B-B2F3-A840433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F860-3B43-4507-85E3-05D171E13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5F2-40C7-4118-A76B-61E700E4A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POTESIS EN UN EST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QUISITOS DE L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se refiere a variables y unidades de análi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 referirse a un solo ámbito de la 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 las hipótesis deben ser claros y preci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ben contar con realidades o referentes empíricos y observ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el planteamiento se debe prever la técnica para probar la hipó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proceso de análisis estadístico Inferencial de los datos recolectados deben plantears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Hipótesis Estadística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s se postulan cuando se trata de decidir si existen diferencias o no, para variables en dos muestras, o si los datos de la muestra son comparables a los datos del un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. HIPOTESIS NUL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 hipótesis de no diferencia; Se refiere al planteamiento del supuesto de que el valor observado en una población, o en una muestra o una variable, no difiere del encontrado en una población, muestra o variable de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establece con el propósito expreso de ser rechazada. Cuando se efectúan pruebas estadísticas, suele asumirse 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in que se exprese de manera explíc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sin circular del cordón umbilical tienen las mismas posibilidades de desarrollar una conducta hiperactiva e irritable, que los que si la tie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o lo que se espera es que exista diferencia en el resultado,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chazo de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 concluirá que los datos disponibles no son compatibles con la hipótesis n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no se rechaza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se dirá que los datos no proporcionan evidencia suficiente que provoque el rech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OTESIS ALTER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ntea  que los valores observados en el Universo, en la muestra o en una variable, no son equivalentes a los encontrados en otro Universo, muestra o variable de interés. Lo que significa qu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iste una verdadera diferencia en los val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valor encontrado puede ser mayor o menor al esp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con circular del cordón umbilica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enen diferen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osibilidades de desarrollar una conducta hiperactiva e irritable, que los que no la tiene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es una suposición o una proposición que establece la existencia de una relación entre dos o más variables expresadas como hechos, fenómenos, factores o entidades, y que debe ser sometida a prueba para ser aceptada como válid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it, López Cano, Rojas Soriano y Ladrón de Guevara entre otros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constituye un puente o enlace entre la teoría y la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bien formulada sirve de directriz a la investigación, y luego de su comprobación, genera nuevos conocimientos que pasan a formar parte del saber hu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construcción de la hipótesis se apoya en un sistema de conocimientos organizados, formando un contexto teórico, comprobado mediante la verificación empírica, para explicar y predecir en lo posible los hechos o fenómenos si se comprueba la relación enunci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s hipótesis están íntimamente relacionadas con el problema, el marco teórico y el tipo de investigación que estos gene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- HIPOTESIS DE ASOCIACIÓN O COVARI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cuando se establece una determinada correspondencia o correlación entre dos o más variables (hipótesis descrip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 modificación en la variable independiente, modifica la variable dependiente en forma directa o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alumnos que estudian durante dos o más horas diarias, tienen mayor rendimiento académico que los que estudian menos h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os estudiantes egresados de escuelas estatales obtienen índices académicos más bajos que los egresados de escuel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05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886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ÓTESIS DE RELACIÓN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el comportamiento o la modificación de una variable independiente influye o produce cambio en la variable depend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ementos lóg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produce cambio en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influye en el comportamiento de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incremento de conocimientos del diabético sobre su enfermedad y tratamient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y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 el mejoramiento de las actividades de autocui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primera notificación sobre el diagnóstico de su enfermed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gustia en el paciente diabé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3. HIPÓTESIS DE RELACIÓN CAU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 las que permiten explicar y predecir los hechos y fenómenos con determinados márgenes de error, y se dan cuando se cumple con las siguientes condi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- El comportamiento o variación de una variable es el “efecto” del comportamiento o variación de otra variable “caus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- La covariación indicada anteriormente, no es producto de factores extraños o aleatorios, por lo que la relación entre variables es real,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- La variable “causa” ocurre antes que la variable “efect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niños que nacen con circular del cordón umbilical desarrollan una conducta hiperactiva e irr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El habito de fumar cigarrillos produce cá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investigación metódica y constante produce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) LAS HIPÓTESIS IN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Se parte de la observación específica de hechos, fenómenos, tendencias o asociaciones. Posteriormente se utiliza ésta observación para dar una explicación tentativa y tempo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) LA HIPÓTESIS DE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Tienen como punto de partida leyes generales o teorías que se aplican a situaciones particulares. Mediante el razonamiento deductivo un investigador puede desarrollar expectativas científicas o hipótesis fundadas en principios teóricos gene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LEMENTOS ESTRUCTURALES DE LA HIPÓTES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)- LA UNIDAD DE ANÁLI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Individuos, familias, grupos, casas, instituc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)- LAS VARIABL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características, propiedades o factores que presenta la unidad de análisis y pueden ser cualitativas o cuantit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)- LOS ELEMENTOS LÓGIC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Que relacionan las unidades de análisis con las variables y a estas entre s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niños que nacen con circular del cordón umbilical desarrollan una conducta hiperactiva e irritabl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unidad de análisis: Los ni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variables: I; circular del cordón, D; conducta hiperactiva e irri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elementos lógicos: desarrollan o no desarrol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RITERIOS PARA LA FORMULACIÓN DE HIPÓTES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447920"/>
            <a:ext cx="17524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36232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empre formular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 afi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276720"/>
            <a:ext cx="3505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lantear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do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191120"/>
            <a:ext cx="41911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osibilitar la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las relaciones expres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s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vo y ex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RITERIOS PARA FORMULAR UN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enunciado se expresa en forma positiva. Ej: esto provoca, produce, genera, etc., distinto a decir esto NO produce, NO gen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relación de variables independientes. I; circular del cordón, con la variables dependiente. D; conducta hiperactiva e irritable. Está debidamente plante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relación de variables planteada en la hipótesis sí puede ser sometida a la prueba de hipótesis: Las relaciones deben ser mensurables o potencialmente verificables. Ej: Un examen médico, clínico y de desarrollo Psicomotriz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La hipótesis debe ser capaz de explicar y predecir los hechos a encontrar en la relación de los hechos. Ej: Los niños con circular del cordón desarrollan una conducta hiperactiva e irri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3:16:32Z</dcterms:created>
  <dc:creator>USO</dc:creator>
  <dc:description/>
  <dc:language>en-US</dc:language>
  <cp:lastModifiedBy>Gilda</cp:lastModifiedBy>
  <dcterms:modified xsi:type="dcterms:W3CDTF">2009-03-19T04:12:01Z</dcterms:modified>
  <cp:revision>42</cp:revision>
  <dc:subject/>
  <dc:title>MARCO TEÓRICO Y CONCEPTUAL ¿Cuál es la base teórica del problema?</dc:title>
</cp:coreProperties>
</file>