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365E7-5B24-4E6E-8AFA-25F9B15A9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75CCD-82CE-4837-92E3-985B0A64A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7D6F8-A78B-4019-9E90-169E6E084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5ED92-449D-445E-9D7B-1F73084DA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02C13-C474-4D89-A6C5-68F495F761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D0D48-AD6D-4578-A62C-C33EF1834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7088B-AC49-488C-818B-0930861F0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0F349-E6B1-471E-8F60-D33569183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D2891-31E1-4986-A93F-A7705D3C8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29DD9-7FFA-4E50-B32F-8C8EACC79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499F5-85DE-4480-99C3-8674EC0E2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64805-6332-487B-AC3F-218EC2EF0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17F35-DAD5-4C83-BADC-0CD7D982A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7A253-9FC5-4ED7-98BA-63AF49F86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90EAA-FC0B-49FA-B132-79C94B298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EF4AA3-2FC5-469D-857C-E6B3EC117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33637-51EF-4D44-935E-62A3D732D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0D893-B2DA-40B7-B0D1-5E1407E44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8E687-5D70-4755-81F0-26CFCF49D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FD75F-81AC-4434-AAB0-335B626BD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5F772-6494-42E7-AFCD-19E6200D3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6AACC-66D4-4D66-BF25-9EC426F2F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86080-C20D-442D-8540-B9C5E3B90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FA253-85AC-481C-A6C3-53FBF6019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49F7-A302-49B3-BFA8-B0195C55160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lick to edit the title text format</a:t>
            </a:r>
            <a:endParaRPr b="0" lang="en-US" sz="5400" spc="-1" strike="noStrike">
              <a:solidFill>
                <a:srgbClr val="00a29e"/>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690C-1D7D-478B-8139-EBC883EFEBD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79cd6b"/>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5498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IADI</a:t>
            </a:r>
            <a:endParaRPr b="0" lang="en-US" sz="5400" spc="-1" strike="noStrike">
              <a:solidFill>
                <a:srgbClr val="00a29e"/>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entro Internacional de Arreglo de Diferencias Relativas a Inversiones</a:t>
            </a:r>
            <a:r>
              <a:rPr b="0" i="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kistán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ahrain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uatemal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guay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elarus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Honduras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lon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enin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d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ino Unido de Gran Bretaña e Irlanda del Norte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oliv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ran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publica Chec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ulgaria (2013)Israel (2010)Republica de Corea (2013)Camerún (2013)Italia (2010)Senegal (2013)Canadá (2013)Japón (2013)Serbia (2010)Chile (2013)Kenia (2010)Singapur (2013)China (2013)Letonia (2013)Sri Lanka (2013)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ulgari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srael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publica de Core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merún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al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negal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nadá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Japón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rb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hile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en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gapur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hin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etoni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ri Lank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Banco Mundial</a:t>
            </a:r>
            <a:r>
              <a:rPr b="0" lang="en-US" sz="4400" spc="-1" strike="noStrike">
                <a:solidFill>
                  <a:srgbClr val="00a29e"/>
                </a:solidFill>
                <a:latin typeface="Arial"/>
              </a:rPr>
              <a:t> </a:t>
            </a:r>
            <a:endParaRPr b="0" lang="en-US" sz="4400" spc="-1" strike="noStrike">
              <a:solidFill>
                <a:srgbClr val="00a29e"/>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Organismo especializado de la UN. Mediante préstamos de bajo interés cumple con su misión principal que es reducir la pobreza en zonas del planeta, pobreza que es resultado muchas veces de crisis sociales o devastaciones naturales .</a:t>
            </a: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á integrado por 185 países miembros y fue creado en 1944 durante las negociaciones previas a la Segunda Guerra Mundial en New Hampshire, las que tuvieron como resultado el nacimiento del Sistema financiero conocido como “Bretton Woods”. El sistema antes mencionado se complementa con dos instituciones: Banco Internacional para la Reconstrucción y el Fondo Monetario Internacional</a:t>
            </a: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á presente en 109 paíse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Banco Mundial</a:t>
            </a:r>
            <a:endParaRPr b="0" lang="en-US" sz="4400" spc="-1" strike="noStrike">
              <a:solidFill>
                <a:srgbClr val="00a29e"/>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 estructura es:</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IRF </a:t>
            </a:r>
            <a:r>
              <a:rPr b="1" i="1" lang="en-US" sz="1600" spc="-1" strike="noStrike">
                <a:solidFill>
                  <a:srgbClr val="000000"/>
                </a:solidFill>
                <a:latin typeface="Tahoma"/>
              </a:rPr>
              <a:t>(Banco Internacional de Reconstrucción y Fomento)</a:t>
            </a:r>
            <a:r>
              <a:rPr b="0" lang="en-US" sz="1600" spc="-1" strike="noStrike">
                <a:solidFill>
                  <a:srgbClr val="000000"/>
                </a:solidFill>
                <a:latin typeface="Tahoma"/>
              </a:rPr>
              <a:t> su objetivo es la reducción de la pobreza en los países en vías de desarrollo (con capacidad crediticia), se centra en asesorías financieras en lo relativo a políticas públicas. </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IF </a:t>
            </a:r>
            <a:r>
              <a:rPr b="1" i="1" lang="en-US" sz="1600" spc="-1" strike="noStrike">
                <a:solidFill>
                  <a:srgbClr val="000000"/>
                </a:solidFill>
                <a:latin typeface="Tahoma"/>
              </a:rPr>
              <a:t>(Asociación Internacional de Fomento)</a:t>
            </a:r>
            <a:r>
              <a:rPr b="0" lang="en-US" sz="1600" spc="-1" strike="noStrike">
                <a:solidFill>
                  <a:srgbClr val="000000"/>
                </a:solidFill>
                <a:latin typeface="Tahoma"/>
              </a:rPr>
              <a:t> Sus miembros aportan al Banco Mundial las sumas necesarias para que éste proporcione créditos con interés reducido a 78 países considerados extremadamente pobres, y a países en vías de desarrollo para financiar políticas públicas relacionadas a la construcción de servicios básicos.</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FI </a:t>
            </a:r>
            <a:r>
              <a:rPr b="1" i="1" lang="en-US" sz="1600" spc="-1" strike="noStrike">
                <a:solidFill>
                  <a:srgbClr val="000000"/>
                </a:solidFill>
                <a:latin typeface="Tahoma"/>
              </a:rPr>
              <a:t>(</a:t>
            </a:r>
            <a:r>
              <a:rPr b="1" i="1" lang="en-US" sz="1600" spc="-1" strike="noStrike">
                <a:solidFill>
                  <a:srgbClr val="000000"/>
                </a:solidFill>
                <a:latin typeface="Tahoma"/>
              </a:rPr>
              <a:t>Corporación Financiera Internacional</a:t>
            </a:r>
            <a:r>
              <a:rPr b="1" i="1" lang="en-US" sz="1600" spc="-1" strike="noStrike">
                <a:solidFill>
                  <a:srgbClr val="000000"/>
                </a:solidFill>
                <a:latin typeface="Tahoma"/>
              </a:rPr>
              <a:t>)</a:t>
            </a:r>
            <a:r>
              <a:rPr b="0" lang="en-US" sz="1600" spc="-1" strike="noStrike">
                <a:solidFill>
                  <a:srgbClr val="000000"/>
                </a:solidFill>
                <a:latin typeface="Tahoma"/>
              </a:rPr>
              <a:t> Promueve el desarrollo de los países a través del sector privado por medio del control de riesgos para los inversionistas y lo relacionado a garantías</a:t>
            </a: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MGI </a:t>
            </a:r>
            <a:r>
              <a:rPr b="1" lang="en-US" sz="1600" spc="-1" strike="noStrike">
                <a:solidFill>
                  <a:srgbClr val="000000"/>
                </a:solidFill>
                <a:latin typeface="Tahoma"/>
              </a:rPr>
              <a:t>(Organismo Multilateral de Garantía de Inversiones)</a:t>
            </a:r>
            <a:r>
              <a:rPr b="0" lang="en-US" sz="1600" spc="-1" strike="noStrike">
                <a:solidFill>
                  <a:srgbClr val="000000"/>
                </a:solidFill>
                <a:latin typeface="Tahoma"/>
              </a:rPr>
              <a:t> Tiene como función principal el fomento a la inversión extranjera en países subdesarrollados lo que es complementado con la función de la CFI, sin embargo, incluye riesgos como_ expropiación e incluso inconvertibilidad de moneda </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ADI </a:t>
            </a:r>
            <a:r>
              <a:rPr b="1" i="1" lang="en-US" sz="1600" spc="-1" strike="noStrike">
                <a:solidFill>
                  <a:srgbClr val="000000"/>
                </a:solidFill>
                <a:latin typeface="Tahoma"/>
              </a:rPr>
              <a:t>(Centro Internacional de Arreglo de Diferencias Relativas a Inversiones)</a:t>
            </a:r>
            <a:r>
              <a:rPr b="0" lang="en-US" sz="1600" spc="-1" strike="noStrike">
                <a:solidFill>
                  <a:srgbClr val="000000"/>
                </a:solidFill>
                <a:latin typeface="Tahoma"/>
              </a:rPr>
              <a:t> Salvaguarda de una u otra forma la inversión extranjera complementando la labor de la CFI y OMGI. Su labor se centra en el arbitraje de diferencias y la publicación de investigaciones acerca de su materia principal: las inversiones </a:t>
            </a:r>
            <a:endParaRPr b="0" lang="en-US" sz="1600" spc="-1" strike="noStrike">
              <a:solidFill>
                <a:srgbClr val="000000"/>
              </a:solidFill>
              <a:latin typeface="Tahoma"/>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Secretario General</a:t>
            </a:r>
            <a:endParaRPr b="0" lang="en-US" sz="4400" spc="-1" strike="noStrike">
              <a:solidFill>
                <a:srgbClr val="00a29e"/>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ncionario principal del CIADI, cumple la labor de representante legal y administración</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CIADI al tener una doble función (publicación de materias relacionadas a la inversión extranjera y la solución de diferencias en el mismo ámbito) el Secretario General participa directamente en el nombramiento de los árbitros a petición de las partes para los diferentes procedimiento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 cuanto al nombramiento de los árbitros ésta función se complementa con la protección de las reglas del procedimiento del arbitraje de la UNCITRAL</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CIADI: Convenio y Jurisdicción</a:t>
            </a:r>
            <a:endParaRPr b="0" lang="en-US" sz="4400" spc="-1" strike="noStrike">
              <a:solidFill>
                <a:srgbClr val="00a29e"/>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El Convenio sobre Arreglos de Diferencias Relativas a Inversiones entre Estados y Nacionales de Otros Estados, crea el Centro Internacional de Arreglo de Diferencias Relativas a Inversiones - CIADI. Los puntos más importantes del mencionado convenio son: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u="sng">
                <a:solidFill>
                  <a:srgbClr val="000000"/>
                </a:solidFill>
                <a:uFillTx/>
                <a:latin typeface="Tahoma"/>
              </a:rPr>
              <a:t>El artículo 25 inc. 1</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 </a:t>
            </a:r>
            <a:r>
              <a:rPr b="0" i="1" lang="es-AR" sz="1600" spc="-1" strike="noStrike">
                <a:solidFill>
                  <a:srgbClr val="000000"/>
                </a:solidFill>
                <a:latin typeface="Tahoma"/>
              </a:rPr>
              <a:t>La jurisdicción del Centro se extenderá a las diferencias de naturaleza jurídica que surjan directamente de una inversión entre un Estado Contratante (o cualquier subdivisión política u organismo público de un Estado contratante acreditados ante el Centro por dicho Estado) y el Nacional de otro Estado Contratante y que las partes hayan consentido por escrito en someter su controversia al Centro.   El consentimiento dado por las partes no podrá ser unilateralmente retirado</a:t>
            </a:r>
            <a:r>
              <a:rPr b="0"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r>
              <a:rPr b="0" lang="es-AR" sz="1600" spc="-1" strike="noStrike" u="sng">
                <a:solidFill>
                  <a:srgbClr val="000000"/>
                </a:solidFill>
                <a:uFillTx/>
                <a:latin typeface="Tahoma"/>
              </a:rPr>
              <a:t>El artículo 26 determina qu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r>
              <a:rPr b="0" i="1" lang="es-AR" sz="1600" spc="-1" strike="noStrike">
                <a:solidFill>
                  <a:srgbClr val="000000"/>
                </a:solidFill>
                <a:latin typeface="Tahoma"/>
              </a:rPr>
              <a:t>Salvo estipulación en contrario, el consentimiento de las partes al procedimiento de arbitraje conforme a este Convenio se considera como consentimiento a dicho arbitraje con exclusión de cualquier otro recurso.  Un Estado Contratante podrá exigir el agotamiento previo de sus vías administrativas o judiciales, como condición a su consentimiento al arbitraje conforme a este Convenio</a:t>
            </a:r>
            <a:r>
              <a:rPr b="0" lang="es-AR"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Jurisdicción el CIADI </a:t>
            </a:r>
            <a:endParaRPr b="0" lang="en-US" sz="4400" spc="-1" strike="noStrike">
              <a:solidFill>
                <a:srgbClr val="00a29e"/>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A lo anterior debe sumarse lo relativo a los Tratados de promoción y protección recíproca de Inversiones en que se contempla que la solución de conflictos sobre inversiones recaerá en el CIADI, consideremos que tales tratados son por lo general bilaterales, y la anterior disposición donde se acepta la jurisdicción queda de manifiesto en los laudos emanados del Tribunal Arbitral.</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Un ejemplo de lo anterior es el caso “Lanco” (EEUU-Argentina, 8 de Diciembre de 1998) en que la firma de tratados bilaterales fue considerado como suficiente a la hora de aceptar la jurisdicción del CIADI por parte del Estado demandado. En el laudo se dispuso:</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Que el acceso a la Justicia local es una opción al alcance de todas las personas o sociedad sin la necesidad de acuerdo o previsión expresa en el BIT EEUU - Argentina, razón por la cual, si el inversor así lo hubiera decidido, podría haber recurrido a la jurisdicción local;</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Que el BIT EEUU – Argentina, no exige el agotamiento de la vía local como condición  previa para proceder al arbitraje internacional;</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El consentimiento del inversor junto con el otorgado por la República Argentina mediante la suscripción del BIT EEUU – Argentina, reflejan el consentimiento necesario para motivar la jurisdicción del CIADI, el que una vez conferido no puede ser retirado unilateralmente por ninguna de las part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Jurisdicción </a:t>
            </a:r>
            <a:endParaRPr b="0" lang="en-US" sz="4400" spc="-1" strike="noStrike">
              <a:solidFill>
                <a:srgbClr val="00a29e"/>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La discusión doctrinal acerca de la jurisdicción del CIADI,  tiene dos líneas: la primera que es apoyada por gran parte de la doctrina considera que la sola existencia de un acuerdo bilateral (a modo de cláusula arbitral) reconoce la jurisdicción del centro sin necesidad de una aceptación para el caso concreto y la segunda que niega que un acuerdo sea suficiente ya que debe ser complementado con una aceptación ad-hoc.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No aceptar la doctrina mayoritaria traería consigo que el Estado demandado potencialmente podría incurrir en responsabilidad internacional, pues es COSTUMBRE aceptar la jurisdicción del centro por la sola firma de acuerdo bilateral.</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Al observar el comportamiento de los países latinoamericanos en lo relacionado a la jurisdicción de organismos internacionales se concluye que en las últimas décadas han dejado de acudir a éste tipo de solución de diferencias, la doctrina cree que esto se debe a la expansión de los países exportadores y los efectos de la globalización.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77de"/>
                </a:solidFill>
                <a:latin typeface="Arial"/>
              </a:rPr>
              <a:t>UNCITRAL (Comisión de la UN para el Derecho Mercantil Internacional)</a:t>
            </a:r>
            <a:endParaRPr b="0" lang="en-US" sz="3200" spc="-1" strike="noStrike">
              <a:solidFill>
                <a:srgbClr val="00a29e"/>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 establecida por el Asamblea General en 1966 mediante la resolución 2205.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consideró que las leyes nacionales creaban una obstrucción para el comercio (una de las 800 clases de obstrucción que persistían y que había sido consideradas en el antecedente de la OMC) y mediante la Comisión tales limitantes podrían ser reducidas o eliminadas</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 principal objetivo es descrito en el mandato y no es otro que </a:t>
            </a:r>
            <a:r>
              <a:rPr b="0" i="1" lang="en-US" sz="1600" spc="-1" strike="noStrike">
                <a:solidFill>
                  <a:srgbClr val="000000"/>
                </a:solidFill>
                <a:latin typeface="Tahoma"/>
              </a:rPr>
              <a:t>“fomentar la armonización y unificación progresivas del derecho mercantil internacional”.</a:t>
            </a:r>
            <a:r>
              <a:rPr b="0" lang="en-US" sz="1600" spc="-1" strike="noStrike">
                <a:solidFill>
                  <a:srgbClr val="000000"/>
                </a:solidFill>
                <a:latin typeface="Tahoma"/>
              </a:rPr>
              <a:t> Desde entonces, la Comisión se ha convertido en el órgano jurídico central del sistema de las Naciones Unidas en el ámbito del derecho mercantil internacional.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tá integrada por 60 Estados miembros elegidos por la Asamblea General, y busca ser representativa de diversas regiones, sistemas jurídicos y económicos.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n elegidos cada 6 año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Estados miembros de la UNCITRAL</a:t>
            </a:r>
            <a:endParaRPr b="0" lang="en-US" sz="4000" spc="-1" strike="noStrike">
              <a:solidFill>
                <a:srgbClr val="00a29e"/>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 25 de junio de 2007 estos eran:</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ger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ederación Rus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ongol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eman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iyi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amib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rmen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ranc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igeria (2010)Australia (2010)Gabón (2010)Noruega (2013)Austria (2010)Grecia (2013)Pakistán (2010)Bahrain (2013)Guatemala (2010)Paraguay (2010)Belarus (2010)Honduras (2013)Polonia (2010)Benin (2013)India (2010)Reino Unido de Gran Bretaña e Irlanda del Norte (2013)Bolivia (2013)Iran (Republica Islamica de) (2010)Republica Checa (2010)Bulgaria (2013)Israel (2010)Republica de Corea (2013)Camerún (2013)Italia (2010)Senegal (2013)Canadá (2013)Japón (2013)Serbia (2010)Chile (2013)Kenia (2010)Singapur (2013)China (2013)Letonia (2013)Sri Lanka (2013)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3:43:01Z</dcterms:created>
  <dc:creator>1</dc:creator>
  <dc:description/>
  <dc:language>en-US</dc:language>
  <cp:lastModifiedBy>1</cp:lastModifiedBy>
  <dcterms:modified xsi:type="dcterms:W3CDTF">2008-08-16T22:23:51Z</dcterms:modified>
  <cp:revision>4</cp:revision>
  <dc:subject/>
  <dc:title>CIADI</dc:title>
</cp:coreProperties>
</file>