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wmf" ContentType="image/x-wmf"/>
  <Override PartName="/ppt/media/image17.wmf" ContentType="image/x-wmf"/>
  <Override PartName="/ppt/media/image16.wmf" ContentType="image/x-wmf"/>
  <Override PartName="/ppt/media/image4.jpeg" ContentType="image/jpeg"/>
  <Override PartName="/ppt/media/image14.wmf" ContentType="image/x-wmf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18.wmf" ContentType="image/x-wmf"/>
  <Override PartName="/ppt/media/image6.jpeg" ContentType="image/jpeg"/>
  <Override PartName="/ppt/media/image7.jpeg" ContentType="image/jpeg"/>
  <Override PartName="/ppt/embeddings/oleObject1.pptx" ContentType="application/vnd.openxmlformats-officedocument.presentationml.presentation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3F2D-8A22-45CC-BFAA-24A479B48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57DD-8B59-4C90-8B86-DE3946E88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A779-9A6C-4BD5-BEB5-376DEF604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3E10-99AF-47CB-947E-A2F970F69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0FE8FD-9DAF-4809-9586-F894D152A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FDB6F8-F83F-43C7-86A8-1C258A83A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A821F8-B4DF-403C-801B-94F816D28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4E77BB-87F9-48C8-80A6-D757726B3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A9EAAE-1CE0-46C6-8A1E-A90F9E4F4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B23D5C-E69E-44D6-8F18-27FA35709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CC774D-6DA8-4C7A-9184-2011CCB1E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0314-75FC-4AE1-9B98-5A8648DB6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F05DB4-2EA3-4A8D-BF17-F953F0A9D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AF0872-40B6-4CD1-A708-B8EE75C2F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4B3BEC-B48F-4875-91AC-6FA84B07A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0B0EDF-4CD4-4D81-A0C7-7CBAB3E7C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366A09-C6B9-4E97-8ED4-95D76AA44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6AF8-28E7-4A4A-8257-19E2A98B8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BB87-9293-4D9E-B022-055F396B4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A501-E938-4438-B228-EC1A617AC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6687-E97E-41C1-B7D5-06C8E4055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3370-F732-448C-B17B-2A06C9022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9C8C-F53E-488A-8CB7-CA7195745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5085-8506-47DF-A3C3-D448BBCF3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FE99A-B7F9-40BD-BB9A-3E5FCFE7BB85}" type="slidenum"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A4DA7-7482-47FA-BD05-978124DA1E30}" type="slidenum"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osmejoresdestinos.com/bandera_argentina.gif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l/imgres?imgurl=http://www.fenaboja.com/fenaboja_hp_sp/img/bandera%2520de%2520bolivia.png&amp;imgrefurl=http://www.fenaboja.com/fenaboja_hp_sp/historia_y_geografia_de_bolivia_sp.htm&amp;h=300&amp;w=450&amp;sz=10&amp;hl=es&amp;start=2&amp;um=1&amp;tbnid=MXU3lxJTfI9pPM:&amp;tbnh=85&amp;tbnw=127&amp;prev=/images%3Fq%3Dbandera%2Bboliviana%26um%3D1%26hl%3Des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images.google.cl/imgres?imgurl=http://usuarios.lycos.es/elfolklorcolombiano/images/mapas/bandera%2520de%2520colombia.png&amp;imgrefurl=http://usuarios.lycos.es/elfolklorcolombiano/FOLKLOR/El%2520Escudo.htm&amp;h=360&amp;w=540&amp;sz=2&amp;hl=es&amp;start=2&amp;um=1&amp;tbnid=wZWF_n20JNocBM:&amp;tbnh=88&amp;tbnw=132&amp;prev=/images%3Fq%3Dbandera%2Bcolombiana%26um%3D1%26hl%3Des" TargetMode="External"/><Relationship Id="rId6" Type="http://schemas.openxmlformats.org/officeDocument/2006/relationships/image" Target="../media/image3.jpeg"/><Relationship Id="rId7" Type="http://schemas.openxmlformats.org/officeDocument/2006/relationships/hyperlink" Target="http://images.google.cl/imgres?imgurl=http://eurosento.files.wordpress.com/2008/01/bandera_cubana_nueva.jpg&amp;imgrefurl=http://eurosento.wordpress.com/2008/01/22/%25C2%25BFelecciones-en-cuba-%25C2%25BFpero-esto-que-es/&amp;h=302&amp;w=602&amp;sz=51&amp;hl=es&amp;start=2&amp;um=1&amp;tbnid=v97flaik4gor5M:&amp;tbnh=68&amp;tbnw=135&amp;prev=/images%3Fq%3Dbandera%2Bcubana%26um%3D1%26hl%3Des" TargetMode="External"/><Relationship Id="rId8" Type="http://schemas.openxmlformats.org/officeDocument/2006/relationships/image" Target="../media/image4.jpeg"/><Relationship Id="rId9" Type="http://schemas.openxmlformats.org/officeDocument/2006/relationships/hyperlink" Target="http://images.google.cl/imgres?imgurl=http://usuarios.lycos.es/lockinghooks/350px-Bandera_de_Chile.png&amp;imgrefurl=http://usuarios.lycos.es/lockinghooks/index3.html&amp;h=234&amp;w=350&amp;sz=4&amp;hl=es&amp;start=2&amp;um=1&amp;tbnid=_0jhSpjvFGSTiM:&amp;tbnh=80&amp;tbnw=120&amp;prev=/images%3Fq%3Dbandera%2Bchilena%26um%3D1%26hl%3Des" TargetMode="External"/><Relationship Id="rId10" Type="http://schemas.openxmlformats.org/officeDocument/2006/relationships/image" Target="../media/image5.jpeg"/><Relationship Id="rId11" Type="http://schemas.openxmlformats.org/officeDocument/2006/relationships/hyperlink" Target="http://images.google.cl/imgres?imgurl=http://www.voltairenet.org/IMG/jpg/WEB_BANDERA-ECUADOR.jpg&amp;imgrefurl=http://www.voltairenet.org/article149101.html&amp;h=293&amp;w=390&amp;sz=11&amp;hl=es&amp;start=1&amp;um=1&amp;tbnid=ZwD1f-K9492SHM:&amp;tbnh=92&amp;tbnw=123&amp;prev=/images%3Fq%3Dbandera%2Becuatoriana%26um%3D1%26hl%3Des" TargetMode="External"/><Relationship Id="rId12" Type="http://schemas.openxmlformats.org/officeDocument/2006/relationships/image" Target="../media/image6.jpeg"/><Relationship Id="rId13" Type="http://schemas.openxmlformats.org/officeDocument/2006/relationships/hyperlink" Target="http://images.google.cl/imgres?imgurl=http://hoqueiempatins.files.wordpress.com/2007/06/bandera-espana.jpg&amp;imgrefurl=http://hoqueiempatins.wordpress.com/2007/06/05/espanha-prepara-mundial-montreux-2007/&amp;h=500&amp;w=750&amp;sz=21&amp;hl=es&amp;start=3&amp;um=1&amp;tbnid=-mOvImjZICAcuM:&amp;tbnh=94&amp;tbnw=141&amp;prev=/images%3Fq%3Dbandera%2Bespa%25C3%25B1ola%26um%3D1%26hl%3Des" TargetMode="External"/><Relationship Id="rId14" Type="http://schemas.openxmlformats.org/officeDocument/2006/relationships/image" Target="../media/image7.jpeg"/><Relationship Id="rId15" Type="http://schemas.openxmlformats.org/officeDocument/2006/relationships/hyperlink" Target="http://images.google.cl/imgres?imgurl=http://www.geocities.com/latinoamericalibertaria2002/BanderaMexicana&amp;imgrefurl=http://www.geocities.com/latinoamericalibertaria2002/&amp;h=209&amp;w=365&amp;sz=12&amp;hl=es&amp;start=9&amp;um=1&amp;tbnid=KiwsRh65jjGX4M:&amp;tbnh=69&amp;tbnw=121&amp;prev=/images%3Fq%3Dbandera%2Bmexicana%26um%3D1%26hl%3Des" TargetMode="External"/><Relationship Id="rId16" Type="http://schemas.openxmlformats.org/officeDocument/2006/relationships/image" Target="../media/image8.jpeg"/><Relationship Id="rId17" Type="http://schemas.openxmlformats.org/officeDocument/2006/relationships/hyperlink" Target="http://images.google.cl/imgres?imgurl=http://www.empacol.org/site/images/stories/bandera_pma.gif&amp;imgrefurl=http://www.empacol.org/site/index.php%3Foption%3Dcontent%26task%3Dview%26id%3D17%26Itemid%3D36&amp;h=256&amp;w=384&amp;sz=4&amp;hl=es&amp;start=1&amp;um=1&amp;tbnid=0hNKJLa5WkV1yM:&amp;tbnh=82&amp;tbnw=123&amp;prev=/images%3Fq%3Dbandera%2Bpaname%25C3%25B1a%26um%3D1%26hl%3Des" TargetMode="External"/><Relationship Id="rId18" Type="http://schemas.openxmlformats.org/officeDocument/2006/relationships/image" Target="../media/image9.jpeg"/><Relationship Id="rId19" Type="http://schemas.openxmlformats.org/officeDocument/2006/relationships/hyperlink" Target="http://images.google.cl/imgres?imgurl=http://wonderfulflowers.biz/catalogo/images/bandera-paraguay.png&amp;imgrefurl=http://www.wonderfulflowers.biz/catalogo/index.php%3FcPath%3D72&amp;h=300&amp;w=500&amp;sz=3&amp;hl=es&amp;start=1&amp;um=1&amp;tbnid=c3M8VTJswXC9OM:&amp;tbnh=78&amp;tbnw=130&amp;prev=/images%3Fq%3Dbandera%2Bparaguaya%26um%3D1%26hl%3Des" TargetMode="External"/><Relationship Id="rId20" Type="http://schemas.openxmlformats.org/officeDocument/2006/relationships/image" Target="../media/image10.jpeg"/><Relationship Id="rId21" Type="http://schemas.openxmlformats.org/officeDocument/2006/relationships/hyperlink" Target="http://images.google.cl/imgres?imgurl=http://www.derecho.usmp.edu.pe/itaest2003/itaest4/bandera%2520peru.jpg&amp;imgrefurl=http://angelitadiablitax100pre.spaces.live.com/blog/cns!ADBC3D8EC80DD8C0!246.entry&amp;h=298&amp;w=413&amp;sz=25&amp;hl=es&amp;start=3&amp;um=1&amp;tbnid=V0rn9Zk3MoEaCM:&amp;tbnh=90&amp;tbnw=125&amp;prev=/images%3Fq%3Dbandera%2Bperuana%26um%3D1%26hl%3Des" TargetMode="External"/><Relationship Id="rId22" Type="http://schemas.openxmlformats.org/officeDocument/2006/relationships/image" Target="../media/image11.jpeg"/><Relationship Id="rId23" Type="http://schemas.openxmlformats.org/officeDocument/2006/relationships/image" Target="../media/image12.jpeg"/><Relationship Id="rId24" Type="http://schemas.openxmlformats.org/officeDocument/2006/relationships/image" Target="../media/image13.jpeg"/><Relationship Id="rId2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1760" y="1294920"/>
            <a:ext cx="78850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5400" spc="-1" strike="noStrike">
                <a:solidFill>
                  <a:srgbClr val="e3e3ff"/>
                </a:solidFill>
                <a:latin typeface="Times New Roman"/>
              </a:rPr>
              <a:t>EL</a:t>
            </a:r>
            <a:br>
              <a:rPr sz="5400"/>
            </a:br>
            <a:r>
              <a:rPr b="1" i="1" lang="es-ES" sz="5400" spc="-1" strike="noStrike">
                <a:solidFill>
                  <a:srgbClr val="e3e3ff"/>
                </a:solidFill>
                <a:latin typeface="Times New Roman"/>
              </a:rPr>
              <a:t>CONVENIO ANDRÉS BELLO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413000"/>
            <a:ext cx="1066680" cy="6886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26920" y="260280"/>
            <a:ext cx="1143000" cy="7653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819520" y="304920"/>
            <a:ext cx="1066680" cy="7128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500720" y="260280"/>
            <a:ext cx="1066680" cy="762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084720" y="260280"/>
            <a:ext cx="1067040" cy="6858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7740720" y="260280"/>
            <a:ext cx="1066680" cy="6858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8077320" y="1341360"/>
            <a:ext cx="1066680" cy="7113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0" y="2708280"/>
            <a:ext cx="1143000" cy="7621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900000" y="4365720"/>
            <a:ext cx="1143000" cy="76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3132000" y="4869000"/>
            <a:ext cx="1143000" cy="7617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5580000" y="4869000"/>
            <a:ext cx="1143000" cy="7617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3"/>
          <a:stretch/>
        </p:blipFill>
        <p:spPr>
          <a:xfrm>
            <a:off x="7740720" y="4365720"/>
            <a:ext cx="1143000" cy="7617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4"/>
          <a:stretch/>
        </p:blipFill>
        <p:spPr>
          <a:xfrm>
            <a:off x="8001000" y="2637000"/>
            <a:ext cx="1143000" cy="758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EB9D24-EF18-429F-A0EA-27AF7FF3D27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28600" y="228600"/>
            <a:ext cx="8534520" cy="67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DECLARACIÓN DE BOGOT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Bogotá, 197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 APORTES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tre ellos cabe mencionar los siguiente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1.-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Fijaron las “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Orientaciones generales para el desarrollo 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acciones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prioritarias del Convenio que sirve de marco 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referencia para el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cumplimiento de sus tare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 dicho documento se ratificó el concepto de “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Educació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ermanente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”en las áreas del CAB y, por primera vez, se hac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ferencia a la juventud, en el sentido que las políticas y e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ccionar del CAB deben dirigirse fundamentalmente hacia l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oblación joven de la región con el fin de despertar en es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entes los valores e ideales indispensables para el logro de l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eta integracionista.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2.-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e plantea la necesidad de seguir “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l desarrollo de l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ducación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preescolar con criterio de atención intersectorial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onsiderando aspectos de salud y nutrición, garantizando de es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anera el principio de igualdad de oportunidades......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AACC-B354-42E8-AC5F-2225F81E0B7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Casi 20 años después, con la </a:t>
            </a:r>
            <a:r>
              <a:rPr b="1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Resolución 12/95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, 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acordó: “Encomendar al Convenio Andrés Bello par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proponer un programa conjunto con la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organizaciones de Naciones Unidas, UNESCO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UNICEF y FAO, que permita promover y realiza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acciones para que los niños reciban educación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alimentación y salud en los establecimient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escolares.........” (Art. 2º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3.-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En la </a:t>
            </a:r>
            <a:r>
              <a:rPr b="0" i="1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cultura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, se promueve el establecimiento p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parte de cada país, de políticas que contemplen l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medios para a difusión de los valores culturales de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resto de los países del Convenio, así como l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conservación, revaloración, y difusión d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manifestaciones culturales propias de la regió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9F3A-8B9C-4D73-9F74-1C314FDD7AB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4.-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En cuanto a la </a:t>
            </a:r>
            <a:r>
              <a:rPr b="0" i="1" lang="es-ES" sz="2000" spc="-1" strike="noStrike" u="sng">
                <a:solidFill>
                  <a:srgbClr val="ffffff"/>
                </a:solidFill>
                <a:uFillTx/>
                <a:latin typeface="Times New Roman"/>
              </a:rPr>
              <a:t>ciencia y la tecnología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, se plante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como condición previa al establecimiento de l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políticas antes mencionadas, lo siguien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 La fijación de una política “...que contemple (....) l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los medios para el fortalecimiento de l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infraestructura necesaria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 El desarrollo e intercambio de proyectos d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investigación en sus diversas secuencias científic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con la finalidad de obtener en un mediano plazo el us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generalizado de elementos tecnológicos propio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 El desarrollo de proyectos encaminados a instaurar 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equilibrio ecológico, mediante la conservación de l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recursos naturales y la preservación del ambiente.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1967-404E-4430-B5A1-E2840A1376D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3e3ff"/>
                </a:solidFill>
                <a:latin typeface="Times New Roman"/>
              </a:rPr>
              <a:t>CARTA DE QUITO</a:t>
            </a:r>
            <a:br>
              <a:rPr sz="3200"/>
            </a:br>
            <a:r>
              <a:rPr b="0" lang="es-ES" sz="3200" spc="-1" strike="noStrike">
                <a:solidFill>
                  <a:srgbClr val="e3e3ff"/>
                </a:solidFill>
                <a:latin typeface="Times New Roman"/>
              </a:rPr>
              <a:t>Quito, 1978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1720" y="1679400"/>
            <a:ext cx="8080560" cy="44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u principal aporte consistió e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hecho de haber establecido los mecanismos y accion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que permitieron la implementación de las políticas del CAB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unciadas en las Declaraciones anteriormente expuesta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or medio de las siguientes medida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1.-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La adopción de la estructura orgánica del Convenio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2.-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Creación de los organismos descentralizados y de la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omisiones Asesora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3.-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Creación del Fondo de Financiamiento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4.-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Adopción de la tabla de equivalencias de estudios d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rimaria y secundaria de los países signatario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7820-69C7-4306-9D4B-1137A76453F6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98400" y="609120"/>
            <a:ext cx="7772400" cy="51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5.-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Reconocimiento por medio de normas legal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n cada país del Convenio de estudios primarios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o de enseñanza básica, realizados en cualquier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e los países signatario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6.-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Inicio de la armonización de las políticas de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desarrollo científico-tecnológic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y estudio de tecnologías apropiadas a la realida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e los países del Conveni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E738-F21E-4C45-8F36-CCF747332BEF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28600" y="42228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228600"/>
            <a:ext cx="8534520" cy="62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ESTRUCTURA DE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CONVENIO ANDRÉS BEL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OBJETIVO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 fortalecer el papel del Convenio Andrés Bello como mecanism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damental en el objetivo de la integración, éste se acompaña 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rumentos organizacionales que pueden actuar directamente en l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moción de dicho valor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STRUCTURA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ualmente, el C.A.B. Se compone de las siguientes entidade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UNIÓN DE MINISTROS DE EDUCACIÓN DE LO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ÍSES MIEMBROS DEL CONVENIO ANDRÉS BELLO –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ECAB-: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 Reunión de Ministros de Educación de los País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embros, Remecab, es la autoridad superior de la organización. L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responde fijar la política del Organismo teniendo presente, e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pecial, las necesidades y las prioridades de las políticas nacionales 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países miembros, los cambios que se observan en las relacion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cionales en los campos de la educación, la ciencia y tecnología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cultura, énfasis en la integración regional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227F-D10E-43FF-8CA5-D37DD61FAD2F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2.-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SECRETARÍA EJECUTIVA DE LA ORGANIZ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CIONAL DEL CONVENIO ANDRÉS BELL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–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AB-: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 el órgano administrativo y ejecutivo superior 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B. Su titular es el Secretario Ejecutivo, representante legal 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B y su más alto funcionario administrativo. Es el respons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e la REMECAB del cumplimiento adecuado de las funciones 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ligaciones del CAB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 sede está en Bogotá y goza del reconocimiento especial de 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sonería jurídica de derecho internacional que ejerce 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resentación del CAB, de acuerdo con el Tratado suscrito entre 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do colombiano y la SECAB, conocido como Acuerdo de Se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 CAB, firmado el 4 de septiembre de 1972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actual Secretario Ejecutivo de la Organización es el do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ancisco Huerta Montalv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8F7B-00A1-4013-8B24-9A0B1752EC3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- LA COMISIÓN ASESORA PRINCIPAL –CAP-: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 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órgano técnico auxiliar de la Remecab y está conformada por l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retarías Nacionales, SENCAB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- LAS SECRETARÍAS NACIONALES –SENCAB-: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peran 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Ministerios de Educación de los países signatarios. Son l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cargadas de los asuntos relacionados con el Convenio en ca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í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constituyen en el enlace entre los gobiernos de dichos países y l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AB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BCBD-8FFA-4C18-A582-4DC1F8B95BC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- ENTIDADES ESPECIALIZADAS: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on entidad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pecializadas que tienen como objetivo contribuir 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propósitos integracionistas del CAB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s son las siguiente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) Instituto Internacional de Integración (III):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dica a la formación de recursos humanos al má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to nivel. Su sede se ubica en la ciudad de La Paz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livia. www.iiicab.org.b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) Instituto Iberoamericano de Patrimonio Natural 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ltural (IPANC):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rabaja en el ámbito de la cultu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ciendo énfasis en las artes populares. Su sede 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bica en la ciudad de Quito, Ecuador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ww.ipanc.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2EF3-312A-4BE2-BAB3-78FB4015BD2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) Instituto de Transferencia de Tecnologí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ropiadas para Sectores Marginales (ITACAB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jora la calidad de vida de los sectores marginales a travé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 desarrollo de soluciones integrales para la superación 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pobreza. Su sede su ubica en la ciudad de Lima, Per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www.itacab.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6ABA-0E12-49B3-BC03-9911F076235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98400" y="380880"/>
            <a:ext cx="7772400" cy="614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VI REUNIÓN DEL CONSEJO INTERAMERICANO CULTU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ORIGEN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: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El Ministro de Educación de Colombia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Octavio  Arizmendi  Posada, presentó l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idea como un compromiso multilateral, 1969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DECLARACIÓN DE PUERTO ESPAÑ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Trinidad y Tobago, 30 Junio 196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ff"/>
                </a:solidFill>
                <a:uFillTx/>
                <a:latin typeface="Times New Roman"/>
              </a:rPr>
              <a:t>TRATADO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: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Se suscribió el 31 de enero de 197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Comenzó a regir el 24 de noviembre de 197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ff"/>
                </a:solidFill>
                <a:uFillTx/>
                <a:latin typeface="Times New Roman"/>
              </a:rPr>
              <a:t>PAÍSES FUNDADORES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Bolivia, Chile, Colombia, Ecuador, Perú 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Venezuel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                                                 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ECC9-B49C-4B20-9332-CB3EC575C3C3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La importancia de la educación en e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C.A.B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En esta materia, se deben considerar los siguientes proyectos efectuados por el CAB a través del tiemp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1.-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Times New Roman"/>
              </a:rPr>
              <a:t>LA ARMONIZACIÓN DE LOS SISTEMAS EDUCATIVOS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Este es un programa emblemático en el área de educación, y es el que fundamentalmente le confiere carácter integracionista al proceso desarrollado por el CAB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F448-2D6E-4B6B-91AC-49D45FA62EA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Historia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La armonización de los sistemas educativos fu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contemplada en el Capítulo IV del primitivo Convenio; 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sus artículos 21 a 25 expresaba:”reconocer los estudi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primarios o de enseñanza básica realizados en cualquiera 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de los países signatarios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El art. 24, contemplaba una disposición muy novedosa, 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que, lamentablemente, fue eliminada en el texto del nuev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Tratado. Dicho artículo, planteaba como necesario planifica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la educación y la investigación científica y tecnológica 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consonancia con las necesidades de la región y principal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mente las derivadas de la integración económica de l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países signatari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En el Tratado de la Organización del CAB, artículo 2 letra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constituye un objetivo lograr un adecuado equilibrio en e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proceso de desarrollo educativo, científico,tecnológico 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cultur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9AA1-F487-4B2F-AEA0-A4C4803CCD6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La educación, de acuerdo con su reglamento general, deb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“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tener un contenido cultural” (Art. 5, letra A, Nº 3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En los inicios del CAB, en materia de educación esco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los ministros establecieron un régimen de equivalencias q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reconocen los certificados de estudios, tanto a nivel d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educación primaria o básica, como también media 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secundaria. Este régimen de equivalencias fue incorpor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como Anexo de la Resolución 03 de la XII REMECAR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celebrada en Santiago de Chile en 1983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Posteriormente, en el artículo 4º del Tratado-aprobado 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1990- los Ministros de Educación se refirier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específicamente al reconocimiento de estudios al expresa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F36B-B0B4-4F8D-ACC1-E57ED601173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80880" y="304920"/>
            <a:ext cx="8610840" cy="345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“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los Estados miembros reconocerán los estudios primarios 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de Enseñanza General Básica y de educación media 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secundaria, mediante tablas de equivalencia que permitan l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continuidad de los mismos o la obtención de los certificad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correspondientes a cursos, niveles, modalidades o grado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aprobados en cualquiera de ellos.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Como lo señalara en el Informe de Evaluación, Fernández, </a:t>
            </a:r>
            <a:r>
              <a:rPr b="0" i="1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i="1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CAB en materia de reconocimiento de estudios ha sido pionero</a:t>
            </a:r>
            <a:r>
              <a:rPr b="0" i="1" lang="es-E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i="1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no sólo en América sino en el mundo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38B9-4B1F-479C-A50C-8C0CBEBFFAF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2.-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Times New Roman"/>
              </a:rPr>
              <a:t> LA ENSEÑANZA DE LA HISTORIA COMO ESTRATEGIA DE INTEGRACIÓN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El V Consejo Presidencial Andino, celebrado 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Caracas, en mayo de 1991, recomendó a la SECAB l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elaboración de un programa de “Enseñanza de l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Historia”, con el fin de lograr una mayor concienci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integracionista entre nuestra pobl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Al año siguiente, la Conferencia Iberoamericana d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Ministros de Educación, reunida en Guadalupe 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Sevilla en junio de 1992, y la XVI REMECAB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celebrada en agosto del mismo año en Santiago d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Chile, acordaron “la revisión de los programas d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enseñanza y de los libros de textos correspondient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para un mejor conocimiento y comprensión de los ot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países”, hecho que da paso a la aprobación de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proyec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F936-7D5B-4C71-BD64-60A31A1E834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La revisión de estos textos tenía como objetivo principal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averiguar la adecuación de éstos a “las exigencias de l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educación, para la paz, la comprensión internacional y l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defensa de los derechos fundamentales de las personas, en 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marco de la Resolución 74 de la UNESCO.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1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En conclusión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, la enseñanza de la historia debe enfocarse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entonces, a la preservación y reforzamiento de los principi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básicos del proceso integracionista, reforzando de esta for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el respeto a la diferencia, el conocimiento de la histori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común que nos une y la disposición a la construcción de u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presente y un futuro en comunida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8B0D-95DA-40F8-A137-CCC3DA6466C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698400" y="609120"/>
            <a:ext cx="7772400" cy="51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380880"/>
            <a:ext cx="84582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33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457200"/>
            <a:ext cx="8534520" cy="77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3.-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Times New Roman"/>
              </a:rPr>
              <a:t> ENCUENTROS DE UNIVERSIDADES CAB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En la actualidad, el CAB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 la participación d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ituciones de educació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erior de Iberoamérica y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reconocidos expertos y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adémicos de la región, as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o de universidad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dagógicas, facultades d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ducación, instituto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eriores de pedagogía 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las universidad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nculadas a los Doctorado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B y a las Cátedras d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ción CAB, realizó 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mes de mayo del pres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ño, en Quito, Ecuador, el I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cuentro de la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ersidades Andrés Bell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la Integració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38BB-B7C3-4B1D-B642-C4AB07844550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533520" y="228600"/>
          <a:ext cx="7924680" cy="56386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28600"/>
                    <a:ext cx="792468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76A9-6937-4626-914C-1291AC5717E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"/>
          <p:cNvGraphicFramePr/>
          <p:nvPr/>
        </p:nvGraphicFramePr>
        <p:xfrm>
          <a:off x="914400" y="228600"/>
          <a:ext cx="7620120" cy="5715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28600"/>
                    <a:ext cx="762012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D907-6C1C-4286-8FB0-F3AB2DBDEC2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468360" y="404640"/>
          <a:ext cx="8001000" cy="53341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404640"/>
                    <a:ext cx="800100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911A-3B01-4B29-929F-099FFE808DA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ff"/>
                </a:solidFill>
                <a:uFillTx/>
                <a:latin typeface="Times New Roman"/>
              </a:rPr>
              <a:t>NOMBRE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“Organización del Convenio  Andrés Bello d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Integración educativa, científica, tecnológica 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cultural.” En reconocimiento al insigne humani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americano.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ff"/>
                </a:solidFill>
                <a:uFillTx/>
                <a:latin typeface="Times New Roman"/>
              </a:rPr>
              <a:t>PAÍSES MIEMBROS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: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(Argentina), Bolivia, Colombia, Cuba, Chil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España, México, Panamá, Paraguay, Per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República Dominicana, Venezuela y Ecuado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ff"/>
                </a:solidFill>
                <a:uFillTx/>
                <a:latin typeface="Times New Roman"/>
              </a:rPr>
              <a:t>ADHESIONES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Panamá en 1980 y España en 1982 suscribe 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Protocolo de Adhesión. Ingresa como miembr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pleno en 1990.Cuba adhiere en 200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México adhiere en 20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E9BD-5C5D-450E-A8CA-6BF6ECA51A7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"/>
          <p:cNvGraphicFramePr/>
          <p:nvPr/>
        </p:nvGraphicFramePr>
        <p:xfrm>
          <a:off x="762120" y="228600"/>
          <a:ext cx="8001000" cy="5715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28600"/>
                    <a:ext cx="80010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31E8-45BE-44E3-86C0-FD56EFCEC2F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"/>
          <p:cNvGraphicFramePr/>
          <p:nvPr/>
        </p:nvGraphicFramePr>
        <p:xfrm>
          <a:off x="863640" y="304920"/>
          <a:ext cx="7746840" cy="57909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3640" y="304920"/>
                    <a:ext cx="7746840" cy="57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1A44-0301-4C2B-935F-DF934D4A8A9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LA IMPORTANCIA DE LA CULTURA EN  EL C.A.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1.- 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imes New Roman"/>
              </a:rPr>
              <a:t>OBJETIV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El </a:t>
            </a:r>
            <a:r>
              <a:rPr b="0" i="1" lang="es-ES_tradnl" sz="1600" spc="-1" strike="noStrike">
                <a:solidFill>
                  <a:srgbClr val="ffffff"/>
                </a:solidFill>
                <a:latin typeface="Times New Roman"/>
              </a:rPr>
              <a:t>Área de Cultura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ha emprendido la tarea de generar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                             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escenarios de reflexión y debate donde la temática centr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                             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obedezca a la calidad de la formación o ejercicio pedagógic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                             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que las comunidades reciben respecto de la gestión cultura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2.- 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imes New Roman"/>
              </a:rPr>
              <a:t>PROYECT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En este punto, especial mención merecen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1.- Premio CAB Somos Patrimonio: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Este premio internacional qu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en la actualidad cuenta con VI convocatorias realizadas y más de 1300     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experiencias registradas de toda la región, es una estrategia que el CAB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desarrolla desde el año 1996, con la intención de identificar, valorar y difundir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el patrimonio natural y cultural de los países miembros, con especial énfasis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en las experiencias comunitarias de apropiación social del patrimonio, com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estrategia de desarrollo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490F-FFD4-4B7F-83AB-7613FD47019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2.- Las industrias culturales en sus dimensiones económic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y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social: E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jemplo de éstos son telenovelas, géneros music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y literatur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3.- Fortalecer los procesos de desarrollo social local 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través de la cultur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de manera que la cultura sea e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rincipal motor del desarrollo soci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0DA2-04D9-4DDC-87F8-8E0B00F5B18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2843280" y="620280"/>
            <a:ext cx="63007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ONDECOR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a condecoración “Secretaría Ejecutiva del Conveni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ndrés Bello” en su categoría  máxima de Honor al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érito, le fue conferida a la Presidenta Michelle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Bachelet, el  18 de  abril de 2007, en su visita oficial a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olombia, con motivo de la 20º Feria Internacional del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ibro de Bogotá, donde Chile figuró como invitado de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hono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a condecoración le fue entregada por la Ministra de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ducación de Paraguay, en su calidad de Presidenta d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a REMECAB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250920" y="1916280"/>
          <a:ext cx="2249280" cy="273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916280"/>
                    <a:ext cx="2249280" cy="27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B156-990D-452E-90E7-60525324E66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57200" y="228600"/>
            <a:ext cx="8305920" cy="47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OBJETIVOS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:      1.-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Estimular el conocimiento recíproco y la fraternidad entre ell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2.-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Contribuir al logro de un adecuado equilibrio en el proceso de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desarrollo educativo, científico, tecnológico y cultural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3.-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Realizar esfuerzos conjuntos a favor de la educación, la ciencia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tecnología, y la cultura para lograr el desarrollo integral de su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nacion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4.-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Aplicar la ciencia y la tecnología a la elevación del nivel de vid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 sus pueblos, según Resolución Nº 05/90 (Art. 2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u contribución al proceso de integración fue fortalecida por e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cuerdo de Cartagena dado el retroceso que se produjo en la décad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 1980, con motivo del problema que generó la deuda externa e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mérica Latin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FFBC-1FB9-4888-B390-C518B6215A5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DECLARACIÓN DE LI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ima, 05 Febrero 197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Entre sus aportes cabe menciona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MARCO DOCTRINARIO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: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La filosofía que inspiró este fenómeno d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integración fue la Declaración de Lima de 5 de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febrero de 1971, que contiene “</a:t>
            </a:r>
            <a:r>
              <a:rPr b="0" i="1" lang="es-ES" sz="1800" spc="-1" strike="noStrike">
                <a:solidFill>
                  <a:srgbClr val="ffffff"/>
                </a:solidFill>
                <a:latin typeface="Times New Roman"/>
              </a:rPr>
              <a:t>El Planteamiento</a:t>
            </a:r>
            <a:r>
              <a:rPr b="0" i="1" lang="es-E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</a:t>
            </a:r>
            <a:r>
              <a:rPr b="0" i="1" lang="es-ES" sz="1800" spc="-1" strike="noStrike">
                <a:solidFill>
                  <a:srgbClr val="ffffff"/>
                </a:solidFill>
                <a:latin typeface="Times New Roman"/>
              </a:rPr>
              <a:t>Doctrinario Común Sobre Política Cultural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</a:t>
            </a:r>
            <a:r>
              <a:rPr b="0" i="1" lang="es-ES" sz="1800" spc="-1" strike="noStrike">
                <a:solidFill>
                  <a:srgbClr val="ffffff"/>
                </a:solidFill>
                <a:latin typeface="Times New Roman"/>
              </a:rPr>
              <a:t>Educacional y Tecnológica de los países</a:t>
            </a:r>
            <a:r>
              <a:rPr b="0" i="1" lang="es-ES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</a:t>
            </a:r>
            <a:r>
              <a:rPr b="0" i="1" lang="es-ES" sz="1800" spc="-1" strike="noStrike">
                <a:solidFill>
                  <a:srgbClr val="ffffff"/>
                </a:solidFill>
                <a:latin typeface="Times New Roman"/>
              </a:rPr>
              <a:t>signatarios del Convenio Andrés Bello.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En su Considerando 1º estableció el principio 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el cual radica la filosofía del CAB “</a:t>
            </a:r>
            <a:r>
              <a:rPr b="0" i="1" lang="es-ES" sz="1800" spc="-1" strike="noStrike">
                <a:solidFill>
                  <a:srgbClr val="ffffff"/>
                </a:solidFill>
                <a:latin typeface="Times New Roman"/>
              </a:rPr>
              <a:t>la conquist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</a:t>
            </a:r>
            <a:r>
              <a:rPr b="0" i="1" lang="es-ES" sz="1800" spc="-1" strike="noStrike">
                <a:solidFill>
                  <a:srgbClr val="ffffff"/>
                </a:solidFill>
                <a:latin typeface="Times New Roman"/>
              </a:rPr>
              <a:t>y la afirmación de la independencia cultural 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</a:t>
            </a:r>
            <a:r>
              <a:rPr b="0" i="1" lang="es-ES" sz="1800" spc="-1" strike="noStrike">
                <a:solidFill>
                  <a:srgbClr val="ffffff"/>
                </a:solidFill>
                <a:latin typeface="Times New Roman"/>
              </a:rPr>
              <a:t>los países de la región y la integración de l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</a:t>
            </a:r>
            <a:r>
              <a:rPr b="0" i="1" lang="es-ES" sz="1800" spc="-1" strike="noStrike">
                <a:solidFill>
                  <a:srgbClr val="ffffff"/>
                </a:solidFill>
                <a:latin typeface="Times New Roman"/>
              </a:rPr>
              <a:t>pueblos para lograr su bienestar material y</a:t>
            </a:r>
            <a:r>
              <a:rPr b="0" i="1" lang="es-E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</a:t>
            </a:r>
            <a:r>
              <a:rPr b="0" i="1" lang="es-ES" sz="1800" spc="-1" strike="noStrike">
                <a:solidFill>
                  <a:srgbClr val="ffffff"/>
                </a:solidFill>
                <a:latin typeface="Times New Roman"/>
              </a:rPr>
              <a:t>espiritual”,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objetivo fundamental del Conven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CONTRIBUCIÓN A LAS RR EE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En este punto destacan, tanto su ampliación,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como asimismo, los vínculos de cooper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con otros procesos de integración, como 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MEROSU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EB3A-80E0-4C02-8447-FE03F109AD5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09480" y="4572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AREAS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1.- Educación: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Se pone énfasis en la importancia de la formulación 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políticas educativas como parte de un proceso d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transformación integral de las estructuras socio-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económicas que tengan como finalidad la participació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activa de la población  y la eliminación de estructuras 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poder que coarten el desarrollo y la libertad individu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2.- Cultura: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Se establece como prioridad el fomento de la capacida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creadora de la población y la importancia en este proces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de la cooperación nacional como regional, idea que sigu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siendo una aspiració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En este punto, la Declaración de Lima, enfatiza l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importancia que se debe dar a una política de “creación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aprovechamiento y asimilación selectiva de los bien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de la cultura”, de manera que éstos queden al servicio 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los valores y tradiciones de nuestra població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latinoamericana y que, a su vez, hagan de nexo entre ést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valores y los avances del conocimiento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10B8-F8D9-45A0-99B5-6227EB5D8F7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04920" y="533520"/>
            <a:ext cx="8610480" cy="46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3.- Ciencia y tecnología: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e propone que la orientació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e las políticas respectivas a estas áreas sea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instrumentos a disposición del desarrollo económico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ocial y cultural de los paí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ff"/>
                </a:solidFill>
                <a:uFillTx/>
                <a:latin typeface="Times New Roman"/>
              </a:rPr>
              <a:t>PRINCIPAL ENFASIS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Consiste en la preocupación por el hombre de l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subregión Andina, idea que fue explícitamente reitera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en la </a:t>
            </a:r>
            <a:r>
              <a:rPr b="0" i="1" lang="es-ES" sz="2000" spc="-1" strike="noStrike">
                <a:solidFill>
                  <a:srgbClr val="ffffff"/>
                </a:solidFill>
                <a:latin typeface="Times New Roman"/>
              </a:rPr>
              <a:t>Declaración de Quito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de la X REMECAB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En énfasis debe ser puesto en la promoción d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desarrollo humano, concepto que se ha mantenid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vigente hasta ahor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2670-4A0D-4408-8E98-4F2A1F9B06D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80880" y="762120"/>
            <a:ext cx="8169480" cy="59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CONSENSO DE CARAC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aracas, 197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 APORTES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tre ellos cabe mencionar los siguiente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                                       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1.-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Este se refirió a la “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olítica Educacional del Áre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ndina”,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nfatizando el concepto de “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Aprender a Ser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” 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Naciones Unid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ste supone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un desarrollo correlativo de la capacida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crítica y creativa, conceptos plenamente vigentes en la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reformas educativas implementadas por los país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latinoamerican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2.-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Se plantea la necesidad de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dar un “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carácter social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”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a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roceso educativo, en el sentido de que es la sociedad e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u conjunto la que debe involucrarse en éste, como un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anera de expandir las posibilidades de desarrollo de l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ducando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80ED-D85B-4538-883F-66D04E621D9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Tal como se planteara en dicha ocasión “...to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reforma educacional debe inspirarse en el concep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e “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Educación Permanente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”, lo cual significa qu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no es escuela tradicionalmente concebida, el únic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y aislado lugar en que el hombre debe y pued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ducarse, sino que han de proporcionársele nuev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y diversificadas posibilidades educativas, 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anera que la sociedad en su conjunto sea un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gran escuela durante toda la vida del ser humano.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0BC3-C5E1-4DBA-867F-BBDEA25C8D2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4T08:19:56Z</dcterms:created>
  <dc:creator>Iris Vittini</dc:creator>
  <dc:description/>
  <dc:language>en-US</dc:language>
  <cp:lastModifiedBy>Judith María Baeza Henríquez</cp:lastModifiedBy>
  <dcterms:modified xsi:type="dcterms:W3CDTF">2009-07-24T04:46:43Z</dcterms:modified>
  <cp:revision>39</cp:revision>
  <dc:subject/>
  <dc:title>MERCOSUR</dc:title>
</cp:coreProperties>
</file>