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02F-160D-4884-921E-5462975C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2B6-6602-4807-909B-C906047D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9E9-29A0-4888-BE1D-C15F65A3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012-9742-46BC-99FE-31C5F903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D9A72-8159-40A4-B600-B413A5C9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39281-AB49-4AD5-94C2-645701DB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F0720-32E9-4C12-AC56-2E62C81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A3E1-85A9-4DCA-AF47-B5C9804F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19E99-6392-4269-A9D9-492F7375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9CEB5-42C3-4DB7-9191-33C5BA9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42D11-1847-4BB5-8948-61BDBE69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388-EC2C-432C-9282-C4517B01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0C95A-2788-42CB-A84A-6BF23E73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3D7C3-F7F9-47EA-8C6A-235FC3A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460F2-18A1-45E3-A44F-E88DCD04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F9133-B416-4F71-825A-E53DEB24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B3E4E-38BC-4C26-897F-9965A340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842-F8D3-486C-842D-86573977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4E8-3F0F-4111-9F78-80C79B1D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825-A7DF-4FFA-AEC0-8DB613D0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A4C-EA0E-4742-848C-28C8E065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E06-21B2-4ADD-98C7-52D1CEF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9A3-0DA7-4149-BD03-C3F9DDA9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898-AA9A-4502-B417-B53B85A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05C2-D1FF-4DD6-A45F-8E0A9F7E6F90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DC0B-13EF-410D-A324-371087C5D652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smejoresdestinos.com/bandera_argentina.gi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fenaboja.com/fenaboja_hp_sp/img/bandera%2520de%2520bolivia.png&amp;imgrefurl=http://www.fenaboja.com/fenaboja_hp_sp/historia_y_geografia_de_bolivia_sp.htm&amp;h=300&amp;w=450&amp;sz=10&amp;hl=es&amp;start=2&amp;um=1&amp;tbnid=MXU3lxJTfI9pPM:&amp;tbnh=85&amp;tbnw=127&amp;prev=/images%3Fq%3Dbandera%2Bboliviana%26um%3D1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l/imgres?imgurl=http://usuarios.lycos.es/elfolklorcolombiano/images/mapas/bandera%2520de%2520colombia.png&amp;imgrefurl=http://usuarios.lycos.es/elfolklorcolombiano/FOLKLOR/El%2520Escudo.htm&amp;h=360&amp;w=540&amp;sz=2&amp;hl=es&amp;start=2&amp;um=1&amp;tbnid=wZWF_n20JNocBM:&amp;tbnh=88&amp;tbnw=132&amp;prev=/images%3Fq%3Dbandera%2Bcolombiana%26um%3D1%26hl%3Des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l/imgres?imgurl=http://eurosento.files.wordpress.com/2008/01/bandera_cubana_nueva.jpg&amp;imgrefurl=http://eurosento.wordpress.com/2008/01/22/%25C2%25BFelecciones-en-cuba-%25C2%25BFpero-esto-que-es/&amp;h=302&amp;w=602&amp;sz=51&amp;hl=es&amp;start=2&amp;um=1&amp;tbnid=v97flaik4gor5M:&amp;tbnh=68&amp;tbnw=135&amp;prev=/images%3Fq%3Dbandera%2Bcubana%26um%3D1%26hl%3Des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l/imgres?imgurl=http://usuarios.lycos.es/lockinghooks/350px-Bandera_de_Chile.png&amp;imgrefurl=http://usuarios.lycos.es/lockinghooks/index3.html&amp;h=234&amp;w=350&amp;sz=4&amp;hl=es&amp;start=2&amp;um=1&amp;tbnid=_0jhSpjvFGSTiM:&amp;tbnh=80&amp;tbnw=120&amp;prev=/images%3Fq%3Dbandera%2Bchilena%26um%3D1%26hl%3Des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l/imgres?imgurl=http://www.voltairenet.org/IMG/jpg/WEB_BANDERA-ECUADOR.jpg&amp;imgrefurl=http://www.voltairenet.org/article149101.html&amp;h=293&amp;w=390&amp;sz=11&amp;hl=es&amp;start=1&amp;um=1&amp;tbnid=ZwD1f-K9492SHM:&amp;tbnh=92&amp;tbnw=123&amp;prev=/images%3Fq%3Dbandera%2Becuatoriana%26um%3D1%26hl%3Des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l/imgres?imgurl=http://hoqueiempatins.files.wordpress.com/2007/06/bandera-espana.jpg&amp;imgrefurl=http://hoqueiempatins.wordpress.com/2007/06/05/espanha-prepara-mundial-montreux-2007/&amp;h=500&amp;w=750&amp;sz=21&amp;hl=es&amp;start=3&amp;um=1&amp;tbnid=-mOvImjZICAcuM:&amp;tbnh=94&amp;tbnw=141&amp;prev=/images%3Fq%3Dbandera%2Bespa%25C3%25B1ola%26um%3D1%26hl%3Des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l/imgres?imgurl=http://www.geocities.com/latinoamericalibertaria2002/BanderaMexicana&amp;imgrefurl=http://www.geocities.com/latinoamericalibertaria2002/&amp;h=209&amp;w=365&amp;sz=12&amp;hl=es&amp;start=9&amp;um=1&amp;tbnid=KiwsRh65jjGX4M:&amp;tbnh=69&amp;tbnw=121&amp;prev=/images%3Fq%3Dbandera%2Bmexicana%26um%3D1%26hl%3Des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l/imgres?imgurl=http://www.empacol.org/site/images/stories/bandera_pma.gif&amp;imgrefurl=http://www.empacol.org/site/index.php%3Foption%3Dcontent%26task%3Dview%26id%3D17%26Itemid%3D36&amp;h=256&amp;w=384&amp;sz=4&amp;hl=es&amp;start=1&amp;um=1&amp;tbnid=0hNKJLa5WkV1yM:&amp;tbnh=82&amp;tbnw=123&amp;prev=/images%3Fq%3Dbandera%2Bpaname%25C3%25B1a%26um%3D1%26hl%3Des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l/imgres?imgurl=http://wonderfulflowers.biz/catalogo/images/bandera-paraguay.png&amp;imgrefurl=http://www.wonderfulflowers.biz/catalogo/index.php%3FcPath%3D72&amp;h=300&amp;w=500&amp;sz=3&amp;hl=es&amp;start=1&amp;um=1&amp;tbnid=c3M8VTJswXC9OM:&amp;tbnh=78&amp;tbnw=130&amp;prev=/images%3Fq%3Dbandera%2Bparaguaya%26um%3D1%26hl%3Des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l/imgres?imgurl=http://www.derecho.usmp.edu.pe/itaest2003/itaest4/bandera%2520peru.jpg&amp;imgrefurl=http://angelitadiablitax100pre.spaces.live.com/blog/cns!ADBC3D8EC80DD8C0!246.entry&amp;h=298&amp;w=413&amp;sz=25&amp;hl=es&amp;start=3&amp;um=1&amp;tbnid=V0rn9Zk3MoEaCM:&amp;tbnh=90&amp;tbnw=125&amp;prev=/images%3Fq%3Dbandera%2Bperuana%26um%3D1%26hl%3Des" TargetMode="External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885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e3e3ff"/>
                </a:solidFill>
                <a:latin typeface="Times New Roman"/>
              </a:rPr>
              <a:t>EL</a:t>
            </a:r>
            <a:br>
              <a:rPr sz="5400"/>
            </a:br>
            <a:r>
              <a:rPr b="1" i="1" lang="es-ES" sz="5400" spc="-1" strike="noStrike">
                <a:solidFill>
                  <a:srgbClr val="e3e3ff"/>
                </a:solidFill>
                <a:latin typeface="Times New Roman"/>
              </a:rPr>
              <a:t>CONVENIO ANDRÉS BELL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1066680" cy="68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60280"/>
            <a:ext cx="1143000" cy="76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04920"/>
            <a:ext cx="1066680" cy="7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260280"/>
            <a:ext cx="106668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84720" y="260280"/>
            <a:ext cx="106704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40720" y="26028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8077320" y="1341360"/>
            <a:ext cx="1066680" cy="71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0" y="27082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900000" y="4365720"/>
            <a:ext cx="1143000" cy="76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132000" y="486900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580000" y="486900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3"/>
          <a:stretch/>
        </p:blipFill>
        <p:spPr>
          <a:xfrm>
            <a:off x="7740720" y="43657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4"/>
          <a:stretch/>
        </p:blipFill>
        <p:spPr>
          <a:xfrm>
            <a:off x="8001000" y="2637000"/>
            <a:ext cx="1143000" cy="75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F1971-6AFF-4BEB-A1FC-CC94304021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228600"/>
            <a:ext cx="85345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BOGO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ogotá, 19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Fijaron las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es generales para el desarrol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ccione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s del Convenio que sirve de marc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erencia para el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mplimiento de sus tare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dicho documento se ratificó el concepto de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erman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en las áreas del CAB y, por primera vez, se h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encia a la juventud, en el sentido que las políticas y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cionar del CAB deben dirigirse fundamentalmente hacia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blación joven de la región con el fin de despertar en e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tes los valores e ideales indispensables para el logr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ta integracionist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lantea la necesidad de seguir “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desarroll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con criterio de atención intersector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siderando aspectos de salud y nutrición, garantizando de 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el principio de igualdad de oportunidades...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FFE-66B8-4579-9ED7-18AC8F179B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asi 20 años después, con la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solución 12/95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ordó: “Encomendar al Convenio Andrés Bello pa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poner un programa conjunto con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rganizaciones de Naciones Unidas, UNES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CEF y FAO, que permita promover y realiz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ciones para que los niños reciban educació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limentación y salud en los establecimien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colares.........” (Art. 2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En la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ltur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 promueve el establecimiento 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e de cada país, de políticas que contemple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dios para a difusión de los valores culturales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sto de los países del Convenio, así como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ervación, revaloración, y difus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nifestaciones culturales propias de la reg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729-0B6A-4468-92BD-82D181B89B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cuanto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iencia y la tecnolog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se plan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o condición previa al establecimiento de l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líticas antes mencionadas, lo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La fijación de una política “...que contemple (....)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os medios para el fortalecimient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fraestructura necesar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e intercambio de proyect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vestigación en sus diversas secuencias científ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la finalidad de obtener en un mediano plazo el 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eneralizado de elementos tecnológicos prop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de proyectos encaminados a instaurar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quilibrio ecológico, mediante la conserv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cursos naturales y la preservación del ambient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7A2-9823-4C0D-8E50-2F2B76DAE1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3e3ff"/>
                </a:solidFill>
                <a:latin typeface="Times New Roman"/>
              </a:rPr>
              <a:t>CARTA DE QUITO</a:t>
            </a:r>
            <a:br>
              <a:rPr sz="3200"/>
            </a:br>
            <a:r>
              <a:rPr b="0" lang="es-ES" sz="3200" spc="-1" strike="noStrike">
                <a:solidFill>
                  <a:srgbClr val="e3e3ff"/>
                </a:solidFill>
                <a:latin typeface="Times New Roman"/>
              </a:rPr>
              <a:t>Quito, 1978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1720" y="1679400"/>
            <a:ext cx="8080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principal aporte consistió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echo de haber establecido los mecanismos y ac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ermitieron la implementación de las políticas del C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unciadas en las Declaraciones anteriormente expuest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medio de las siguientes medida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La adopción de la estructura orgánica del Conven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 los organismos descentralizados y de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isiones Asesor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l Fondo de Financiami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dopción de la tabla de equivalencias de estu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aria y secundaria de los países signatari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AD9-1902-4BBB-ACD0-F8CB908E9A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5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Reconocimiento por medio de normas leg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cada país del Convenio de estudios primario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 de enseñanza básica, realizados en cualqui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signatar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6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Inicio de la armonización de las políticas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desarrollo científico-tecnológ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estudio de tecnologías apropiadas a la re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del Conven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836-991E-40ED-BA3E-AE6ADA8A0FC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42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5345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TRUCTURA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VENIO ANDRÉS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JETIV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fortalecer el papel del Convenio Andrés Bello como meca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en el objetivo de la integración, éste se acompañ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os organizacionales que pueden actuar directamente e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ción de dicho val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mente, el C.A.B. Se compone de las siguientes entidad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NIÓN DE MINISTROS DE EDUCACIÓN DE L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ES MIEMBROS DEL CONVENIO ANDRÉS BELLO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Reunión de Ministros de Educación de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embros, Remecab, es la autoridad superior de la organización.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 fijar la política del Organismo teniendo presente,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, las necesidades y las prioridades de las políticas nacionale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aíses miembros, los cambios que se observan en las rela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en los campos de la educación, la ciencia y tecnologí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ltura, énfasis en la integración region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EE2-B11B-4ECC-869C-3E7A4A77D87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ECRETARÍA EJECUTIVA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DEL CONVENIO ANDRÉS BEL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–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órgano administrativo y ejecutivo superior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. Su titular es el Secretario Ejecutivo, representante legal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su más alto funcionario administrativo. Es el respon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 la REMECAB del cumplimiento adecuado de las funcion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l CA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sede está en Bogotá y goza del reconocimiento especial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ería jurídica de derecho internacional que ejerce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ción del CAB, de acuerdo con el Tratado suscrito entre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colombiano y la SECAB, conocido como Acuerdo de Se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AB, firmado el 4 de septiembre de 197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ctual Secretario Ejecutivo de la Organización es el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cisco Huerta Montal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6EB-5CFF-4DF1-B240-37438577B4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LA COMISIÓN ASESORA PRINCIPAL –CAP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rgano técnico auxiliar de la Remecab y está conformada por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arías Nacionales, SEN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S SECRETARÍAS NACIONALES –SEN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ran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inisterios de Educación de los países signatarios. Son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rgadas de los asuntos relacionados con el Convenio en c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onstituyen en el enlace entre los gobiernos de dichos países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366-0775-49E0-A985-F5190AA38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ENTIDADES ESPECIALIZADAS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ent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izadas que tienen como objetivo contribui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opósitos integracionistas d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son las siguie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nstituto Internacional de Integración (III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 a la formación de recursos humanos al 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o nivel. Su sede se ubica en la ciudad de La Paz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ivia. www.iiicab.org.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stituto Iberoamericano de Patrimonio Natur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(IPANC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baja en el ámbito de la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iendo énfasis en las artes populares. Su sede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bica en la ciudad de Quito, Ecuad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pan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5E3-AD48-4004-875A-49D673857B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nstituto de Transferencia de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piadas para Sectores Marginales (ITACAB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 la calidad de vida de los sectores marginales a trav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desarrollo de soluciones integrales para la superac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breza. Su sede su ubica en la ciudad de Lima, Per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www.itaca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7A1-2E4F-4B1D-A558-CC9CF17258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98400" y="38088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I REUNIÓN DEL CONSEJO INTERAMERICANO CULT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ORIG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: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inistro de Educación de Colomb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ctavio  Arizmendi  Posada, presentó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dea como un compromiso multilateral, 196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CLARACIÓN DE PUERTO ESPAÑ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inidad y Tobago, 30 Junio 19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 suscribió el 31 de enero de 19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enzó a regir el 24 de noviembre de 19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ÍSES FUNDADOR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Bolivia, Chile, Colombia, Ecuador, Perú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enezue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7E9-6B06-4B0F-91D9-A238218AD3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importancia de la educación en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.A.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sta materia, se deben considerar los siguientes proyectos efectuados por el CAB a través del tiem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ARMONIZACIÓN DE LOS SISTEMAS EDUCATIV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e es un programa emblemático en el área de educación, y es el que fundamentalmente le confiere carácter integracionista al proceso desarrollado por 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7FD-67C6-4232-B85E-02ACEE970B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stori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La armonización de los sistemas educativos f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emplada en el Capítulo IV del primitivo Convenio;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us artículos 21 a 25 expresaba:”reconocer los estud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imarios o de enseñanza básica realizados en cualquier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os países signatario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art. 24, contemplaba una disposición muy novedosa,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que, lamentablemente, fue eliminada en el texto del nue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tado. Dicho artículo, planteaba como necesario planifi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 y la investigación científica y tecnológica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onancia con las necesidades de la región y princip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nte las derivadas de la integración económic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íses signa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 Tratado de la Organización del CAB, artículo 2 letr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tituye un objetivo lograr un adecuado equilibrio en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ceso de desarrollo educativo, científico,tecnológico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l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A56-3C83-488D-99EE-4192B5184A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, de acuerdo con su reglamento general, de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ener un contenido cultural” (Art. 5, letra A, Nº 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los inicios del CAB, en materia de educación 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ministros establecieron un régimen de equivalencias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nocen los certificados de estudios, tanto a nivel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 primaria o básica, como también media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. Este régimen de equivalencias fue incorp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nexo de la Resolución 03 de la XII REMECA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elebrada en Santiago de Chile en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steriormente, en el artículo 4º del Tratado-aproba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1990- los Ministros de Educación se refirie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pecíficamente al reconocimiento de estudios al expres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E37-2EED-40C8-AE63-7835D6971E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04920"/>
            <a:ext cx="861084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Estados miembros reconocerán los estudios primarios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Enseñanza General Básica y de educación media 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, mediante tablas de equivalencia que permita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inuidad de los mismos o la obtención de los certifi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rrespondientes a cursos, niveles, modalidades o g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bados en cualquiera de ellos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lo señalara en el Informe de Evaluación, Fernández,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B en materia de reconocimiento de estudios ha sido pionero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ólo en América sino en el mundo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509-22B4-4E28-97B8-DA42DD2C7B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LA ENSEÑANZA DE LA HISTORIA COMO ESTRATEGIA DE INTEGRACIÓ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l V Consejo Presidencial Andino, celebrado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acas, en mayo de 1991, recomendó a la SECAB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aboración de un programa de “Enseñanza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istoria”, con el fin de lograr una mayor concienc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onista entre nuestr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ño siguiente, la Conferencia Iberoamerican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nistros de Educación, reunida en Guadalupe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villa en junio de 1992, y la XVI REMECA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brada en agosto del mismo año en Santiag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hile, acordaron “la revisión de los program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señanza y de los libros de textos correspondie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un mejor conocimiento y comprensión de los 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íses”, hecho que da paso a la aprob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y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29F-F74E-4CC2-A58D-C66031E079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revisión de estos textos tenía como objetivo princip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veriguar la adecuación de éstos a “las exigencias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, para la paz, la comprensión internacional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fensa de los derechos fundamentales de las personas, en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rco de la Resolución 74 de la UNESC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 conclus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la enseñanza de la historia debe enfocar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onces, a la preservación y reforzamiento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ásicos del proceso integracionista, reforzando de est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respeto a la diferencia, el conocimiento de la hist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ún que nos une y la disposición a la construcción de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esente y un futuro en comun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952-CF6B-4E9D-A85E-5EDAFDC8BE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8088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200"/>
            <a:ext cx="853452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NCUENTROS DE UNIVERSIDADES CAB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la actualidad, el CAB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la participación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es de educ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 de Iberoamérica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reconocidos expertos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émicos de la región, as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e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agógicas, facultad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ción, institu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es de pedagogí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das a los Doctor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a las Cátedr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ción CAB, realizó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es de mayo del pres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ño, en Quito, Ecuador, el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o de l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dades Andrés Be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a Integ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D23-2AFF-4C83-B570-33698824BC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28600"/>
          <a:ext cx="7924680" cy="5638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7924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F71-609B-40DB-B1C4-6D468FF4D1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914400" y="2286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092-7AE0-4F70-BC37-6D774161AF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68360" y="404640"/>
          <a:ext cx="8001000" cy="53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001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3E3-B40E-438E-BF18-C65B6D9034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MBRE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“Organización del Convenio  Andrés Bell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ón educativa, científica, tecnológica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ultural.” En reconocimiento al insigne human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mericano.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ÍSES MIEMBR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Argentina), Bolivia, Colombia, Cuba, Chi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paña, México, Panamá, Paraguay, Per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pública Dominicana, Venezuela y Ecu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DHESION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Panamá en 1980 y España en 1982 suscribe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tocolo de Adhesión. Ingresa como miemb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leno en 1990.Cuba adhiere en 20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éxico adhiere en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FF5-2DDF-406D-9C46-10E97BDCAC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762120" y="228600"/>
          <a:ext cx="800100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E46-B62A-4BD6-8A78-0D391EC9F0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863640" y="304920"/>
          <a:ext cx="7746840" cy="5790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304920"/>
                    <a:ext cx="77468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09E-E6AC-4CED-B4AE-2B3AAD6654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 IMPORTANCIA DE LA CULTURA EN  EL C.A.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El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Área de Cultura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ha emprendido la tarea de gener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enarios de reflexión y debate donde la temática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bedezca a la calidad de la formación o ejercicio pedagó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que las comunidades reciben respecto de la gestión cultu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OYECT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n este punto, especial mención mer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Premio CAB Somos Patrimonio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ste premio internacional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 actualidad cuenta con VI convocatorias realizadas y más de 1300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xperiencias registradas de toda la región, es una estrategia que el CAB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sarrolla desde el año 1996, con la intención de identificar, valorar y difundir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patrimonio natural y cultural de los países miembros, con especial énfasis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s experiencias comunitarias de apropiación social del patrimonio, co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rategia de desarroll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567-036C-4101-98EA-08796C6254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Las industrias culturales en sus dimensiones económ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ocial: 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jemplo de éstos son telenovelas, géneros music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 Fortalecer los procesos de desarrollo social local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ravés de la 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de manera que la cultura sea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 motor del desarrollo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08C-45A7-43F7-9AEC-F4D911A6E2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843280" y="620280"/>
            <a:ext cx="630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CO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ndecoración “Secretaría Ejecutiva del Conven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drés Bello” en su categoría  máxima de Honor al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érito, le fue conferida a la Presidenta Michelle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chelet, el  18 de  abril de 2007, en su visita oficial a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lombia, con motivo de la 20º Feria Internacional del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ro de Bogotá, donde Chile figuró como invitado d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ndecoración le fue entregada por la Ministra de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ción de Paraguay, en su calidad de President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REME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916280"/>
          <a:ext cx="224928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224928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B03-19E0-4FDB-B9D8-47B0A25847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286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1.-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imular el conocimiento recíproco y la fraternidad entre e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ntribuir al logro de un adecuado equilibrio en el proceso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sarrollo educativo, científico, tecnológico y cultur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Realizar esfuerzos conjuntos a favor de la educación, la cienci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tecnología, y la cultura para lograr el desarrollo integral de s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plicar la ciencia y la tecnología a la elevación del nivel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sus pueblos, según Resolución Nº 05/90 (Art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tribución al proceso de integración fue fortalecida por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Cartagena dado el retroceso que se produjo en la déca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1980, con motivo del problema que generó la deuda externa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érica Lat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9C4-ABC9-42A2-904B-112A0FF1E1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ma, 05 Febrero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re sus aportes cabe mencion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RCO DOCTRINARI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filosofía que inspiró este fenómen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tegración fue la Declaración de Lima de 5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ebrero de 1971, que contiene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l Planteamiento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Doctrinario Común Sobre Política Cultur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ducacional y Tecnológica de los países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signatarios del Convenio Andrés Bell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su Considerando 1º estableció el principi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cual radica la filosofía del CAB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a conqui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y la afirmación de la independencia cultura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os países de la región y la integración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ueblos para lograr su bienestar material y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spiritual”,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bjetivo fundamental del Conve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TRIBUCIÓN A LAS RR E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 destacan, tanto su ampliación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simismo, los vínculos de co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otros procesos de integración, como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RO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2F7-2702-4D67-A793-6894C6E072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EA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1.- Educación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pone énfasis en la importancia de la formulación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líticas educativas como parte de un proces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nsformación integral de las estructuras socio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conómicas que tengan como finalidad la particip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tiva de la población  y la eliminación de estructura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der que coarten el desarrollo y la libertad individ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Cultura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Se establece como prioridad el fomento de la capac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readora de la población y la importancia en este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ooperación nacional como regional, idea que s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iendo una aspi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, la Declaración de Lima, enfatiza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ortancia que se debe dar a una política de “cre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vechamiento y asimilación selectiva de los bie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ultura”, de manera que éstos queden al servic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valores y tradiciones de nuestra 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tinoamericana y que, a su vez, hagan de nexo entre é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valores y los avances del conoc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921-6392-4160-B1DD-A07D61EB61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53352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- Ciencia y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pone que la orient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s políticas respectivas a estas áreas se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strumentos a disposición del desarrollo económic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cial y cultural de los paí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AL ENFASI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iste en la preocupación por el hombre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bregión Andina, idea que fue explícitamente reit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Declaración de Quit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de la X REMECAB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énfasis debe ser puesto en la promoción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sarrollo humano, concepto que se ha mant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igente hasta a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C90-2618-40CD-8DD2-5202FDF815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762120"/>
            <a:ext cx="81694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NSO DE CARA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acas, 19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e se refirió a la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olítica Educacional del Á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dina”,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fatizando el concepto de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render a Ser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ciones Uni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e supone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un desarrollo correlativo de la capacid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ítica y creativa, conceptos plenamente vigentes en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ormas educativas implementadas por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tinoameric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e plantea la necesidad de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r un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rácter social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so educativo, en el sentido de que es la sociedad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junto la que debe involucrarse en éste, como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de expandir las posibilidades de desarrollo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nd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8F6-C643-4B78-9B5D-E7BB73CAAB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l como se planteara en dicha ocasión “...t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orma educacional debe inspirarse en el 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“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Educación Permane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”, lo cual significa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es escuela tradicionalmente concebida, el ú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aislado lugar en que el hombre debe y pue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rse, sino que han de proporcionársele nue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diversificadas posibilidades educativas,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ra que la sociedad en su conjunto sea u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n escuela durante toda la vida del ser humano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B32-E9C0-4A3D-A9EC-FF7BBA21C8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8:19:56Z</dcterms:created>
  <dc:creator>Iris Vittini</dc:creator>
  <dc:description/>
  <dc:language>en-US</dc:language>
  <cp:lastModifiedBy>Judith María Baeza Henríquez</cp:lastModifiedBy>
  <dcterms:modified xsi:type="dcterms:W3CDTF">2009-07-24T04:46:43Z</dcterms:modified>
  <cp:revision>39</cp:revision>
  <dc:subject/>
  <dc:title>MERCOSUR</dc:title>
</cp:coreProperties>
</file>