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8580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746280" y="742680"/>
            <a:ext cx="53654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64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940896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884400" y="940896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0DFB-DC68-4095-83B3-530DF1514C3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9408960"/>
            <a:ext cx="297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C860-4B7B-42CA-864C-1CD1DA86839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746280" y="743040"/>
            <a:ext cx="5365440" cy="37148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64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9B026-FDE0-4B90-A668-094F234071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9800" y="3829680"/>
            <a:ext cx="8915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C76E4-EA26-4219-B073-28EBCEC9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68200" y="119664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9800" y="382968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68200" y="382968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8D234-3765-4CE4-BE7B-624D6BEA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287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4440" y="1196640"/>
            <a:ext cx="287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9080" y="1196640"/>
            <a:ext cx="287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9800" y="3829680"/>
            <a:ext cx="287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4440" y="3829680"/>
            <a:ext cx="287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9080" y="3829680"/>
            <a:ext cx="287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C5061-E1E0-4579-AB99-95A6375DB6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42AD4-83A2-4A99-8947-62D56102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6DC20-0A37-4B47-826F-F2B6D943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4350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68200" y="1196640"/>
            <a:ext cx="4350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9A06D-7B09-4231-80A6-B0B28A46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25A9-0DC3-496C-B894-808B2CB4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9800" y="0"/>
            <a:ext cx="89154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5F1E1-4551-4456-8228-4DE93136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68200" y="1196640"/>
            <a:ext cx="4350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9800" y="382968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82859-A62B-4B5C-BD44-1F41BBBF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4350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68200" y="119664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68200" y="382968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D9B69-F728-4A4C-B1A9-83B07FD6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68200" y="119664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9800" y="3829680"/>
            <a:ext cx="8915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ABBED-56D7-423F-8680-3F4A6EE5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9"/>
          <p:cNvSpPr/>
          <p:nvPr/>
        </p:nvSpPr>
        <p:spPr>
          <a:xfrm>
            <a:off x="250920" y="6324480"/>
            <a:ext cx="8740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1058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"/>
          <p:cNvPicPr/>
          <p:nvPr/>
        </p:nvPicPr>
        <p:blipFill>
          <a:blip r:embed="rId3"/>
          <a:stretch/>
        </p:blipFill>
        <p:spPr>
          <a:xfrm>
            <a:off x="0" y="6743880"/>
            <a:ext cx="9882360" cy="11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00160" y="6308280"/>
            <a:ext cx="2520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B92B-946F-4089-A61F-5C14D8B547D3}" type="datetime">
              <a:rPr b="0" lang="es-ES" sz="1400" spc="-1" strike="noStrike">
                <a:solidFill>
                  <a:srgbClr val="333399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81960" y="626544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 u="sng">
                <a:solidFill>
                  <a:srgbClr val="333399"/>
                </a:solidFill>
                <a:uFillTx/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5FE8-C12C-4FCD-BBC0-9651E88CB41A}" type="slidenum">
              <a:rPr b="0" lang="es-ES" sz="1400" spc="-1" strike="noStrike" u="sng">
                <a:solidFill>
                  <a:srgbClr val="33339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30" descr=""/>
          <p:cNvPicPr/>
          <p:nvPr/>
        </p:nvPicPr>
        <p:blipFill>
          <a:blip r:embed="rId4"/>
          <a:stretch/>
        </p:blipFill>
        <p:spPr>
          <a:xfrm>
            <a:off x="9156600" y="0"/>
            <a:ext cx="749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15800" y="1989000"/>
            <a:ext cx="828036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Arial Black"/>
              </a:rPr>
              <a:t>Comunidad Andi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Arial Black"/>
              </a:rPr>
              <a:t>De Naciones .CA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488880" y="333360"/>
            <a:ext cx="2133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RIBUNAL JUSTICIA COMUNIDAD ANDI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rgano jurisdiccion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 magistrado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entencias -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requieren  exequátu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anente- No  ad-ho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de: Quito-Ecuado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ligatorio: Estados-  organismos y  particulares acuden solo al Tribunal no pueden acudir a otro Tribunal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ntencias  del Tribunal son obligatoria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tocolo de Cochabamba: suscrito 28  mayo 1996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tocolo Modificatorio del Tratado de Creación del Tribunal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lateral_1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ACCION DE INCUMPLIMIEN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uesta de dos fases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 previa  ante  Secretaría General y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judicial  ante  Tribunal Andino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ase Previa ante Secretaría Genera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e inicia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-de oficio por la Secretaría General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-por reclamos presentados por Países Miembros            .  -particulares afectados en sus derechos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tapa previa concluye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n  emisión de un Dictamen motivado de  Secretaría General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No procede recurso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lateral_2"/>
          <p:cNvPicPr/>
          <p:nvPr/>
        </p:nvPicPr>
        <p:blipFill>
          <a:blip r:embed="rId1"/>
          <a:stretch/>
        </p:blipFill>
        <p:spPr>
          <a:xfrm>
            <a:off x="0" y="0"/>
            <a:ext cx="92012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ACCION DE INCUMPLIMIEN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acción de incumplimiento: Procede cuando un país miembro  no cumple  normas comunitaria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mplido procedimiento previo ante  Secretaría General. Y si  incumplimiento persiste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uede demandar a  país de incumplimiento ante TJCAN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eden demandar: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íses miembros 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rganismos de la Comunida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cretaría General y 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articulares  afectados con el incumplimiento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Tribunal de Justicia de CAN dicta sentencia en  que declara o no el incumplimiento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En caso de incumplimiento señala medidas que deben ser adoptadas por  País Miembro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Sentencia no requiere trámite judicial  para tener fuerza en  País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Miembro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ACCION DE NULID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ción de Nulida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TJCA puede anular actos de órganos comunitarios cuando son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mitidos en contravención a las  disposiciones comunitarias de jerarquía  superior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elimina del Orden jurídico y las declara nulas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ción puede ser interpuesta por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órganos comunitario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País Miembro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ticulares interesado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INTERPRETACION PREJUDIC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erpretación Prejudi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instancia de un juez nacional, el TJCA interpreta por vía prejudicial las  normas comunitarias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jeto:   evitar que los jueces de distintos países den un sentido distinto a las normas comunitaria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ueces de  países miembros: cuando aplican  norma comunitaria 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spenden  proceso y solicitan al TJCAN por consulta: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Interprete la norma comunitaria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pretación que debe ser cumplida y aplicada en forma obligatoria por los jueces nacionale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unción: unificar  Derecho Comunitario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RECURSO POR OMISIÓN O INACTIVIDAD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urso por Omisión o Inactivida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TJCA puede requerir que un órgano comunitario cumpla una obligació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rivada del ordenamiento comunitario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rso: Se plantea cuando órganos de CAN no dan cumplimiento a  una función a la que están obligado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interpone cuando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Consejo Andino de Ministros de Relaciones Exterior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Comisión de la Comunidad Andina o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Secretaría General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No cumplan una actividad a la que están    obligados   por  el ordenamiento jurídico de  CAN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órganos, los Países Miembros o  las personas  naturales o jurídicas, podrán requerir el cumplimiento de dichas obligacione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rso establecido en  Protocolo de Cochabamba. 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RISDICCIÓN LABOR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ompetencia otorgada al Tribunal por  Protocolo de Cochabamba: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onocer  controversias laborales entre los órganos e instituciones del SAI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Los órganos del SAI ejercen sus funciones y competencias a través de personas naturales que contratan como  trabajador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              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FUNCIÓN ARBITRAL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unción arbitral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rimir   por arbitraj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ontroversias que se susciten por aplicación o interpretación de contratos, convenios o acuerdos, suscritos entre órganos e instituciones del SAI o entre éstos y terceros, cuando  partes  lo acuerden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 las  derivadas de los  particulares por contratos de carácter  privado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ión arbitral introducida por  Protocolo de Cochabamba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5" name="Picture 4" descr="MapaNew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7772400" y="0"/>
            <a:ext cx="2133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4520" y="1557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065240" y="184464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 Black"/>
              </a:rPr>
              <a:t>ESTRUCTURA INSTITUCIONAL  </a:t>
            </a:r>
            <a:r>
              <a:rPr b="1" lang="es-ES" sz="5400" spc="-1" strike="noStrike">
                <a:solidFill>
                  <a:srgbClr val="000000"/>
                </a:solidFill>
                <a:latin typeface="Arial Black"/>
              </a:rPr>
              <a:t> COMUNIDAD ANDI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4520" y="1557360"/>
            <a:ext cx="835344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31800" y="269892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man Old Style"/>
              </a:rPr>
              <a:t>SISTEMA ANDINO DE INTEGRACIÓN (SA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ISTEMA ANDINO DE INTEGRAC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704880" y="1268280"/>
          <a:ext cx="777888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Sistema Andino de Integración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268280"/>
                    <a:ext cx="777888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390400"/>
            <a:ext cx="916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73160" y="2637000"/>
            <a:ext cx="693432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Black"/>
                <a:ea typeface="Arial"/>
              </a:rPr>
              <a:t>ORDENAMIENTO JURÍDICO COMUNIDAD ANDINA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 flipH="1">
            <a:off x="382680" y="5791320"/>
            <a:ext cx="5943600" cy="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 flipH="1">
            <a:off x="382680" y="6095880"/>
            <a:ext cx="5943600" cy="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Derecho Primario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El Acuerdo de Cartagena, sus protocolos e instrumentos adicionale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Tratado creación Tribunal Justicia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Derecho Secundario o Derivado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Las Decisiones del Consejo Andino de Ministros de Relaciones Exteriores y la  Comisión de la </a:t>
            </a: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Comunidad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Andina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Las Resoluciones de la Secretaría General de la </a:t>
            </a: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Comunidad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Andina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La Decisión 472, que codifica el órgano jurisdiccional y los medios de solución de </a:t>
            </a: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controversia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Los convenios de complementación Industrial y otros que adopten los países  miembros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RDENAMIENTO JURÍDICO OBLIGATOR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Ordenamiento jurídico obligatorio de  CAN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Sentencia     TJCA Junio 1999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El ordenamiento jurídico del Acuerdo de Cartagena es imperativo, y, como tal, de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aplicación obligatoria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por los órganos del Acuerdo, por todos lo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Paíse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Miembros comprometidos con ese régimen, por lo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funcionari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que en éstos ejercen atribuciones conforme a dicho ordenamiento, y aun para lo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particulare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”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390400"/>
            <a:ext cx="916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561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00000"/>
                </a:solidFill>
                <a:latin typeface="Arial Black"/>
              </a:rPr>
              <a:t>SISTEMA</a:t>
            </a:r>
            <a:endParaRPr b="0" lang="en-US" sz="6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 Black"/>
              </a:rPr>
              <a:t>SOLUCIÓN CONTROVERSIAS  COMUNIDAD ANDINA</a:t>
            </a:r>
            <a:endParaRPr b="0" lang="en-US" sz="6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 flipH="1">
            <a:off x="382680" y="5791320"/>
            <a:ext cx="5943600" cy="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 flipH="1">
            <a:off x="382680" y="6095880"/>
            <a:ext cx="5943600" cy="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2:19:38Z</dcterms:created>
  <dc:creator>Juan E Chirinos</dc:creator>
  <dc:description/>
  <dc:language>en-US</dc:language>
  <cp:lastModifiedBy>Judith María Baeza Henríquez</cp:lastModifiedBy>
  <dcterms:modified xsi:type="dcterms:W3CDTF">2008-11-16T15:58:51Z</dcterms:modified>
  <cp:revision>392</cp:revision>
  <dc:subject/>
  <dc:title>PowerPoint Presentation</dc:title>
</cp:coreProperties>
</file>