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907588" cy="6858000"/>
  <p:notesSz cx="68580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746280" y="742680"/>
            <a:ext cx="536544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704840"/>
            <a:ext cx="548640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4"/>
          </p:nvPr>
        </p:nvSpPr>
        <p:spPr>
          <a:xfrm>
            <a:off x="-360" y="9408960"/>
            <a:ext cx="2971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5"/>
          </p:nvPr>
        </p:nvSpPr>
        <p:spPr>
          <a:xfrm>
            <a:off x="3884400" y="9408960"/>
            <a:ext cx="2971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92F58-2FC8-49C7-ADBA-AEE6FB768D8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9408960"/>
            <a:ext cx="2971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3A61C-2FF8-4056-9E8A-EB184269E15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746280" y="743040"/>
            <a:ext cx="5365440" cy="37148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704840"/>
            <a:ext cx="54864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ABA52-9A60-4141-A0AC-36D51F697C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9800" y="0"/>
            <a:ext cx="8915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9800" y="1196640"/>
            <a:ext cx="89154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9800" y="3829680"/>
            <a:ext cx="89154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0971B-14C5-4DF6-9F36-D7E9D84F6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9800" y="0"/>
            <a:ext cx="8915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99800" y="1196640"/>
            <a:ext cx="4350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68200" y="1196640"/>
            <a:ext cx="4350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99800" y="3829680"/>
            <a:ext cx="4350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68200" y="3829680"/>
            <a:ext cx="4350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1E193-6F2D-40D8-A97E-1493BAAA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9800" y="0"/>
            <a:ext cx="8915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99800" y="1196640"/>
            <a:ext cx="287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4440" y="1196640"/>
            <a:ext cx="287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29080" y="1196640"/>
            <a:ext cx="287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99800" y="3829680"/>
            <a:ext cx="287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4440" y="3829680"/>
            <a:ext cx="287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29080" y="3829680"/>
            <a:ext cx="287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B2761-4D0D-48F8-9F18-207B25D4B1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9800" y="0"/>
            <a:ext cx="8915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99800" y="1196640"/>
            <a:ext cx="89154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B4891-D3CB-496B-AEDB-A6B693632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9800" y="0"/>
            <a:ext cx="8915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9800" y="1196640"/>
            <a:ext cx="8915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EA844-6A4A-408C-AED8-DA54E2731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9800" y="0"/>
            <a:ext cx="8915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99800" y="1196640"/>
            <a:ext cx="4350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68200" y="1196640"/>
            <a:ext cx="4350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60496-A80E-4637-9834-B7A1D6981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9800" y="0"/>
            <a:ext cx="8915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D1C75-AC99-4698-8712-7DA5D9108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99800" y="0"/>
            <a:ext cx="891540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7E8A3-19CA-4F26-AAA5-9B1AEFD6C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9800" y="0"/>
            <a:ext cx="8915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99800" y="1196640"/>
            <a:ext cx="4350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68200" y="1196640"/>
            <a:ext cx="4350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99800" y="3829680"/>
            <a:ext cx="4350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95037-25A2-4A61-BE1E-B353D4C4C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9800" y="0"/>
            <a:ext cx="8915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99800" y="1196640"/>
            <a:ext cx="4350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68200" y="1196640"/>
            <a:ext cx="4350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68200" y="3829680"/>
            <a:ext cx="4350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DCC9C-AA1F-401B-AFBD-2769C133A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9800" y="0"/>
            <a:ext cx="8915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9800" y="1196640"/>
            <a:ext cx="4350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68200" y="1196640"/>
            <a:ext cx="4350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99800" y="3829680"/>
            <a:ext cx="89154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00854-C6F4-4F1A-A631-52F7EB3B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9"/>
          <p:cNvSpPr/>
          <p:nvPr/>
        </p:nvSpPr>
        <p:spPr>
          <a:xfrm>
            <a:off x="250920" y="6324480"/>
            <a:ext cx="87408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296280" cy="1058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1" descr=""/>
          <p:cNvPicPr/>
          <p:nvPr/>
        </p:nvPicPr>
        <p:blipFill>
          <a:blip r:embed="rId3"/>
          <a:stretch/>
        </p:blipFill>
        <p:spPr>
          <a:xfrm>
            <a:off x="0" y="6743880"/>
            <a:ext cx="9882360" cy="11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9800" y="0"/>
            <a:ext cx="8915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9800" y="1196640"/>
            <a:ext cx="8915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00160" y="6308280"/>
            <a:ext cx="2520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D1A1-DD49-4E69-A120-6DDAEDAA55B0}" type="datetime">
              <a:rPr b="0" lang="es-ES" sz="1400" spc="-1" strike="noStrike">
                <a:solidFill>
                  <a:srgbClr val="333399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681960" y="626544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 u="sng">
                <a:solidFill>
                  <a:srgbClr val="333399"/>
                </a:solidFill>
                <a:uFillTx/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EF7A8-4922-4C22-923F-0047CA534D6E}" type="slidenum">
              <a:rPr b="0" lang="es-ES" sz="1400" spc="-1" strike="noStrike" u="sng">
                <a:solidFill>
                  <a:srgbClr val="333399"/>
                </a:solidFill>
                <a:uFillTx/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30" descr=""/>
          <p:cNvPicPr/>
          <p:nvPr/>
        </p:nvPicPr>
        <p:blipFill>
          <a:blip r:embed="rId4"/>
          <a:stretch/>
        </p:blipFill>
        <p:spPr>
          <a:xfrm>
            <a:off x="9156600" y="0"/>
            <a:ext cx="7495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415800" y="1989000"/>
            <a:ext cx="8280360" cy="29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s-ES_tradnl" sz="5400" spc="-1" strike="noStrike">
                <a:solidFill>
                  <a:srgbClr val="000000"/>
                </a:solidFill>
                <a:latin typeface="Arial Black"/>
              </a:rPr>
              <a:t>Comunidad Andin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s-ES_tradnl" sz="5400" spc="-1" strike="noStrike">
                <a:solidFill>
                  <a:srgbClr val="000000"/>
                </a:solidFill>
                <a:latin typeface="Arial Black"/>
              </a:rPr>
              <a:t>De Naciones .CA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8" descr=""/>
          <p:cNvPicPr/>
          <p:nvPr/>
        </p:nvPicPr>
        <p:blipFill>
          <a:blip r:embed="rId1"/>
          <a:stretch/>
        </p:blipFill>
        <p:spPr>
          <a:xfrm>
            <a:off x="488880" y="333360"/>
            <a:ext cx="21337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9800" y="0"/>
            <a:ext cx="8915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TRIBUNAL JUSTICIA COMUNIDAD ANDIN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99800" y="1196640"/>
            <a:ext cx="8915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Órgano jurisdicciona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 magistrados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Sentencias -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 requieren  exequátur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ermanente- No  ad-hoc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de: Quito-Ecuador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bligatorio: Estados-  organismos y  particulares acuden solo al Tribunal no pueden acudir a otro Tribunal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ntencias  del Tribunal son obligatorias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tocolo de Cochabamba: suscrito 28  mayo 1996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tocolo Modificatorio del Tratado de Creación del Tribunal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9800" y="0"/>
            <a:ext cx="8915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4" descr="lateral_1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9800" y="0"/>
            <a:ext cx="8915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ACCION DE INCUMPLIMIENT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99800" y="1196640"/>
            <a:ext cx="8915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mpuesta de dos fases: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a  previa  ante  Secretaría General y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a judicial  ante  Tribunal Andino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Fase Previa ante Secretaría Genera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Se inicia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-de oficio por la Secretaría General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-por reclamos presentados por Países Miembros            .  -particulares afectados en sus derechos.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Etapa previa concluye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con  emisión de un Dictamen motivado de  Secretaría General.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No procede recurso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9800" y="0"/>
            <a:ext cx="8915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4" descr="lateral_2"/>
          <p:cNvPicPr/>
          <p:nvPr/>
        </p:nvPicPr>
        <p:blipFill>
          <a:blip r:embed="rId1"/>
          <a:stretch/>
        </p:blipFill>
        <p:spPr>
          <a:xfrm>
            <a:off x="0" y="0"/>
            <a:ext cx="9201240" cy="66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9800" y="0"/>
            <a:ext cx="8915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ACCION DE INCUMPLIMIENT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99800" y="1196640"/>
            <a:ext cx="8915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acción de incumplimiento: Procede cuando un país miembro  no cumple  normas comunitarias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mplido procedimiento previo ante  Secretaría General. Y si  incumplimiento persiste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puede demandar a  país de incumplimiento ante TJCAN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ueden demandar: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aíses miembros 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rganismos de la Comunidad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cretaría General y 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particulares  afectados con el incumplimiento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Tribunal de Justicia de CAN dicta sentencia en  que declara o no el incumplimiento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En caso de incumplimiento señala medidas que deben ser adoptadas por  País Miembro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Sentencia no requiere trámite judicial  para tener fuerza en  País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Miembros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9800" y="0"/>
            <a:ext cx="8915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ACCION DE NULIDA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99800" y="1196640"/>
            <a:ext cx="8915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cción de Nulidad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TJCA puede anular actos de órganos comunitarios cuando son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mitidos en contravención a las  disposiciones comunitarias de jerarquía  superior.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s elimina del Orden jurídico y las declara nulas.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cción puede ser interpuesta por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órganos comunitario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 País Miembro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articulares interesados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9800" y="0"/>
            <a:ext cx="8915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INTERPRETACION PREJUDICI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99800" y="1196640"/>
            <a:ext cx="891540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terpretación Prejudicia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instancia de un juez nacional, el TJCA interpreta por vía prejudicial las  normas comunitarias.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bjeto:   evitar que los jueces de distintos países den un sentido distinto a las normas comunitaria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Jueces de  países miembros: cuando aplican  norma comunitaria 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uspenden  proceso y solicitan al TJCAN por consulta: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Que Interprete la norma comunitaria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terpretación que debe ser cumplida y aplicada en forma obligatoria por los jueces nacionales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unción: unificar  Derecho Comunitario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RECURSO POR OMISIÓN O INACTIVIDAD-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915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curso por Omisión o Inactividad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TJCA puede requerir que un órgano comunitario cumpla una obligación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rivada del ordenamiento comunitario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curso: Se plantea cuando órganos de CAN no dan cumplimiento a  una función a la que están obligados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interpone cuando: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Consejo Andino de Ministros de Relaciones Exterior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Comisión de la Comunidad Andina o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Secretaría General: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No cumplan una actividad a la que están    obligados   por  el ordenamiento jurídico de  CAN;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órganos, los Países Miembros o  las personas  naturales o jurídicas, podrán requerir el cumplimiento de dichas obligaciones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curso establecido en  Protocolo de Cochabamba. 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9800" y="0"/>
            <a:ext cx="8915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JURISDICCIÓN LABOR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99800" y="1196640"/>
            <a:ext cx="8915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Competencia otorgada al Tribunal por  Protocolo de Cochabamba: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Conocer  controversias laborales entre los órganos e instituciones del SAI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Los órganos del SAI ejercen sus funciones y competencias a través de personas naturales que contratan como  trabajador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9800" y="0"/>
            <a:ext cx="8915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 Black"/>
              </a:rPr>
              <a:t>              </a:t>
            </a:r>
            <a:r>
              <a:rPr b="0" lang="es-ES" sz="2400" spc="-1" strike="noStrike">
                <a:solidFill>
                  <a:srgbClr val="ffffff"/>
                </a:solidFill>
                <a:latin typeface="Arial Black"/>
              </a:rPr>
              <a:t>FUNCIÓN ARBITRAL 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99800" y="1196640"/>
            <a:ext cx="8915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unción arbitral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irimir   por arbitraje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s controversias que se susciten por aplicación o interpretación de contratos, convenios o acuerdos, suscritos entre órganos e instituciones del SAI o entre éstos y terceros, cuando  partes  lo acuerden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Y las  derivadas de los  particulares por contratos de carácter  privado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unción arbitral introducida por  Protocolo de Cochabamba.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9800" y="0"/>
            <a:ext cx="8915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9800" y="1196640"/>
            <a:ext cx="8915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5" name="Picture 4" descr="MapaNew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2"/>
          <a:stretch/>
        </p:blipFill>
        <p:spPr>
          <a:xfrm>
            <a:off x="7772400" y="0"/>
            <a:ext cx="21337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44520" y="1557360"/>
            <a:ext cx="8353440" cy="47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1065240" y="1844640"/>
            <a:ext cx="741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1" lang="es-ES" sz="5400" spc="-1" strike="noStrike">
                <a:solidFill>
                  <a:srgbClr val="000000"/>
                </a:solidFill>
                <a:latin typeface="Arial Black"/>
              </a:rPr>
              <a:t>ESTRUCTURA INSTITUCIONAL  </a:t>
            </a:r>
            <a:r>
              <a:rPr b="1" lang="es-ES" sz="5400" spc="-1" strike="noStrike">
                <a:solidFill>
                  <a:srgbClr val="000000"/>
                </a:solidFill>
                <a:latin typeface="Arial Black"/>
              </a:rPr>
              <a:t> COMUNIDAD ANDIN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4520" y="1557360"/>
            <a:ext cx="8353440" cy="37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631800" y="2698920"/>
            <a:ext cx="813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Bookman Old Style"/>
              </a:rPr>
              <a:t>SISTEMA ANDINO DE INTEGRACIÓN (SAI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9800" y="0"/>
            <a:ext cx="8915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SISTEMA ANDINO DE INTEGRAC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2" name="Object 3"/>
          <p:cNvGraphicFramePr/>
          <p:nvPr/>
        </p:nvGraphicFramePr>
        <p:xfrm>
          <a:off x="704880" y="1268280"/>
          <a:ext cx="7778880" cy="482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3" descr="Sistema Andino de Integración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1268280"/>
                    <a:ext cx="7778880" cy="48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390400"/>
            <a:ext cx="9163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073160" y="2637000"/>
            <a:ext cx="6934320" cy="30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 Black"/>
                <a:ea typeface="Arial"/>
              </a:rPr>
              <a:t>ORDENAMIENTO JURÍDICO COMUNIDAD ANDINA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Line 4"/>
          <p:cNvSpPr/>
          <p:nvPr/>
        </p:nvSpPr>
        <p:spPr>
          <a:xfrm flipH="1">
            <a:off x="382680" y="5791320"/>
            <a:ext cx="5943600" cy="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5"/>
          <p:cNvSpPr/>
          <p:nvPr/>
        </p:nvSpPr>
        <p:spPr>
          <a:xfrm flipH="1">
            <a:off x="382680" y="6095880"/>
            <a:ext cx="5943600" cy="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9800" y="0"/>
            <a:ext cx="8915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9800" y="1196640"/>
            <a:ext cx="8915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Black"/>
              </a:rPr>
              <a:t>Derecho Primario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Black"/>
              </a:rPr>
              <a:t>El Acuerdo de Cartagena, sus protocolos e instrumentos adicionales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Tratado creación Tribunal Justicia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Black"/>
              </a:rPr>
              <a:t>Derecho Secundario o Derivado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Black"/>
              </a:rPr>
              <a:t>Las Decisiones del Consejo Andino de Ministros de Relaciones Exteriores y la  Comisión de la </a:t>
            </a:r>
            <a:r>
              <a:rPr b="1" lang="es-ES" sz="2000" spc="-1" strike="noStrike">
                <a:solidFill>
                  <a:srgbClr val="000000"/>
                </a:solidFill>
                <a:latin typeface="Arial Black"/>
              </a:rPr>
              <a:t>Comunidad</a:t>
            </a:r>
            <a:r>
              <a:rPr b="0" lang="es-E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 Black"/>
              </a:rPr>
              <a:t>Andina</a:t>
            </a:r>
            <a:r>
              <a:rPr b="0" lang="es-E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Black"/>
              </a:rPr>
              <a:t>Las Resoluciones de la Secretaría General de la </a:t>
            </a:r>
            <a:r>
              <a:rPr b="1" lang="es-ES" sz="2000" spc="-1" strike="noStrike">
                <a:solidFill>
                  <a:srgbClr val="000000"/>
                </a:solidFill>
                <a:latin typeface="Arial Black"/>
              </a:rPr>
              <a:t>Comunidad</a:t>
            </a:r>
            <a:r>
              <a:rPr b="0" lang="es-E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 Black"/>
              </a:rPr>
              <a:t>Andina</a:t>
            </a:r>
            <a:r>
              <a:rPr b="0" lang="es-E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Black"/>
              </a:rPr>
              <a:t>La Decisión 472, que codifica el órgano jurisdiccional y los medios de solución de </a:t>
            </a:r>
            <a:r>
              <a:rPr b="1" lang="es-ES" sz="2000" spc="-1" strike="noStrike">
                <a:solidFill>
                  <a:srgbClr val="000000"/>
                </a:solidFill>
                <a:latin typeface="Arial Black"/>
              </a:rPr>
              <a:t>controversia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Black"/>
              </a:rPr>
              <a:t>Los convenios de complementación Industrial y otros que adopten los países  miembros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9800" y="0"/>
            <a:ext cx="8915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ORDENAMIENTO JURÍDICO OBLIGATORI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9800" y="1196640"/>
            <a:ext cx="8915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Ordenamiento jurídico obligatorio de  CAN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Sentencia     TJCA Junio 1999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El ordenamiento jurídico del Acuerdo de Cartagena es imperativo, y, como tal, de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aplicación obligatoria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por los órganos del Acuerdo, por todos los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Países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 Miembros comprometidos con ese régimen, por los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funcionarios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 que en éstos ejercen atribuciones conforme a dicho ordenamiento, y aun para los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particulares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”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390400"/>
            <a:ext cx="9163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0" y="1052640"/>
            <a:ext cx="9561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600" spc="-1" strike="noStrike">
                <a:solidFill>
                  <a:srgbClr val="000000"/>
                </a:solidFill>
                <a:latin typeface="Arial Black"/>
              </a:rPr>
              <a:t>SISTEMA</a:t>
            </a:r>
            <a:endParaRPr b="0" lang="en-US" sz="66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600" spc="-1" strike="noStrike">
                <a:solidFill>
                  <a:srgbClr val="000000"/>
                </a:solidFill>
                <a:latin typeface="Arial Black"/>
              </a:rPr>
              <a:t>SOLUCIÓN CONTROVERSIAS  COMUNIDAD ANDINA</a:t>
            </a:r>
            <a:endParaRPr b="0" lang="en-US" sz="6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Line 4"/>
          <p:cNvSpPr/>
          <p:nvPr/>
        </p:nvSpPr>
        <p:spPr>
          <a:xfrm flipH="1">
            <a:off x="382680" y="5791320"/>
            <a:ext cx="5943600" cy="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5"/>
          <p:cNvSpPr/>
          <p:nvPr/>
        </p:nvSpPr>
        <p:spPr>
          <a:xfrm flipH="1">
            <a:off x="382680" y="6095880"/>
            <a:ext cx="5943600" cy="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0T12:19:38Z</dcterms:created>
  <dc:creator>Juan E Chirinos</dc:creator>
  <dc:description/>
  <dc:language>en-US</dc:language>
  <cp:lastModifiedBy>Judith María Baeza Henríquez</cp:lastModifiedBy>
  <dcterms:modified xsi:type="dcterms:W3CDTF">2008-11-16T15:58:51Z</dcterms:modified>
  <cp:revision>392</cp:revision>
  <dc:subject/>
  <dc:title>PowerPoint Presentation</dc:title>
</cp:coreProperties>
</file>