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1D815-0519-4D23-AB5B-F58DEFA8F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DF3A9-15C0-44AB-BEAD-2012F9B8D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354CA-829A-4C9A-902D-918BF7ED2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D2E90-85B2-4523-8F0A-85BCA309D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11BB8-0B06-4D8D-8180-4A5E362AC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CEF42-539D-47B4-8910-4D1C15780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8AE5F-7950-4806-B40B-5679AAECD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32242-9CA5-4D59-A538-7357977E2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7498F-E365-4723-843F-7D55DAE5E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E2FB9-490A-4A6C-92A2-48D6E16B3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F9CBC-950E-4813-9843-40BAD6F4D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A70AA-B698-4053-8622-2627B0D81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4923C-ED61-4487-BA16-9A42BF27D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78369-DDC8-47D2-9A8A-6FC7E6195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C7846-FCAE-4F6F-9164-35905CDBC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8B11B-7F15-45BA-A86A-7342A0C2B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CED7D-C52B-41DC-8EA6-C33AB0C31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94493-997D-4EE1-9BA2-B46122D5B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649C8-6AA5-4516-97E6-556094653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04EE6-A066-40A5-885D-584522620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E135-4470-4215-9861-F004E0904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39DB-223F-407A-837B-1866BBB21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C813-303B-4914-A71E-5C27EA0FA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54526-4370-4055-988D-BAC57BAFD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3C0B-0135-44F8-B7F5-7D588CBA1EC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7051-C491-4E0E-87E7-FF06EFD3C7A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533520"/>
            <a:ext cx="7924680" cy="2743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LA CEPAL Y SU ROL DE INTEGRACIÓN EN AMÉRICA LATINA</a:t>
            </a:r>
            <a:endParaRPr b="0" lang="en-US" sz="4400" spc="-1" strike="noStrike">
              <a:solidFill>
                <a:srgbClr val="ffcc66"/>
              </a:solidFill>
              <a:latin typeface="Arial"/>
            </a:endParaRPr>
          </a:p>
        </p:txBody>
      </p:sp>
      <p:sp>
        <p:nvSpPr>
          <p:cNvPr id="89" name="PlaceHolder 2"/>
          <p:cNvSpPr>
            <a:spLocks noGrp="1"/>
          </p:cNvSpPr>
          <p:nvPr>
            <p:ph type="subTitle"/>
          </p:nvPr>
        </p:nvSpPr>
        <p:spPr>
          <a:xfrm>
            <a:off x="1908000" y="3645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Profesora: Iris Vittin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Ayudante: Judith Baeza 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762120"/>
            <a:ext cx="7772400" cy="5333760"/>
          </a:xfrm>
          <a:prstGeom prst="rect">
            <a:avLst/>
          </a:prstGeom>
          <a:noFill/>
          <a:ln w="0">
            <a:noFill/>
          </a:ln>
        </p:spPr>
        <p:txBody>
          <a:bodyPr anchor="t">
            <a:normAutofit fontScale="98000"/>
          </a:bodyPr>
          <a:p>
            <a:pPr marL="335880" indent="-3358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ecesidad de la importación de bienes esenciales (capital), tecnología y fondos de inversión.</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a cooperación internacional no debe entrabar la autonomía decisional de los países subdesarrollados.</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ntensificar la cooperación entre los países subdesarrollados para lograr crear un mercado ampliado.</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a profundización comercial por la vía de la individualización permite avanzar en el desarrollo de América Lati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80880"/>
            <a:ext cx="7772400" cy="59436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avance de la integración no podrá hacerse sino por la constitución de grupos subregionales como los del Cono Sur y de América Central (pensamiento muy visionari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mbinar el “universalismo” con el “particularismo” en una estrategia de integración global y en base a un principio fundamental de “reciprocidad” (principio rector en ALALC y ALAD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456840"/>
            <a:ext cx="7772400" cy="5638680"/>
          </a:xfrm>
          <a:prstGeom prst="rect">
            <a:avLst/>
          </a:prstGeom>
          <a:noFill/>
          <a:ln w="0">
            <a:noFill/>
          </a:ln>
        </p:spPr>
        <p:txBody>
          <a:bodyPr anchor="t">
            <a:normAutofit fontScale="98000"/>
          </a:bodyPr>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industrialización, el medio privilegiado de desarrollo económico, sus ideas se proyectaron en el Pacto Andino, con la programación industrial.</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CEPAL ha tenido un rol de actor privilegiado en el “despegue” del proceso de integración de América Latina y en la afirmación de una identidad latinoamericana. “</a:t>
            </a:r>
            <a:r>
              <a:rPr b="0" i="1" lang="es-MX" sz="3200" spc="-1" strike="noStrike">
                <a:solidFill>
                  <a:srgbClr val="ffffff"/>
                </a:solidFill>
                <a:latin typeface="Times New Roman"/>
              </a:rPr>
              <a:t>América Latina comienza a verse como una unidad a pesar de su heterogeneidad real y su falta de unidad efectiva</a:t>
            </a:r>
            <a:r>
              <a:rPr b="0" lang="es-MX" sz="3200" spc="-1" strike="noStrike">
                <a:solidFill>
                  <a:srgbClr val="ffffff"/>
                </a:solidFill>
                <a:latin typeface="Times New Roman"/>
              </a:rPr>
              <a:t>”</a:t>
            </a:r>
            <a:r>
              <a:rPr b="0" lang="es-MX"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Uno de los impulsores en la creación de la Comisión Económica para América Latina –CEPAL- fue el Embajador de Chile ante la ONU, Hernán Santa Cruz Barceló, quien propueso la idea en un discurso ante Naciones Unidas en 1948.</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a CEPAL tuvo un rol de actor integracionista institucional entre los años 1948 y 1959.</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1950, les propone a los países de América Latina una integración comercial como un medio de un desarrollo na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457200"/>
            <a:ext cx="7772400" cy="601992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 1952 propone las bases de lo que será el Mercado Común Centroamericano –MCCA-  y se constituye en el Secretariado Técnico del Comité de Cooperación Económica de América Centr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 1956 se crea el Comité de Comercio para lograr convencer a los países de integrar sus merca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mité de Expertos realiza un informe que fue acogido favorablemente por la Conferencia Económica de OEA , en Buenos Aires, 1956.</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países latinoamericanos acuerdan la conveniencia de establecer de manera progresiva y multilateral un mercado común latinoamericano, ante la indiferencia de EE.UU. y de los países industrializa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533520"/>
            <a:ext cx="7772400" cy="579096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aralelamente, en esa época Europa comenzaba su integración con el Tratado de Roma, 195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1958 la OEA apoya la idea de crear las bases de la zona de libre comercio en América Latina, por recomendación del Comité de Expertos de CEP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mayo de 1959, en Panamá el Comité de Comercio de la CEPAL, toma nota del proyecto de los expertos y solicitan la cooperación de los gobiernos para la redacción definitiva de acuer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609480"/>
            <a:ext cx="7772400" cy="5486400"/>
          </a:xfrm>
          <a:prstGeom prst="rect">
            <a:avLst/>
          </a:prstGeom>
          <a:noFill/>
          <a:ln w="0">
            <a:noFill/>
          </a:ln>
        </p:spPr>
        <p:txBody>
          <a:bodyPr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1960 Argentina, Brasil, Chile y Uruguay, inician el intercambio comercial. Un 80% del total del comercio intralatinoamericano era de productos primari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456840"/>
            <a:ext cx="7772400" cy="5638680"/>
          </a:xfrm>
          <a:prstGeom prst="rect">
            <a:avLst/>
          </a:prstGeom>
          <a:noFill/>
          <a:ln w="0">
            <a:noFill/>
          </a:ln>
        </p:spPr>
        <p:txBody>
          <a:bodyPr anchor="t">
            <a:normAutofit fontScale="98000"/>
          </a:bodyPr>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rPr>
              <a:t>Objetivos de la Doctrina del Desarrollo</a:t>
            </a:r>
            <a:r>
              <a:rPr b="1" lang="es-MX" sz="2400" spc="-1" strike="noStrike">
                <a:solidFill>
                  <a:srgbClr val="ffffff"/>
                </a:solidFill>
                <a:latin typeface="Times New Roman"/>
              </a:rPr>
              <a:t>:</a:t>
            </a:r>
            <a:endParaRPr b="0" lang="en-US" sz="2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ograr en los países de América Latina el progreso tecnológico y la acumulación de capital, como factores claves del desarrollo económico, sometidos a prueba en las relaciones centro-periferia.</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ograr la cooperación de los países industrializados hasta lograr una estructura comercial capaz de asegurar un equilibrio relativo, por medio del cual pudieran percibir las ventajas recíprocas, eliminando paulatinamente la asimetría exist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Times New Roman"/>
              </a:rPr>
              <a:t>Críticas a la Doctrina del Desarrollo</a:t>
            </a:r>
            <a:r>
              <a:rPr b="1" lang="es-MX"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Injustificadamente se ha criticado a la CEPAL por su política de sustitución de importaciones, pero la razón de porqué esta medida no dio el resultado esperado se centró en que si bien se estimuló la sustitución de importaciones, los Estados no cumplieron con el otro elemento necesario para el éxito del proyecto: la liberalización del comercio existente entre ellos, que permitiera ampliar sus mercados con la conformación de sus respectivas economías de escala, entre otras ventajas, las que habrían permitido la elaboración de productos con una buena calidad y a precios competitivos, comparables a aquellos existentes en otros país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I.- El rol de la CEPAL en la integración en América Latina</a:t>
            </a:r>
            <a:endParaRPr b="0" lang="en-US" sz="4000" spc="-1" strike="noStrike">
              <a:solidFill>
                <a:srgbClr val="ffcc66"/>
              </a:solidFill>
              <a:latin typeface="Arial"/>
            </a:endParaRPr>
          </a:p>
        </p:txBody>
      </p:sp>
      <p:sp>
        <p:nvSpPr>
          <p:cNvPr id="91" name="PlaceHolder 2"/>
          <p:cNvSpPr>
            <a:spLocks noGrp="1"/>
          </p:cNvSpPr>
          <p:nvPr>
            <p:ph/>
          </p:nvPr>
        </p:nvSpPr>
        <p:spPr>
          <a:xfrm>
            <a:off x="685800" y="2133720"/>
            <a:ext cx="7772400" cy="3962160"/>
          </a:xfrm>
          <a:prstGeom prst="rect">
            <a:avLst/>
          </a:prstGeom>
          <a:noFill/>
          <a:ln w="0">
            <a:noFill/>
          </a:ln>
        </p:spPr>
        <p:txBody>
          <a:bodyPr anchor="t">
            <a:normAutofit fontScale="92000"/>
          </a:bodyPr>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influencia en la creación de ALALC 1960 y del Mercado Común Centro Americano  1960.</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os Primeros Instrumentos Jurídicos de Integración del siglo XX.-( El BID obra de Felipe Herrera)</a:t>
            </a:r>
            <a:endParaRPr b="0" lang="en-US" sz="2800" spc="-1" strike="noStrike">
              <a:solidFill>
                <a:srgbClr val="ffffff"/>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aúl Prebisch, economista de nacionalidad argentina, fue figura destacada en el pensamiento de CEPAL a cuyo mando estuvo como Secretario Ejecutivo entre mayo de 1950 y julio de 196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Times New Roman"/>
              </a:rPr>
              <a:t>Conclusión sobre la Doctrina del Desarrollo</a:t>
            </a:r>
            <a:r>
              <a:rPr b="0" lang="es-MX"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El pensamiento de la CEPAL adoptó una posición regional opuesta a la industrialización de un solo país. De una industrialización en compartimentos estancos de cada país debía reemplazarse por una industrialización que tuviera como mercado a toda América Latina. De esta forma podría competir en calidad y precios con los productos de otras regiones y ello se lograría a través de los tratados de libre comercio o de una unión aduaner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0"/>
            <a:ext cx="883908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II.- Clasificación de los países latinoamericanos realizada por la CEPAL en 1960</a:t>
            </a:r>
            <a:endParaRPr b="0" lang="en-US" sz="4000" spc="-1" strike="noStrike">
              <a:solidFill>
                <a:srgbClr val="ffcc66"/>
              </a:solidFill>
              <a:latin typeface="Arial"/>
            </a:endParaRPr>
          </a:p>
        </p:txBody>
      </p:sp>
      <p:sp>
        <p:nvSpPr>
          <p:cNvPr id="93"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rimer grupo:</a:t>
            </a:r>
            <a:r>
              <a:rPr b="0" lang="es-ES_tradnl" sz="3200" spc="-1" strike="noStrike">
                <a:solidFill>
                  <a:srgbClr val="ffffff"/>
                </a:solidFill>
                <a:latin typeface="Times New Roman"/>
              </a:rPr>
              <a:t> Argentina, Brasil, México. Con industrias modern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gundo grupo:</a:t>
            </a:r>
            <a:r>
              <a:rPr b="0" lang="es-ES_tradnl" sz="3200" spc="-1" strike="noStrike">
                <a:solidFill>
                  <a:srgbClr val="ffffff"/>
                </a:solidFill>
                <a:latin typeface="Times New Roman"/>
              </a:rPr>
              <a:t> Chile, Colombia, Perú, Uruguay y Venezuel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ercer grupo:</a:t>
            </a:r>
            <a:r>
              <a:rPr b="0" lang="es-ES_tradnl" sz="3200" spc="-1" strike="noStrike">
                <a:solidFill>
                  <a:srgbClr val="ffffff"/>
                </a:solidFill>
                <a:latin typeface="Times New Roman"/>
              </a:rPr>
              <a:t>  Países Centro Americanos y Ecuad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66"/>
                </a:solidFill>
                <a:latin typeface="Arial"/>
              </a:rPr>
              <a:t>III.- Origen del proceso de integración de América Latina</a:t>
            </a:r>
            <a:endParaRPr b="0" lang="en-US" sz="40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rimeros instrumentos jurídicos: </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Asociación Latinoamericana de Libre Comercio –ALALC- en 1960.</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 Tratado de Integración, Centroamericana de 1960, origen del Mercado Común Centroamericano –MC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1.- Asociación de Libre Comercio del Caribe –CARIFTA- Caribbean Free Trade Association en 1968.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2.- Comunidad del Caribe –CARICO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Tratado de Chuaguaramas, 04 de julio de 197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3.- Asociación de Estados del Caribe -AEC- 24 de julio de 199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iembros: Paises de Caricom, MCCA, Colombia, Cuba, México, Venezuela, excepto El Salvado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 Acuerdo de Integración Subregional Andina, 1969. Acuerdo de Cartagena – Pacto Andin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1.- Comunidad Andina de Naciones –CAN- 1996.</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D.- Asociación Latinoamericana de Integración –ALADI-. Tratado de Montevideo, 198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 Mercado Común del Sur –MERCOSUR-. Tratado de Asunción, 199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 Unión de Naciones Suramericanas –UNASUR-. </a:t>
            </a:r>
            <a:r>
              <a:rPr b="0" lang="es-CL" sz="2800" spc="-1" strike="noStrike">
                <a:solidFill>
                  <a:srgbClr val="ffffff"/>
                </a:solidFill>
                <a:latin typeface="Times New Roman"/>
              </a:rPr>
              <a:t>Tratado de Brasilia, 28 mayo 2008.</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Miembros: Países de la CAN, más Chile y los países MERCOSUR más Surinam y Guyan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 Presidencia Pro Témpore: Presidenta de la República de Chile, Sra. Michelle Bachelet desde mayo 2008 hasta mayo 2009.</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66"/>
                </a:solidFill>
                <a:latin typeface="Arial"/>
              </a:rPr>
              <a:t>IV.- Pensamiento de la CEPAL</a:t>
            </a:r>
            <a:endParaRPr b="0" lang="en-US" sz="40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impulsor del pensamiento de este organismo fue Raul Prebisch, eminente economista argentino, Secretario General de la CEPAL entre mayo 1950 y julio 1963.</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Times New Roman"/>
              </a:rPr>
              <a:t>Doctrina del Desarrollo</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Que comporta una dimensión global o integral y una dimensión económica particular (especificidad de América Latina).</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articipa del credo liberal de la époc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Un proyecto de una estrategia de desarrollo para economías subdesarrolladas y de la importancia de la tecnología moderna y de la repartición del progreso técnico, para lograr el crecimiento de la productivida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a relación entre países industriales (centro) y países subdesarrollados (periferia) produce un deterioro permanente de los intercambios para los países de la perifer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0:48:40Z</dcterms:created>
  <dc:creator>Iris Vittini</dc:creator>
  <dc:description/>
  <dc:language>en-US</dc:language>
  <cp:lastModifiedBy>Judith María Baeza Henríquez</cp:lastModifiedBy>
  <dcterms:modified xsi:type="dcterms:W3CDTF">2009-04-23T15:00:41Z</dcterms:modified>
  <cp:revision>48</cp:revision>
  <dc:subject/>
  <dc:title>Antecedentes Historicos de los Procesos de Integracion de America Latina</dc:title>
</cp:coreProperties>
</file>