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0136175-46A7-4154-B44E-E85447BF98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C19CC6E-0633-4891-8F2A-14E3DD5A4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243C90F-0095-4B90-BB87-F24DE5AFBF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CE58F81-75B4-4C39-AB42-1E75F195D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428FAD-2C66-47CA-AB31-D68260E37E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2FA344-D1B2-4DF5-A6AE-877132DCCC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6B3EE4-96FF-4EAC-9F09-96775C64C3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51235B-448E-4243-8ED5-C63D07236E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CA9F60-1F37-4E2A-BB99-A2AF997EAC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EEA643-BB2B-4B0F-A979-D31EAAC587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4C7A7-376C-419F-9975-009BA1B3E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34E026D-BE55-46AF-BB30-9967DC29C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724E6-8059-4CE8-B509-E95725B06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C28FB-89E2-48AD-A2E3-4DD8BCF559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E1A40F-887B-4626-8A16-3C9BB5EF01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5E8015-765A-4A4E-A340-E0A4D39E4A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E00AF7-4C76-4C68-B7A1-CA366F3418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B49C306-3147-43E6-BC03-D11886C5D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2FEE411-8CBD-4115-B5E4-E329C6137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7A0AC4F-5D3F-45D7-BB16-F39134588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E22A02D-8D03-44C1-9491-FE333813C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B030D8C-588D-4554-8D61-D49FCE313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8C3B733-05BD-400F-86B8-491C04E13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63F37E9-E272-491A-AE0C-0EFCDD8FD9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89CE1-9E9F-42F6-A69A-C1FECCD13A81}" type="slidenum">
              <a:rPr b="0" lang="es-CL"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C6235-3082-49B4-B47C-4BA32DFDD213}" type="slidenum">
              <a:rPr b="0" lang="es-CL"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	</a:t>
            </a:r>
            <a:r>
              <a:rPr b="1" lang="es-ES" sz="4400" spc="-1" strike="noStrike">
                <a:solidFill>
                  <a:srgbClr val="e5e5ff"/>
                </a:solidFill>
                <a:latin typeface="Garamond"/>
              </a:rPr>
              <a:t>	</a:t>
            </a:r>
            <a:r>
              <a:rPr b="1" lang="es-ES" sz="4400" spc="-1" strike="noStrike">
                <a:solidFill>
                  <a:srgbClr val="e5e5ff"/>
                </a:solidFill>
                <a:latin typeface="Garamond"/>
              </a:rPr>
              <a:t>	</a:t>
            </a:r>
            <a:r>
              <a:rPr b="1" lang="es-ES" sz="4400" spc="-1" strike="noStrike" u="sng">
                <a:solidFill>
                  <a:srgbClr val="e5e5ff"/>
                </a:solidFill>
                <a:uFillTx/>
                <a:latin typeface="Garamond"/>
              </a:rPr>
              <a:t>ALADI</a:t>
            </a:r>
            <a:endParaRPr b="1" lang="en-US" sz="4400" spc="-1" strike="noStrike">
              <a:solidFill>
                <a:srgbClr val="e5e5ff"/>
              </a:solidFill>
              <a:latin typeface="Garamond"/>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1" lang="es-ES" sz="3600" spc="-1" strike="noStrike">
                <a:solidFill>
                  <a:srgbClr val="ffffff"/>
                </a:solidFill>
                <a:latin typeface="Garamond"/>
              </a:rPr>
              <a:t>Asociación  </a:t>
            </a:r>
            <a:endParaRPr b="0" lang="en-US" sz="3600" spc="-1" strike="noStrike">
              <a:solidFill>
                <a:srgbClr val="ffffff"/>
              </a:solidFill>
              <a:latin typeface="Garamond"/>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Garamond"/>
              </a:rPr>
              <a:t>                                    </a:t>
            </a:r>
            <a:r>
              <a:rPr b="1" lang="es-ES" sz="3600" spc="-1" strike="noStrike">
                <a:solidFill>
                  <a:srgbClr val="ffffff"/>
                </a:solidFill>
                <a:latin typeface="Garamond"/>
              </a:rPr>
              <a:t>Latinoamericana </a:t>
            </a:r>
            <a:endParaRPr b="0" lang="en-US" sz="3600" spc="-1" strike="noStrike">
              <a:solidFill>
                <a:srgbClr val="ffffff"/>
              </a:solidFill>
              <a:latin typeface="Garamond"/>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Garamond"/>
              </a:rPr>
              <a:t>                                    </a:t>
            </a:r>
            <a:r>
              <a:rPr b="1" lang="es-ES" sz="3600" spc="-1" strike="noStrike">
                <a:solidFill>
                  <a:srgbClr val="ffffff"/>
                </a:solidFill>
                <a:latin typeface="Garamond"/>
              </a:rPr>
              <a:t>De </a:t>
            </a:r>
            <a:endParaRPr b="0" lang="en-US" sz="3600" spc="-1" strike="noStrike">
              <a:solidFill>
                <a:srgbClr val="ffffff"/>
              </a:solidFill>
              <a:latin typeface="Garamond"/>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Garamond"/>
              </a:rPr>
              <a:t>                                    </a:t>
            </a:r>
            <a:r>
              <a:rPr b="1" lang="es-ES" sz="3600" spc="-1" strike="noStrike">
                <a:solidFill>
                  <a:srgbClr val="ffffff"/>
                </a:solidFill>
                <a:latin typeface="Garamond"/>
              </a:rPr>
              <a:t>Integración</a:t>
            </a:r>
            <a:endParaRPr b="0" lang="en-US" sz="3600" spc="-1" strike="noStrike">
              <a:solidFill>
                <a:srgbClr val="ffffff"/>
              </a:solidFill>
              <a:latin typeface="Garamond"/>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1" lang="es-ES" sz="2000" spc="-1" strike="noStrike">
                <a:solidFill>
                  <a:srgbClr val="ffffff"/>
                </a:solidFill>
                <a:latin typeface="Garamond"/>
              </a:rPr>
              <a:t>Profesora: Iris Vittini G.</a:t>
            </a:r>
            <a:endParaRPr b="0" lang="en-US" sz="2000" spc="-1" strike="noStrike">
              <a:solidFill>
                <a:srgbClr val="ffffff"/>
              </a:solidFill>
              <a:latin typeface="Garamond"/>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                                                                 </a:t>
            </a:r>
            <a:r>
              <a:rPr b="1" lang="es-ES" sz="2000" spc="-1" strike="noStrike">
                <a:solidFill>
                  <a:srgbClr val="ffffff"/>
                </a:solidFill>
                <a:latin typeface="Garamond"/>
              </a:rPr>
              <a:t>Ayudante: Judith Baeza H.</a:t>
            </a:r>
            <a:endParaRPr b="0" lang="en-US" sz="2000" spc="-1" strike="noStrike">
              <a:solidFill>
                <a:srgbClr val="ffffff"/>
              </a:solidFill>
              <a:latin typeface="Garamond"/>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p:txBody>
      </p:sp>
      <p:pic>
        <p:nvPicPr>
          <p:cNvPr id="101" name="" descr=""/>
          <p:cNvPicPr/>
          <p:nvPr/>
        </p:nvPicPr>
        <p:blipFill>
          <a:blip r:embed="rId1"/>
          <a:stretch/>
        </p:blipFill>
        <p:spPr>
          <a:xfrm>
            <a:off x="395280" y="380880"/>
            <a:ext cx="4081320" cy="6000840"/>
          </a:xfrm>
          <a:prstGeom prst="rect">
            <a:avLst/>
          </a:prstGeom>
          <a:ln w="0">
            <a:noFill/>
          </a:ln>
        </p:spPr>
      </p:pic>
      <p:sp>
        <p:nvSpPr>
          <p:cNvPr id="4" name="PlaceHolder 3"/>
          <p:cNvSpPr>
            <a:spLocks noGrp="1"/>
          </p:cNvSpPr>
          <p:nvPr>
            <p:ph type="sldNum" idx="2"/>
          </p:nvPr>
        </p:nvSpPr>
        <p:spPr/>
        <p:txBody>
          <a:bodyPr/>
          <a:p>
            <a:fld id="{A654B5F8-CEC6-4A04-962C-E4FA02B79E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Multiplicidad</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Posibilita distintas formas de concertación entre los países miembros – Instrumentos comercial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n armonía con los objetivos y funciones del proceso de integración. </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Dinamizar y ampliar mercados</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7C47465F-380B-4403-9AD9-A5CC13FFEE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Mecanismos </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a ALADI propicia la creación de un área de preferencias económicas en la región, con el objetivo final de lograr un mercado común latinoamericano, mediante tres mecanismos: </a:t>
            </a:r>
            <a:endParaRPr b="0" lang="en-US" sz="3200" spc="-1" strike="noStrike">
              <a:solidFill>
                <a:srgbClr val="ffffff"/>
              </a:solidFill>
              <a:latin typeface="Garamond"/>
            </a:endParaRPr>
          </a:p>
          <a:p>
            <a:pPr marL="560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60520" indent="-56052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referencia arancelaria regional.</a:t>
            </a:r>
            <a:endParaRPr b="0" lang="en-US" sz="3200" spc="-1" strike="noStrike">
              <a:solidFill>
                <a:srgbClr val="ffffff"/>
              </a:solidFill>
              <a:latin typeface="Garamond"/>
            </a:endParaRPr>
          </a:p>
          <a:p>
            <a:pPr marL="560520" indent="-56052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cuerdos de alcance regional.</a:t>
            </a:r>
            <a:endParaRPr b="0" lang="en-US" sz="3200" spc="-1" strike="noStrike">
              <a:solidFill>
                <a:srgbClr val="ffffff"/>
              </a:solidFill>
              <a:latin typeface="Garamond"/>
            </a:endParaRPr>
          </a:p>
          <a:p>
            <a:pPr marL="560520" indent="-56052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cuerdos de alcance parcial.</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4F3D4D89-B1F3-4BB7-9A5A-66D9E31D1B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Preferencia arancelaria regional:</a:t>
            </a:r>
            <a:endParaRPr b="0" lang="en-US" sz="32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rt. 5: </a:t>
            </a:r>
            <a:endParaRPr b="0" lang="en-US" sz="32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i="1" lang="es-ES" sz="3200" spc="-1" strike="noStrike">
                <a:solidFill>
                  <a:srgbClr val="ffffff"/>
                </a:solidFill>
                <a:latin typeface="Garamond"/>
              </a:rPr>
              <a:t>“ </a:t>
            </a:r>
            <a:r>
              <a:rPr b="0" i="1" lang="es-ES" sz="3200" spc="-1" strike="noStrike">
                <a:solidFill>
                  <a:srgbClr val="ffffff"/>
                </a:solidFill>
                <a:latin typeface="Garamond"/>
              </a:rPr>
              <a:t>Los países mienbros se otorgarán recíprocamente una preferencia arancelaria regional, que se aplicará con referencia al nivel que rija para terceros países y se sujetará a la regalementación correspondiente”</a:t>
            </a:r>
            <a:endParaRPr b="0" lang="en-US" sz="32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Garamond"/>
              </a:rPr>
              <a:t>-  </a:t>
            </a:r>
            <a:r>
              <a:rPr b="0" lang="es-ES" sz="3200" spc="-1" strike="noStrike">
                <a:solidFill>
                  <a:srgbClr val="ffffff"/>
                </a:solidFill>
                <a:latin typeface="Garamond"/>
              </a:rPr>
              <a:t>Se aplica a productos originarios de países miembros frente a los aranceles vigentes para terceros países. </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4F275E68-BD04-4C0C-9150-A65A15261B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Acuerdos de alcance regional:</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quellos en que participa la totalidad de los países miembro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e celebrarán en el marco de los objetivos y disposiciones de la ALADI.</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odrán referirse a las materias e instrumentos previstos para los acuerdos de alcance parcial. (art. 6)</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57EACA83-430F-4F6E-8B89-4B17BF3A81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Acuerdos de alcance parcial:</a:t>
            </a:r>
            <a:endParaRPr b="0" lang="en-US" sz="32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articipación de dos más países miembros.</a:t>
            </a:r>
            <a:endParaRPr b="0" lang="en-US" sz="3200" spc="-1" strike="noStrike">
              <a:solidFill>
                <a:srgbClr val="ffffff"/>
              </a:solidFill>
              <a:latin typeface="Garamond"/>
            </a:endParaRPr>
          </a:p>
          <a:p>
            <a:pPr marL="329040" indent="-32904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ropenden a profundizar el proceso de integración regional mediante su progresiva multilateralización.</a:t>
            </a:r>
            <a:endParaRPr b="0" lang="en-US" sz="3200" spc="-1" strike="noStrike">
              <a:solidFill>
                <a:srgbClr val="ffffff"/>
              </a:solidFill>
              <a:latin typeface="Garamond"/>
            </a:endParaRPr>
          </a:p>
          <a:p>
            <a:pPr marL="329040" indent="-32904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os derechos y obligaciones que de ellos emanan regirán exclusivamente para los países miembros que los suscriban o se adhieren.</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C7A5B54A-D095-46C9-ABEB-2736F341C9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ffff"/>
                </a:solidFill>
                <a:uFillTx/>
                <a:latin typeface="Garamond"/>
              </a:rPr>
              <a:t>Clasificación de los acuerdos:</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Comerciales. (Art. 10)</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De complementación económica. (Art. 11)</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gropecuarios. (Art. 12)</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romoción del comercio. (Art. 13)</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demás los países miembros … “podrán establecer, mediante la reglamentaciones correspondientes, normas específicas para la concertación de otras modalidades de acuerdo de alcance parcial</a:t>
            </a:r>
            <a:r>
              <a:rPr b="0" i="1" lang="es-ES" sz="3200" spc="-1" strike="noStrike">
                <a:solidFill>
                  <a:srgbClr val="ffffff"/>
                </a:solidFill>
                <a:latin typeface="Garamond"/>
              </a:rPr>
              <a:t>”</a:t>
            </a:r>
            <a:r>
              <a:rPr b="0" lang="es-ES" sz="3200" spc="-1" strike="noStrike">
                <a:solidFill>
                  <a:srgbClr val="ffffff"/>
                </a:solidFill>
                <a:latin typeface="Garamond"/>
              </a:rPr>
              <a:t> (Art. 14).</a:t>
            </a:r>
            <a:endParaRPr b="0" lang="en-US" sz="32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30C16C46-741F-467E-B940-96E0EFBA4F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188640"/>
            <a:ext cx="8229600" cy="66690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ormas que rigen a los acuerdos (Art. 9):</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ben estar abiertos a la adhesión de los demás países miembros.</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láusulas de convergencia – beneeficios alcancen a todos los países miembros.</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ontendrá tratamientos diferenciales en función a las tres categorías de países reconocidas por el Tratado de Montevideo.</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desgravación podrá efectuarse sobre la base de una rebaja porcentual respecto de los gravámenes  aplicados a la importación originaria de los países no participantes.</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lazo mínimo de duración 1 año.</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ueden contener normas específicas sobre ciertas materias.</a:t>
            </a:r>
            <a:endParaRPr b="0" lang="en-US" sz="2800" spc="-1" strike="noStrike">
              <a:solidFill>
                <a:srgbClr val="ffffff"/>
              </a:solidFill>
              <a:latin typeface="Garamond"/>
            </a:endParaRPr>
          </a:p>
        </p:txBody>
      </p:sp>
      <p:sp>
        <p:nvSpPr>
          <p:cNvPr id="3" name="PlaceHolder 2"/>
          <p:cNvSpPr>
            <a:spLocks noGrp="1"/>
          </p:cNvSpPr>
          <p:nvPr>
            <p:ph type="sldNum" idx="2"/>
          </p:nvPr>
        </p:nvSpPr>
        <p:spPr/>
        <p:txBody>
          <a:bodyPr/>
          <a:p>
            <a:fld id="{E77B5F66-5DF3-4133-AF13-73EFAA5AE8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Organismos</a:t>
            </a:r>
            <a:endParaRPr b="1" lang="en-US" sz="4400" spc="-1" strike="noStrike">
              <a:solidFill>
                <a:srgbClr val="e5e5ff"/>
              </a:solidFill>
              <a:latin typeface="Garamond"/>
            </a:endParaRPr>
          </a:p>
        </p:txBody>
      </p:sp>
      <p:sp>
        <p:nvSpPr>
          <p:cNvPr id="12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Órganos político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El Consejo.</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La Conferencia.</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El Comité.</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Órgano técnico:</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La Secretaría General</a:t>
            </a:r>
            <a:endParaRPr b="0" lang="en-US" sz="2800" spc="-1" strike="noStrike">
              <a:solidFill>
                <a:srgbClr val="ffffff"/>
              </a:solidFill>
              <a:latin typeface="Garamond"/>
            </a:endParaRPr>
          </a:p>
        </p:txBody>
      </p:sp>
      <p:pic>
        <p:nvPicPr>
          <p:cNvPr id="127" name="" descr=""/>
          <p:cNvPicPr/>
          <p:nvPr/>
        </p:nvPicPr>
        <p:blipFill>
          <a:blip r:embed="rId1"/>
          <a:stretch/>
        </p:blipFill>
        <p:spPr>
          <a:xfrm>
            <a:off x="611280" y="1916280"/>
            <a:ext cx="3529080" cy="3600360"/>
          </a:xfrm>
          <a:prstGeom prst="rect">
            <a:avLst/>
          </a:prstGeom>
          <a:ln w="0">
            <a:noFill/>
          </a:ln>
        </p:spPr>
      </p:pic>
      <p:sp>
        <p:nvSpPr>
          <p:cNvPr id="4" name="PlaceHolder 3"/>
          <p:cNvSpPr>
            <a:spLocks noGrp="1"/>
          </p:cNvSpPr>
          <p:nvPr>
            <p:ph type="sldNum" idx="2"/>
          </p:nvPr>
        </p:nvSpPr>
        <p:spPr/>
        <p:txBody>
          <a:bodyPr/>
          <a:p>
            <a:fld id="{11EF4B07-FD91-4E9C-98D4-6D2454ED8E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CONSEJO DE MINISTROS DE RELACIONES EXTERIORES. </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Órgano supremo de la Asociación.</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Integrado por los Ministros de RR.EE de los países miembros.</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onducción política de la ALADI.</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e reúne por convocatoria del Comité.</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esionará con la totalidad de sus miembros.</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tribuciones Art. 30.</a:t>
            </a:r>
            <a:endParaRPr b="0" lang="en-US" sz="32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2894646E-756A-4C8E-80BE-7B2A6BDFC5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CONFERENCIA DE EVALUACIÓN Y CONVERGENCIA.</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Integrada por plenipotenciarios de los países miembro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e reúne cada tres años por convocatoria del Comité.</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Para toma de decisiones se requiere la presencia de todos los miembro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tribuciones Art. 33.</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94AA0B27-11BE-4591-A932-79AEBDDE92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333000"/>
            <a:ext cx="8362800" cy="604836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Tratado Montevideo, 1980.</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Mayor grupo latinoamericano de integración.</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Miembros:</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 Argentina.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 Bolivia.</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Federativa del Brasil.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 Colombia.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 Chile.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 Cuba.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 Ecuador.</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Estados Unidos Mexicanos.</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l Paraguay.</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l Perú.</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Oriental del Uruguay</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 Venezuela.</a:t>
            </a:r>
            <a:endParaRPr b="0" lang="en-US" sz="24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   </a:t>
            </a:r>
            <a:endParaRPr b="0" lang="en-US" sz="2000" spc="-1" strike="noStrike">
              <a:solidFill>
                <a:srgbClr val="ffffff"/>
              </a:solidFill>
              <a:latin typeface="Garamond"/>
            </a:endParaRPr>
          </a:p>
        </p:txBody>
      </p:sp>
      <p:sp>
        <p:nvSpPr>
          <p:cNvPr id="3" name="PlaceHolder 2"/>
          <p:cNvSpPr>
            <a:spLocks noGrp="1"/>
          </p:cNvSpPr>
          <p:nvPr>
            <p:ph type="sldNum" idx="2"/>
          </p:nvPr>
        </p:nvSpPr>
        <p:spPr/>
        <p:txBody>
          <a:bodyPr/>
          <a:p>
            <a:fld id="{C6BF731F-DBE5-4A2E-B160-C644A1CE7C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OMITÉ DE REPRESENTANT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9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Garamond"/>
              </a:rPr>
              <a:t>Representantes  Permanentes de cada país miembro con derecho a un voto.</a:t>
            </a:r>
            <a:endParaRPr b="0" lang="en-US" sz="3600" spc="-1" strike="noStrike">
              <a:solidFill>
                <a:srgbClr val="ffffff"/>
              </a:solidFill>
              <a:latin typeface="Garamond"/>
            </a:endParaRPr>
          </a:p>
          <a:p>
            <a:pPr marL="343080" indent="-343080">
              <a:spcBef>
                <a:spcPts val="9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Garamond"/>
              </a:rPr>
              <a:t>Quorum de dos tercios de los países miembros para poder sesionar.</a:t>
            </a:r>
            <a:endParaRPr b="0" lang="en-US" sz="3600" spc="-1" strike="noStrike">
              <a:solidFill>
                <a:srgbClr val="ffffff"/>
              </a:solidFill>
              <a:latin typeface="Garamond"/>
            </a:endParaRPr>
          </a:p>
          <a:p>
            <a:pPr marL="343080" indent="-343080">
              <a:spcBef>
                <a:spcPts val="9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Garamond"/>
              </a:rPr>
              <a:t>Atribuciones art. 35. </a:t>
            </a: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469CF45E-008A-4E1C-928F-DFC1EF506F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Toma de decisiones:</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os tres órganos políticos adoptarán sus decisiones con el voto afirmativo de dos tercios de los países miembros.</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e exceptúan las materias dispuestas en el artículo 43. – lista no es taxativa, el Consejo puede eliminar temas con dos tercios de votos afirmativos y sin que haya voto negativo.</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a abstención no significa voto negativo.</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220A785D-5A77-4EEC-B57C-E963D70C48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ECRETARÍA GENERAL.</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irigida por un Secretario General, designado por el Consejo.</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Personal técnico y administrativo, los que en el desempeño de sus funciones no solicitarán ni recibirán instrucciones de los gobiernos ni de entidades nacionales o internacional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tribuciones art. 38.</a:t>
            </a:r>
            <a:fld id="{0824C6E3-E115-4F68-9A17-D1858AE15BC8}" type="slidenum">
              <a:rPr b="0" lang="es-CL" sz="3200" spc="-1" strike="noStrike">
                <a:solidFill>
                  <a:srgbClr val="ffffff"/>
                </a:solidFill>
                <a:latin typeface="Garamond"/>
              </a:rPr>
              <a:t>&lt;number&gt;</a:t>
            </a:fld>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CEB38D76-0467-4850-8CF0-843B962E0B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11280" y="404640"/>
            <a:ext cx="7921440" cy="5977080"/>
          </a:xfrm>
          <a:prstGeom prst="rect">
            <a:avLst/>
          </a:prstGeom>
          <a:ln w="0">
            <a:noFill/>
          </a:ln>
        </p:spPr>
      </p:pic>
      <p:sp>
        <p:nvSpPr>
          <p:cNvPr id="2" name="PlaceHolder 1"/>
          <p:cNvSpPr>
            <a:spLocks noGrp="1"/>
          </p:cNvSpPr>
          <p:nvPr>
            <p:ph type="sldNum" idx="2"/>
          </p:nvPr>
        </p:nvSpPr>
        <p:spPr/>
        <p:txBody>
          <a:bodyPr/>
          <a:p>
            <a:fld id="{250A9740-C6F4-48BE-9072-0CDBD78B12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34" name=""/>
          <p:cNvGrpSpPr/>
          <p:nvPr/>
        </p:nvGrpSpPr>
        <p:grpSpPr>
          <a:xfrm>
            <a:off x="0" y="0"/>
            <a:ext cx="9143640" cy="6629400"/>
            <a:chOff x="0" y="0"/>
            <a:chExt cx="9143640" cy="6629400"/>
          </a:xfrm>
        </p:grpSpPr>
        <p:grpSp>
          <p:nvGrpSpPr>
            <p:cNvPr id="135" name=""/>
            <p:cNvGrpSpPr/>
            <p:nvPr/>
          </p:nvGrpSpPr>
          <p:grpSpPr>
            <a:xfrm>
              <a:off x="5760" y="3960"/>
              <a:ext cx="9131040" cy="6620760"/>
              <a:chOff x="5760" y="3960"/>
              <a:chExt cx="9131040" cy="6620760"/>
            </a:xfrm>
          </p:grpSpPr>
          <p:grpSp>
            <p:nvGrpSpPr>
              <p:cNvPr id="136" name=""/>
              <p:cNvGrpSpPr/>
              <p:nvPr/>
            </p:nvGrpSpPr>
            <p:grpSpPr>
              <a:xfrm>
                <a:off x="5760" y="3960"/>
                <a:ext cx="9131040" cy="382680"/>
                <a:chOff x="5760" y="3960"/>
                <a:chExt cx="9131040" cy="382680"/>
              </a:xfrm>
            </p:grpSpPr>
            <p:sp>
              <p:nvSpPr>
                <p:cNvPr id="137" name=""/>
                <p:cNvSpPr/>
                <p:nvPr/>
              </p:nvSpPr>
              <p:spPr>
                <a:xfrm>
                  <a:off x="5760" y="3960"/>
                  <a:ext cx="9131040" cy="382680"/>
                </a:xfrm>
                <a:prstGeom prst="rect">
                  <a:avLst/>
                </a:prstGeom>
                <a:noFill/>
                <a:ln w="0">
                  <a:noFill/>
                </a:ln>
              </p:spPr>
              <p:style>
                <a:lnRef idx="0"/>
                <a:fillRef idx="0"/>
                <a:effectRef idx="0"/>
                <a:fontRef idx="minor"/>
              </p:style>
              <p:txBody>
                <a:bodyPr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Times New Roman"/>
                    </a:rPr>
                    <a:t>ACUERDOS  CELEBRADOS  ENTRE  CHILE Y  MIEMBROS DE LA  AlADI</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8" name=""/>
                <p:cNvSpPr/>
                <p:nvPr/>
              </p:nvSpPr>
              <p:spPr>
                <a:xfrm>
                  <a:off x="5760" y="3960"/>
                  <a:ext cx="913104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5760" y="386640"/>
                <a:ext cx="1808640" cy="528480"/>
                <a:chOff x="5760" y="386640"/>
                <a:chExt cx="1808640" cy="528480"/>
              </a:xfrm>
            </p:grpSpPr>
            <p:sp>
              <p:nvSpPr>
                <p:cNvPr id="140" name=""/>
                <p:cNvSpPr/>
                <p:nvPr/>
              </p:nvSpPr>
              <p:spPr>
                <a:xfrm>
                  <a:off x="5760" y="386640"/>
                  <a:ext cx="1808640" cy="528480"/>
                </a:xfrm>
                <a:prstGeom prst="rect">
                  <a:avLst/>
                </a:prstGeom>
                <a:solidFill>
                  <a:srgbClr val="eee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1" name=""/>
                <p:cNvGrpSpPr/>
                <p:nvPr/>
              </p:nvGrpSpPr>
              <p:grpSpPr>
                <a:xfrm>
                  <a:off x="5760" y="386640"/>
                  <a:ext cx="1808280" cy="528480"/>
                  <a:chOff x="5760" y="386640"/>
                  <a:chExt cx="1808280" cy="528480"/>
                </a:xfrm>
              </p:grpSpPr>
              <p:sp>
                <p:nvSpPr>
                  <p:cNvPr id="142" name=""/>
                  <p:cNvSpPr/>
                  <p:nvPr/>
                </p:nvSpPr>
                <p:spPr>
                  <a:xfrm>
                    <a:off x="5760" y="386640"/>
                    <a:ext cx="1808280" cy="528480"/>
                  </a:xfrm>
                  <a:prstGeom prst="rect">
                    <a:avLst/>
                  </a:prstGeom>
                  <a:solidFill>
                    <a:srgbClr val="eee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cc00"/>
                        </a:solidFill>
                        <a:latin typeface="Times New Roman"/>
                        <a:ea typeface="Times New Roman"/>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514"/>
                        </a:solidFill>
                        <a:latin typeface="Times New Roman"/>
                        <a:ea typeface="Times New Roman"/>
                      </a:rPr>
                      <a:t>País o Grupo de País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 name=""/>
                  <p:cNvSpPr/>
                  <p:nvPr/>
                </p:nvSpPr>
                <p:spPr>
                  <a:xfrm>
                    <a:off x="5760" y="386640"/>
                    <a:ext cx="18082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4" name=""/>
              <p:cNvGrpSpPr/>
              <p:nvPr/>
            </p:nvGrpSpPr>
            <p:grpSpPr>
              <a:xfrm>
                <a:off x="1814760" y="386640"/>
                <a:ext cx="4555080" cy="528480"/>
                <a:chOff x="1814760" y="386640"/>
                <a:chExt cx="4555080" cy="528480"/>
              </a:xfrm>
            </p:grpSpPr>
            <p:sp>
              <p:nvSpPr>
                <p:cNvPr id="145" name=""/>
                <p:cNvSpPr/>
                <p:nvPr/>
              </p:nvSpPr>
              <p:spPr>
                <a:xfrm>
                  <a:off x="1814760" y="386640"/>
                  <a:ext cx="4555080" cy="528480"/>
                </a:xfrm>
                <a:prstGeom prst="rect">
                  <a:avLst/>
                </a:prstGeom>
                <a:solidFill>
                  <a:srgbClr val="eee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6" name=""/>
                <p:cNvGrpSpPr/>
                <p:nvPr/>
              </p:nvGrpSpPr>
              <p:grpSpPr>
                <a:xfrm>
                  <a:off x="1814760" y="386640"/>
                  <a:ext cx="4554720" cy="528480"/>
                  <a:chOff x="1814760" y="386640"/>
                  <a:chExt cx="4554720" cy="528480"/>
                </a:xfrm>
              </p:grpSpPr>
              <p:sp>
                <p:nvSpPr>
                  <p:cNvPr id="147" name=""/>
                  <p:cNvSpPr/>
                  <p:nvPr/>
                </p:nvSpPr>
                <p:spPr>
                  <a:xfrm>
                    <a:off x="1814760" y="386640"/>
                    <a:ext cx="4554720" cy="528480"/>
                  </a:xfrm>
                  <a:prstGeom prst="rect">
                    <a:avLst/>
                  </a:prstGeom>
                  <a:solidFill>
                    <a:srgbClr val="eee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514"/>
                        </a:solidFill>
                        <a:latin typeface="Arial"/>
                        <a:ea typeface="Times New Roman"/>
                      </a:rPr>
                      <a:t>              </a:t>
                    </a:r>
                    <a:r>
                      <a:rPr b="1" lang="es-CL" sz="1600" spc="-1" strike="noStrike">
                        <a:solidFill>
                          <a:srgbClr val="000514"/>
                        </a:solidFill>
                        <a:latin typeface="Arial"/>
                        <a:ea typeface="Times New Roman"/>
                      </a:rPr>
                      <a:t>Tipo de Acuerd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8" name=""/>
                  <p:cNvSpPr/>
                  <p:nvPr/>
                </p:nvSpPr>
                <p:spPr>
                  <a:xfrm>
                    <a:off x="1814760" y="386640"/>
                    <a:ext cx="455472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9" name=""/>
              <p:cNvGrpSpPr/>
              <p:nvPr/>
            </p:nvGrpSpPr>
            <p:grpSpPr>
              <a:xfrm>
                <a:off x="6370200" y="386640"/>
                <a:ext cx="1322640" cy="528480"/>
                <a:chOff x="6370200" y="386640"/>
                <a:chExt cx="1322640" cy="528480"/>
              </a:xfrm>
            </p:grpSpPr>
            <p:sp>
              <p:nvSpPr>
                <p:cNvPr id="150" name=""/>
                <p:cNvSpPr/>
                <p:nvPr/>
              </p:nvSpPr>
              <p:spPr>
                <a:xfrm>
                  <a:off x="6370200" y="386640"/>
                  <a:ext cx="1322640" cy="528480"/>
                </a:xfrm>
                <a:prstGeom prst="rect">
                  <a:avLst/>
                </a:prstGeom>
                <a:solidFill>
                  <a:srgbClr val="eee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1" name=""/>
                <p:cNvGrpSpPr/>
                <p:nvPr/>
              </p:nvGrpSpPr>
              <p:grpSpPr>
                <a:xfrm>
                  <a:off x="6370200" y="386640"/>
                  <a:ext cx="1322280" cy="528480"/>
                  <a:chOff x="6370200" y="386640"/>
                  <a:chExt cx="1322280" cy="528480"/>
                </a:xfrm>
              </p:grpSpPr>
              <p:sp>
                <p:nvSpPr>
                  <p:cNvPr id="152" name=""/>
                  <p:cNvSpPr/>
                  <p:nvPr/>
                </p:nvSpPr>
                <p:spPr>
                  <a:xfrm>
                    <a:off x="6370200" y="386640"/>
                    <a:ext cx="1322280" cy="528480"/>
                  </a:xfrm>
                  <a:prstGeom prst="rect">
                    <a:avLst/>
                  </a:prstGeom>
                  <a:solidFill>
                    <a:srgbClr val="eee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514"/>
                        </a:solidFill>
                        <a:latin typeface="Arial"/>
                        <a:ea typeface="Times New Roman"/>
                      </a:rPr>
                      <a:t>Fecha Firm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53" name=""/>
                  <p:cNvSpPr/>
                  <p:nvPr/>
                </p:nvSpPr>
                <p:spPr>
                  <a:xfrm>
                    <a:off x="6370200" y="386640"/>
                    <a:ext cx="13222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54" name=""/>
              <p:cNvGrpSpPr/>
              <p:nvPr/>
            </p:nvGrpSpPr>
            <p:grpSpPr>
              <a:xfrm>
                <a:off x="7693560" y="386640"/>
                <a:ext cx="1443240" cy="528480"/>
                <a:chOff x="7693560" y="386640"/>
                <a:chExt cx="1443240" cy="528480"/>
              </a:xfrm>
            </p:grpSpPr>
            <p:sp>
              <p:nvSpPr>
                <p:cNvPr id="155" name=""/>
                <p:cNvSpPr/>
                <p:nvPr/>
              </p:nvSpPr>
              <p:spPr>
                <a:xfrm>
                  <a:off x="7693560" y="386640"/>
                  <a:ext cx="1443240" cy="528480"/>
                </a:xfrm>
                <a:prstGeom prst="rect">
                  <a:avLst/>
                </a:prstGeom>
                <a:solidFill>
                  <a:srgbClr val="eee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6" name=""/>
                <p:cNvGrpSpPr/>
                <p:nvPr/>
              </p:nvGrpSpPr>
              <p:grpSpPr>
                <a:xfrm>
                  <a:off x="7693560" y="386640"/>
                  <a:ext cx="1442880" cy="528480"/>
                  <a:chOff x="7693560" y="386640"/>
                  <a:chExt cx="1442880" cy="528480"/>
                </a:xfrm>
              </p:grpSpPr>
              <p:sp>
                <p:nvSpPr>
                  <p:cNvPr id="157" name=""/>
                  <p:cNvSpPr/>
                  <p:nvPr/>
                </p:nvSpPr>
                <p:spPr>
                  <a:xfrm>
                    <a:off x="7693560" y="386640"/>
                    <a:ext cx="1442880" cy="528480"/>
                  </a:xfrm>
                  <a:prstGeom prst="rect">
                    <a:avLst/>
                  </a:prstGeom>
                  <a:solidFill>
                    <a:srgbClr val="eee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514"/>
                        </a:solidFill>
                        <a:latin typeface="Arial"/>
                        <a:ea typeface="Times New Roman"/>
                      </a:rPr>
                      <a:t>Entrada en Vigenci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58" name=""/>
                  <p:cNvSpPr/>
                  <p:nvPr/>
                </p:nvSpPr>
                <p:spPr>
                  <a:xfrm>
                    <a:off x="7693560" y="386640"/>
                    <a:ext cx="14428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59" name=""/>
              <p:cNvGrpSpPr/>
              <p:nvPr/>
            </p:nvGrpSpPr>
            <p:grpSpPr>
              <a:xfrm>
                <a:off x="5760" y="915480"/>
                <a:ext cx="1808640" cy="528480"/>
                <a:chOff x="5760" y="915480"/>
                <a:chExt cx="1808640" cy="528480"/>
              </a:xfrm>
            </p:grpSpPr>
            <p:sp>
              <p:nvSpPr>
                <p:cNvPr id="160" name=""/>
                <p:cNvSpPr/>
                <p:nvPr/>
              </p:nvSpPr>
              <p:spPr>
                <a:xfrm>
                  <a:off x="5760" y="915480"/>
                  <a:ext cx="1808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MEXICO</a:t>
                  </a:r>
                  <a:endParaRPr b="0" lang="en-US" sz="1600" spc="-1" strike="noStrike">
                    <a:solidFill>
                      <a:srgbClr val="ffffff"/>
                    </a:solidFill>
                    <a:latin typeface="Arial"/>
                  </a:endParaRPr>
                </a:p>
              </p:txBody>
            </p:sp>
            <p:sp>
              <p:nvSpPr>
                <p:cNvPr id="161" name=""/>
                <p:cNvSpPr/>
                <p:nvPr/>
              </p:nvSpPr>
              <p:spPr>
                <a:xfrm>
                  <a:off x="5760" y="915480"/>
                  <a:ext cx="1808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2" name=""/>
              <p:cNvGrpSpPr/>
              <p:nvPr/>
            </p:nvGrpSpPr>
            <p:grpSpPr>
              <a:xfrm>
                <a:off x="1814760" y="915480"/>
                <a:ext cx="4555080" cy="528480"/>
                <a:chOff x="1814760" y="915480"/>
                <a:chExt cx="4555080" cy="528480"/>
              </a:xfrm>
            </p:grpSpPr>
            <p:sp>
              <p:nvSpPr>
                <p:cNvPr id="163" name=""/>
                <p:cNvSpPr/>
                <p:nvPr/>
              </p:nvSpPr>
              <p:spPr>
                <a:xfrm>
                  <a:off x="1814760" y="915480"/>
                  <a:ext cx="455508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1) Tratado de Libre Comerci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4" name=""/>
                <p:cNvSpPr/>
                <p:nvPr/>
              </p:nvSpPr>
              <p:spPr>
                <a:xfrm>
                  <a:off x="1814760" y="915480"/>
                  <a:ext cx="45550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5" name=""/>
              <p:cNvGrpSpPr/>
              <p:nvPr/>
            </p:nvGrpSpPr>
            <p:grpSpPr>
              <a:xfrm>
                <a:off x="6370200" y="915480"/>
                <a:ext cx="1322640" cy="528480"/>
                <a:chOff x="6370200" y="915480"/>
                <a:chExt cx="1322640" cy="528480"/>
              </a:xfrm>
            </p:grpSpPr>
            <p:sp>
              <p:nvSpPr>
                <p:cNvPr id="166" name=""/>
                <p:cNvSpPr/>
                <p:nvPr/>
              </p:nvSpPr>
              <p:spPr>
                <a:xfrm>
                  <a:off x="6370200" y="915480"/>
                  <a:ext cx="1322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17 de abril de 199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7" name=""/>
                <p:cNvSpPr/>
                <p:nvPr/>
              </p:nvSpPr>
              <p:spPr>
                <a:xfrm>
                  <a:off x="6370200" y="915480"/>
                  <a:ext cx="1322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8" name=""/>
              <p:cNvGrpSpPr/>
              <p:nvPr/>
            </p:nvGrpSpPr>
            <p:grpSpPr>
              <a:xfrm>
                <a:off x="7693560" y="915480"/>
                <a:ext cx="1443240" cy="528480"/>
                <a:chOff x="7693560" y="915480"/>
                <a:chExt cx="1443240" cy="528480"/>
              </a:xfrm>
            </p:grpSpPr>
            <p:sp>
              <p:nvSpPr>
                <p:cNvPr id="169" name=""/>
                <p:cNvSpPr/>
                <p:nvPr/>
              </p:nvSpPr>
              <p:spPr>
                <a:xfrm>
                  <a:off x="7693560" y="915480"/>
                  <a:ext cx="14432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01 de agosto de 199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0" name=""/>
                <p:cNvSpPr/>
                <p:nvPr/>
              </p:nvSpPr>
              <p:spPr>
                <a:xfrm>
                  <a:off x="7693560" y="915480"/>
                  <a:ext cx="14432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1" name=""/>
              <p:cNvGrpSpPr/>
              <p:nvPr/>
            </p:nvGrpSpPr>
            <p:grpSpPr>
              <a:xfrm>
                <a:off x="5760" y="1444320"/>
                <a:ext cx="1808640" cy="633960"/>
                <a:chOff x="5760" y="1444320"/>
                <a:chExt cx="1808640" cy="633960"/>
              </a:xfrm>
            </p:grpSpPr>
            <p:sp>
              <p:nvSpPr>
                <p:cNvPr id="172" name=""/>
                <p:cNvSpPr/>
                <p:nvPr/>
              </p:nvSpPr>
              <p:spPr>
                <a:xfrm>
                  <a:off x="5760" y="1444320"/>
                  <a:ext cx="1808640" cy="633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COLOMBI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3" name=""/>
                <p:cNvSpPr/>
                <p:nvPr/>
              </p:nvSpPr>
              <p:spPr>
                <a:xfrm>
                  <a:off x="5760" y="1444320"/>
                  <a:ext cx="1808640" cy="63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4" name=""/>
              <p:cNvGrpSpPr/>
              <p:nvPr/>
            </p:nvGrpSpPr>
            <p:grpSpPr>
              <a:xfrm>
                <a:off x="1814760" y="1444320"/>
                <a:ext cx="4555080" cy="633960"/>
                <a:chOff x="1814760" y="1444320"/>
                <a:chExt cx="4555080" cy="633960"/>
              </a:xfrm>
            </p:grpSpPr>
            <p:sp>
              <p:nvSpPr>
                <p:cNvPr id="175" name=""/>
                <p:cNvSpPr/>
                <p:nvPr/>
              </p:nvSpPr>
              <p:spPr>
                <a:xfrm>
                  <a:off x="1814760" y="1444320"/>
                  <a:ext cx="4555080" cy="633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Tratado de Libre Comerci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6" name=""/>
                <p:cNvSpPr/>
                <p:nvPr/>
              </p:nvSpPr>
              <p:spPr>
                <a:xfrm>
                  <a:off x="1814760" y="1444320"/>
                  <a:ext cx="4555080" cy="63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7" name=""/>
              <p:cNvGrpSpPr/>
              <p:nvPr/>
            </p:nvGrpSpPr>
            <p:grpSpPr>
              <a:xfrm>
                <a:off x="6370200" y="1444320"/>
                <a:ext cx="1322640" cy="633960"/>
                <a:chOff x="6370200" y="1444320"/>
                <a:chExt cx="1322640" cy="633960"/>
              </a:xfrm>
            </p:grpSpPr>
            <p:sp>
              <p:nvSpPr>
                <p:cNvPr id="178" name=""/>
                <p:cNvSpPr/>
                <p:nvPr/>
              </p:nvSpPr>
              <p:spPr>
                <a:xfrm>
                  <a:off x="6370200" y="1444320"/>
                  <a:ext cx="1322640" cy="633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27 de noviembre de 200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9" name=""/>
                <p:cNvSpPr/>
                <p:nvPr/>
              </p:nvSpPr>
              <p:spPr>
                <a:xfrm>
                  <a:off x="6370200" y="1444320"/>
                  <a:ext cx="1322640" cy="63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0" name=""/>
              <p:cNvGrpSpPr/>
              <p:nvPr/>
            </p:nvGrpSpPr>
            <p:grpSpPr>
              <a:xfrm>
                <a:off x="7693560" y="1444320"/>
                <a:ext cx="1443240" cy="633960"/>
                <a:chOff x="7693560" y="1444320"/>
                <a:chExt cx="1443240" cy="633960"/>
              </a:xfrm>
            </p:grpSpPr>
            <p:sp>
              <p:nvSpPr>
                <p:cNvPr id="181" name=""/>
                <p:cNvSpPr/>
                <p:nvPr/>
              </p:nvSpPr>
              <p:spPr>
                <a:xfrm>
                  <a:off x="7693560" y="1444320"/>
                  <a:ext cx="1443240" cy="633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cc00"/>
                      </a:solidFill>
                      <a:latin typeface="Arial"/>
                      <a:ea typeface="Times New Roman"/>
                    </a:rPr>
                    <a:t>Falta concluir tramitacion parlamentaria</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82" name=""/>
                <p:cNvSpPr/>
                <p:nvPr/>
              </p:nvSpPr>
              <p:spPr>
                <a:xfrm>
                  <a:off x="7693560" y="1444320"/>
                  <a:ext cx="1443240" cy="63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3" name=""/>
              <p:cNvGrpSpPr/>
              <p:nvPr/>
            </p:nvGrpSpPr>
            <p:grpSpPr>
              <a:xfrm>
                <a:off x="5760" y="2078640"/>
                <a:ext cx="1808640" cy="528480"/>
                <a:chOff x="5760" y="2078640"/>
                <a:chExt cx="1808640" cy="528480"/>
              </a:xfrm>
            </p:grpSpPr>
            <p:sp>
              <p:nvSpPr>
                <p:cNvPr id="184" name=""/>
                <p:cNvSpPr/>
                <p:nvPr/>
              </p:nvSpPr>
              <p:spPr>
                <a:xfrm>
                  <a:off x="5760" y="2078640"/>
                  <a:ext cx="1808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Peru</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5" name=""/>
                <p:cNvSpPr/>
                <p:nvPr/>
              </p:nvSpPr>
              <p:spPr>
                <a:xfrm>
                  <a:off x="5760" y="2078640"/>
                  <a:ext cx="1808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6" name=""/>
              <p:cNvGrpSpPr/>
              <p:nvPr/>
            </p:nvGrpSpPr>
            <p:grpSpPr>
              <a:xfrm>
                <a:off x="1814760" y="2078640"/>
                <a:ext cx="4555080" cy="528480"/>
                <a:chOff x="1814760" y="2078640"/>
                <a:chExt cx="4555080" cy="528480"/>
              </a:xfrm>
            </p:grpSpPr>
            <p:sp>
              <p:nvSpPr>
                <p:cNvPr id="187" name=""/>
                <p:cNvSpPr/>
                <p:nvPr/>
              </p:nvSpPr>
              <p:spPr>
                <a:xfrm>
                  <a:off x="1814760" y="2078640"/>
                  <a:ext cx="455508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Tratado de Libre Comerci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8" name=""/>
                <p:cNvSpPr/>
                <p:nvPr/>
              </p:nvSpPr>
              <p:spPr>
                <a:xfrm>
                  <a:off x="1814760" y="2078640"/>
                  <a:ext cx="45550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9" name=""/>
              <p:cNvGrpSpPr/>
              <p:nvPr/>
            </p:nvGrpSpPr>
            <p:grpSpPr>
              <a:xfrm>
                <a:off x="6370200" y="2078640"/>
                <a:ext cx="1322640" cy="528480"/>
                <a:chOff x="6370200" y="2078640"/>
                <a:chExt cx="1322640" cy="528480"/>
              </a:xfrm>
            </p:grpSpPr>
            <p:sp>
              <p:nvSpPr>
                <p:cNvPr id="190" name=""/>
                <p:cNvSpPr/>
                <p:nvPr/>
              </p:nvSpPr>
              <p:spPr>
                <a:xfrm>
                  <a:off x="6370200" y="2078640"/>
                  <a:ext cx="1322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22 de agosto de 200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1" name=""/>
                <p:cNvSpPr/>
                <p:nvPr/>
              </p:nvSpPr>
              <p:spPr>
                <a:xfrm>
                  <a:off x="6370200" y="2078640"/>
                  <a:ext cx="1322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2" name=""/>
              <p:cNvGrpSpPr/>
              <p:nvPr/>
            </p:nvGrpSpPr>
            <p:grpSpPr>
              <a:xfrm>
                <a:off x="7693560" y="2078640"/>
                <a:ext cx="1443240" cy="528480"/>
                <a:chOff x="7693560" y="2078640"/>
                <a:chExt cx="1443240" cy="528480"/>
              </a:xfrm>
            </p:grpSpPr>
            <p:sp>
              <p:nvSpPr>
                <p:cNvPr id="193" name=""/>
                <p:cNvSpPr/>
                <p:nvPr/>
              </p:nvSpPr>
              <p:spPr>
                <a:xfrm>
                  <a:off x="7693560" y="2078640"/>
                  <a:ext cx="14432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01 de marzo de 2009</a:t>
                  </a:r>
                  <a:r>
                    <a:rPr b="1" lang="es-CL" sz="800" spc="-1" strike="noStrike">
                      <a:solidFill>
                        <a:srgbClr val="ffffff"/>
                      </a:solidFill>
                      <a:latin typeface="Arial"/>
                      <a:ea typeface="Times New Roman"/>
                    </a:rPr>
                    <a:t> </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94" name=""/>
                <p:cNvSpPr/>
                <p:nvPr/>
              </p:nvSpPr>
              <p:spPr>
                <a:xfrm>
                  <a:off x="7693560" y="2078640"/>
                  <a:ext cx="14432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5" name=""/>
              <p:cNvGrpSpPr/>
              <p:nvPr/>
            </p:nvGrpSpPr>
            <p:grpSpPr>
              <a:xfrm>
                <a:off x="5760" y="2607120"/>
                <a:ext cx="1808640" cy="528480"/>
                <a:chOff x="5760" y="2607120"/>
                <a:chExt cx="1808640" cy="528480"/>
              </a:xfrm>
            </p:grpSpPr>
            <p:sp>
              <p:nvSpPr>
                <p:cNvPr id="196" name=""/>
                <p:cNvSpPr/>
                <p:nvPr/>
              </p:nvSpPr>
              <p:spPr>
                <a:xfrm>
                  <a:off x="5760" y="2607120"/>
                  <a:ext cx="1808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Ecuado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7" name=""/>
                <p:cNvSpPr/>
                <p:nvPr/>
              </p:nvSpPr>
              <p:spPr>
                <a:xfrm>
                  <a:off x="5760" y="2607120"/>
                  <a:ext cx="1808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8" name=""/>
              <p:cNvGrpSpPr/>
              <p:nvPr/>
            </p:nvGrpSpPr>
            <p:grpSpPr>
              <a:xfrm>
                <a:off x="1814760" y="2607120"/>
                <a:ext cx="4555080" cy="528480"/>
                <a:chOff x="1814760" y="2607120"/>
                <a:chExt cx="4555080" cy="528480"/>
              </a:xfrm>
            </p:grpSpPr>
            <p:sp>
              <p:nvSpPr>
                <p:cNvPr id="199" name=""/>
                <p:cNvSpPr/>
                <p:nvPr/>
              </p:nvSpPr>
              <p:spPr>
                <a:xfrm>
                  <a:off x="1814760" y="2607120"/>
                  <a:ext cx="455508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cc00"/>
                      </a:solidFill>
                      <a:latin typeface="Arial"/>
                      <a:ea typeface="Times New Roman"/>
                    </a:rPr>
                    <a:t>(2) Acuerdo de Complementacion Economica Nº 32</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00" name=""/>
                <p:cNvSpPr/>
                <p:nvPr/>
              </p:nvSpPr>
              <p:spPr>
                <a:xfrm>
                  <a:off x="1814760" y="2607120"/>
                  <a:ext cx="45550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1" name=""/>
              <p:cNvGrpSpPr/>
              <p:nvPr/>
            </p:nvGrpSpPr>
            <p:grpSpPr>
              <a:xfrm>
                <a:off x="6370200" y="2607120"/>
                <a:ext cx="1322640" cy="528480"/>
                <a:chOff x="6370200" y="2607120"/>
                <a:chExt cx="1322640" cy="528480"/>
              </a:xfrm>
            </p:grpSpPr>
            <p:sp>
              <p:nvSpPr>
                <p:cNvPr id="202" name=""/>
                <p:cNvSpPr/>
                <p:nvPr/>
              </p:nvSpPr>
              <p:spPr>
                <a:xfrm>
                  <a:off x="6370200" y="2607120"/>
                  <a:ext cx="1322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cc00"/>
                      </a:solidFill>
                      <a:latin typeface="Arial"/>
                      <a:ea typeface="Times New Roman"/>
                    </a:rPr>
                    <a:t>20 de diciembre de 199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3" name=""/>
                <p:cNvSpPr/>
                <p:nvPr/>
              </p:nvSpPr>
              <p:spPr>
                <a:xfrm>
                  <a:off x="6370200" y="2607120"/>
                  <a:ext cx="1322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4" name=""/>
              <p:cNvGrpSpPr/>
              <p:nvPr/>
            </p:nvGrpSpPr>
            <p:grpSpPr>
              <a:xfrm>
                <a:off x="7693560" y="2607120"/>
                <a:ext cx="1443240" cy="528480"/>
                <a:chOff x="7693560" y="2607120"/>
                <a:chExt cx="1443240" cy="528480"/>
              </a:xfrm>
            </p:grpSpPr>
            <p:sp>
              <p:nvSpPr>
                <p:cNvPr id="205" name=""/>
                <p:cNvSpPr/>
                <p:nvPr/>
              </p:nvSpPr>
              <p:spPr>
                <a:xfrm>
                  <a:off x="7693560" y="2607120"/>
                  <a:ext cx="14432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01 de enero de 199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6" name=""/>
                <p:cNvSpPr/>
                <p:nvPr/>
              </p:nvSpPr>
              <p:spPr>
                <a:xfrm>
                  <a:off x="7693560" y="2607120"/>
                  <a:ext cx="14432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7" name=""/>
              <p:cNvGrpSpPr/>
              <p:nvPr/>
            </p:nvGrpSpPr>
            <p:grpSpPr>
              <a:xfrm>
                <a:off x="5760" y="3135960"/>
                <a:ext cx="1808640" cy="528120"/>
                <a:chOff x="5760" y="3135960"/>
                <a:chExt cx="1808640" cy="528120"/>
              </a:xfrm>
            </p:grpSpPr>
            <p:sp>
              <p:nvSpPr>
                <p:cNvPr id="208" name=""/>
                <p:cNvSpPr/>
                <p:nvPr/>
              </p:nvSpPr>
              <p:spPr>
                <a:xfrm>
                  <a:off x="5760" y="3135960"/>
                  <a:ext cx="1808640" cy="528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Bolivi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9" name=""/>
                <p:cNvSpPr/>
                <p:nvPr/>
              </p:nvSpPr>
              <p:spPr>
                <a:xfrm>
                  <a:off x="5760" y="3135960"/>
                  <a:ext cx="1808640" cy="52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0" name=""/>
              <p:cNvGrpSpPr/>
              <p:nvPr/>
            </p:nvGrpSpPr>
            <p:grpSpPr>
              <a:xfrm>
                <a:off x="1814760" y="3135960"/>
                <a:ext cx="4555080" cy="528120"/>
                <a:chOff x="1814760" y="3135960"/>
                <a:chExt cx="4555080" cy="528120"/>
              </a:xfrm>
            </p:grpSpPr>
            <p:sp>
              <p:nvSpPr>
                <p:cNvPr id="211" name=""/>
                <p:cNvSpPr/>
                <p:nvPr/>
              </p:nvSpPr>
              <p:spPr>
                <a:xfrm>
                  <a:off x="1814760" y="3135960"/>
                  <a:ext cx="4555080" cy="528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cc00"/>
                      </a:solidFill>
                      <a:latin typeface="Arial"/>
                      <a:ea typeface="Times New Roman"/>
                    </a:rPr>
                    <a:t>Acuerdo de Complementacion Economica Nº 22</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12" name=""/>
                <p:cNvSpPr/>
                <p:nvPr/>
              </p:nvSpPr>
              <p:spPr>
                <a:xfrm>
                  <a:off x="1814760" y="3135960"/>
                  <a:ext cx="4555080" cy="52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3" name=""/>
              <p:cNvGrpSpPr/>
              <p:nvPr/>
            </p:nvGrpSpPr>
            <p:grpSpPr>
              <a:xfrm>
                <a:off x="6370200" y="3135960"/>
                <a:ext cx="1322640" cy="528120"/>
                <a:chOff x="6370200" y="3135960"/>
                <a:chExt cx="1322640" cy="528120"/>
              </a:xfrm>
            </p:grpSpPr>
            <p:sp>
              <p:nvSpPr>
                <p:cNvPr id="214" name=""/>
                <p:cNvSpPr/>
                <p:nvPr/>
              </p:nvSpPr>
              <p:spPr>
                <a:xfrm>
                  <a:off x="6370200" y="3135960"/>
                  <a:ext cx="1322640" cy="528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06 de abril de 199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5" name=""/>
                <p:cNvSpPr/>
                <p:nvPr/>
              </p:nvSpPr>
              <p:spPr>
                <a:xfrm>
                  <a:off x="6370200" y="3135960"/>
                  <a:ext cx="1322640" cy="52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6" name=""/>
              <p:cNvGrpSpPr/>
              <p:nvPr/>
            </p:nvGrpSpPr>
            <p:grpSpPr>
              <a:xfrm>
                <a:off x="7693560" y="3135960"/>
                <a:ext cx="1443240" cy="528120"/>
                <a:chOff x="7693560" y="3135960"/>
                <a:chExt cx="1443240" cy="528120"/>
              </a:xfrm>
            </p:grpSpPr>
            <p:sp>
              <p:nvSpPr>
                <p:cNvPr id="217" name=""/>
                <p:cNvSpPr/>
                <p:nvPr/>
              </p:nvSpPr>
              <p:spPr>
                <a:xfrm>
                  <a:off x="7693560" y="3135960"/>
                  <a:ext cx="1443240" cy="528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07 de julio de 199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 name=""/>
                <p:cNvSpPr/>
                <p:nvPr/>
              </p:nvSpPr>
              <p:spPr>
                <a:xfrm>
                  <a:off x="7693560" y="3135960"/>
                  <a:ext cx="1443240" cy="52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9" name=""/>
              <p:cNvGrpSpPr/>
              <p:nvPr/>
            </p:nvGrpSpPr>
            <p:grpSpPr>
              <a:xfrm>
                <a:off x="5760" y="3664440"/>
                <a:ext cx="1808640" cy="528480"/>
                <a:chOff x="5760" y="3664440"/>
                <a:chExt cx="1808640" cy="528480"/>
              </a:xfrm>
            </p:grpSpPr>
            <p:sp>
              <p:nvSpPr>
                <p:cNvPr id="220" name=""/>
                <p:cNvSpPr/>
                <p:nvPr/>
              </p:nvSpPr>
              <p:spPr>
                <a:xfrm>
                  <a:off x="5760" y="3664440"/>
                  <a:ext cx="1808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Venezuel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1" name=""/>
                <p:cNvSpPr/>
                <p:nvPr/>
              </p:nvSpPr>
              <p:spPr>
                <a:xfrm>
                  <a:off x="5760" y="3664440"/>
                  <a:ext cx="1808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2" name=""/>
              <p:cNvGrpSpPr/>
              <p:nvPr/>
            </p:nvGrpSpPr>
            <p:grpSpPr>
              <a:xfrm>
                <a:off x="1814760" y="3664440"/>
                <a:ext cx="4555080" cy="528480"/>
                <a:chOff x="1814760" y="3664440"/>
                <a:chExt cx="4555080" cy="528480"/>
              </a:xfrm>
            </p:grpSpPr>
            <p:sp>
              <p:nvSpPr>
                <p:cNvPr id="223" name=""/>
                <p:cNvSpPr/>
                <p:nvPr/>
              </p:nvSpPr>
              <p:spPr>
                <a:xfrm>
                  <a:off x="1814760" y="3664440"/>
                  <a:ext cx="455508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cc00"/>
                      </a:solidFill>
                      <a:latin typeface="Arial"/>
                      <a:ea typeface="Times New Roman"/>
                    </a:rPr>
                    <a:t>Acuerdo de Complementacion Economica Nº 23</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24" name=""/>
                <p:cNvSpPr/>
                <p:nvPr/>
              </p:nvSpPr>
              <p:spPr>
                <a:xfrm>
                  <a:off x="1814760" y="3664440"/>
                  <a:ext cx="45550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5" name=""/>
              <p:cNvGrpSpPr/>
              <p:nvPr/>
            </p:nvGrpSpPr>
            <p:grpSpPr>
              <a:xfrm>
                <a:off x="6370200" y="3664440"/>
                <a:ext cx="1322640" cy="528480"/>
                <a:chOff x="6370200" y="3664440"/>
                <a:chExt cx="1322640" cy="528480"/>
              </a:xfrm>
            </p:grpSpPr>
            <p:sp>
              <p:nvSpPr>
                <p:cNvPr id="226" name=""/>
                <p:cNvSpPr/>
                <p:nvPr/>
              </p:nvSpPr>
              <p:spPr>
                <a:xfrm>
                  <a:off x="6370200" y="3664440"/>
                  <a:ext cx="1322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02 de abril de 199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
                <p:cNvSpPr/>
                <p:nvPr/>
              </p:nvSpPr>
              <p:spPr>
                <a:xfrm>
                  <a:off x="6370200" y="3664440"/>
                  <a:ext cx="1322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8" name=""/>
              <p:cNvGrpSpPr/>
              <p:nvPr/>
            </p:nvGrpSpPr>
            <p:grpSpPr>
              <a:xfrm>
                <a:off x="7693560" y="3664440"/>
                <a:ext cx="1443240" cy="528480"/>
                <a:chOff x="7693560" y="3664440"/>
                <a:chExt cx="1443240" cy="528480"/>
              </a:xfrm>
            </p:grpSpPr>
            <p:sp>
              <p:nvSpPr>
                <p:cNvPr id="229" name=""/>
                <p:cNvSpPr/>
                <p:nvPr/>
              </p:nvSpPr>
              <p:spPr>
                <a:xfrm>
                  <a:off x="7693560" y="3664440"/>
                  <a:ext cx="14432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01 de julio de 199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
                <p:cNvSpPr/>
                <p:nvPr/>
              </p:nvSpPr>
              <p:spPr>
                <a:xfrm>
                  <a:off x="7693560" y="3664440"/>
                  <a:ext cx="14432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1" name=""/>
              <p:cNvGrpSpPr/>
              <p:nvPr/>
            </p:nvGrpSpPr>
            <p:grpSpPr>
              <a:xfrm>
                <a:off x="5760" y="4192920"/>
                <a:ext cx="1808640" cy="528480"/>
                <a:chOff x="5760" y="4192920"/>
                <a:chExt cx="1808640" cy="528480"/>
              </a:xfrm>
            </p:grpSpPr>
            <p:sp>
              <p:nvSpPr>
                <p:cNvPr id="232" name=""/>
                <p:cNvSpPr/>
                <p:nvPr/>
              </p:nvSpPr>
              <p:spPr>
                <a:xfrm>
                  <a:off x="5760" y="4192920"/>
                  <a:ext cx="1808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Cuba</a:t>
                  </a:r>
                  <a:endParaRPr b="0" lang="en-US" sz="1600" spc="-1" strike="noStrike">
                    <a:solidFill>
                      <a:srgbClr val="ffffff"/>
                    </a:solidFill>
                    <a:latin typeface="Arial"/>
                  </a:endParaRPr>
                </a:p>
              </p:txBody>
            </p:sp>
            <p:sp>
              <p:nvSpPr>
                <p:cNvPr id="233" name=""/>
                <p:cNvSpPr/>
                <p:nvPr/>
              </p:nvSpPr>
              <p:spPr>
                <a:xfrm>
                  <a:off x="5760" y="4192920"/>
                  <a:ext cx="1808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4" name=""/>
              <p:cNvGrpSpPr/>
              <p:nvPr/>
            </p:nvGrpSpPr>
            <p:grpSpPr>
              <a:xfrm>
                <a:off x="1814760" y="4192920"/>
                <a:ext cx="4555080" cy="528480"/>
                <a:chOff x="1814760" y="4192920"/>
                <a:chExt cx="4555080" cy="528480"/>
              </a:xfrm>
            </p:grpSpPr>
            <p:sp>
              <p:nvSpPr>
                <p:cNvPr id="235" name=""/>
                <p:cNvSpPr/>
                <p:nvPr/>
              </p:nvSpPr>
              <p:spPr>
                <a:xfrm>
                  <a:off x="1814760" y="4192920"/>
                  <a:ext cx="455508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3) Acuerdo de Alcance Parcia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6" name=""/>
                <p:cNvSpPr/>
                <p:nvPr/>
              </p:nvSpPr>
              <p:spPr>
                <a:xfrm>
                  <a:off x="1814760" y="4192920"/>
                  <a:ext cx="45550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7" name=""/>
              <p:cNvGrpSpPr/>
              <p:nvPr/>
            </p:nvGrpSpPr>
            <p:grpSpPr>
              <a:xfrm>
                <a:off x="6370200" y="4192920"/>
                <a:ext cx="1322640" cy="528480"/>
                <a:chOff x="6370200" y="4192920"/>
                <a:chExt cx="1322640" cy="528480"/>
              </a:xfrm>
            </p:grpSpPr>
            <p:sp>
              <p:nvSpPr>
                <p:cNvPr id="238" name=""/>
                <p:cNvSpPr/>
                <p:nvPr/>
              </p:nvSpPr>
              <p:spPr>
                <a:xfrm>
                  <a:off x="6370200" y="4192920"/>
                  <a:ext cx="1322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20 de Diciembre de 1999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9" name=""/>
                <p:cNvSpPr/>
                <p:nvPr/>
              </p:nvSpPr>
              <p:spPr>
                <a:xfrm>
                  <a:off x="6370200" y="4192920"/>
                  <a:ext cx="1322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0" name=""/>
              <p:cNvGrpSpPr/>
              <p:nvPr/>
            </p:nvGrpSpPr>
            <p:grpSpPr>
              <a:xfrm>
                <a:off x="7693560" y="4192920"/>
                <a:ext cx="1443240" cy="528480"/>
                <a:chOff x="7693560" y="4192920"/>
                <a:chExt cx="1443240" cy="528480"/>
              </a:xfrm>
            </p:grpSpPr>
            <p:sp>
              <p:nvSpPr>
                <p:cNvPr id="241" name=""/>
                <p:cNvSpPr/>
                <p:nvPr/>
              </p:nvSpPr>
              <p:spPr>
                <a:xfrm>
                  <a:off x="7693560" y="4192920"/>
                  <a:ext cx="14432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28 de Agosto de 200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2" name=""/>
                <p:cNvSpPr/>
                <p:nvPr/>
              </p:nvSpPr>
              <p:spPr>
                <a:xfrm>
                  <a:off x="7693560" y="4192920"/>
                  <a:ext cx="14432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3" name=""/>
              <p:cNvGrpSpPr/>
              <p:nvPr/>
            </p:nvGrpSpPr>
            <p:grpSpPr>
              <a:xfrm>
                <a:off x="5760" y="4721760"/>
                <a:ext cx="9131040" cy="739800"/>
                <a:chOff x="5760" y="4721760"/>
                <a:chExt cx="9131040" cy="739800"/>
              </a:xfrm>
            </p:grpSpPr>
            <p:sp>
              <p:nvSpPr>
                <p:cNvPr id="244" name=""/>
                <p:cNvSpPr/>
                <p:nvPr/>
              </p:nvSpPr>
              <p:spPr>
                <a:xfrm>
                  <a:off x="5760" y="4721760"/>
                  <a:ext cx="913104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ea typeface="Times New Roman"/>
                    </a:rPr>
                    <a:t>(1) </a:t>
                  </a:r>
                  <a:r>
                    <a:rPr b="0" lang="es-CL" sz="1000" spc="-1" strike="noStrike">
                      <a:solidFill>
                        <a:srgbClr val="ffffff"/>
                      </a:solidFill>
                      <a:latin typeface="Arial"/>
                      <a:ea typeface="Times New Roman"/>
                    </a:rPr>
                    <a:t>Es un acuerdo bilateral que persigue crear una zona de libre comercio que garantice la libre circulación de bienes, servicios y capitales, mediante una armonización de políticas y normas jurídicas pertinentes. Éstas deben asegurar bases competitivas homologables o comunes en ámbitos no directamente comerciales, pero que pueden tener una alta incidencia competitiva (medio ambiente, sanidad y fitosanidad, obstáculos técnicos al comercio, propiedad intelectual, solución de controversias, seguridad jurídica, etc.)</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245" name=""/>
                <p:cNvSpPr/>
                <p:nvPr/>
              </p:nvSpPr>
              <p:spPr>
                <a:xfrm>
                  <a:off x="5760" y="4721760"/>
                  <a:ext cx="9131040" cy="73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6" name=""/>
              <p:cNvGrpSpPr/>
              <p:nvPr/>
            </p:nvGrpSpPr>
            <p:grpSpPr>
              <a:xfrm>
                <a:off x="5760" y="5461920"/>
                <a:ext cx="9131040" cy="633960"/>
                <a:chOff x="5760" y="5461920"/>
                <a:chExt cx="9131040" cy="633960"/>
              </a:xfrm>
            </p:grpSpPr>
            <p:sp>
              <p:nvSpPr>
                <p:cNvPr id="247" name=""/>
                <p:cNvSpPr/>
                <p:nvPr/>
              </p:nvSpPr>
              <p:spPr>
                <a:xfrm>
                  <a:off x="5760" y="5461920"/>
                  <a:ext cx="9131040" cy="633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ea typeface="Times New Roman"/>
                    </a:rPr>
                    <a:t>(2) </a:t>
                  </a:r>
                  <a:r>
                    <a:rPr b="0" lang="es-CL" sz="1200" spc="-1" strike="noStrike">
                      <a:solidFill>
                        <a:srgbClr val="ffffff"/>
                      </a:solidFill>
                      <a:latin typeface="Arial"/>
                      <a:ea typeface="Times New Roman"/>
                    </a:rPr>
                    <a:t>Es la denominación que usan los países latinoamericanos en los acuerdos bilaterales que contraen entre sí para abrir recíprocamente sus mercados de mercancías, los que se inscriben en el marco jurídico de la ALADI. Los ACE apuntan a objetivos integradores de apertura de mercados mayores que los acuerdos de alcance parcial.</a:t>
                  </a:r>
                  <a:endParaRPr b="0" lang="en-US" sz="1200" spc="-1" strike="noStrike">
                    <a:solidFill>
                      <a:srgbClr val="ffffff"/>
                    </a:solidFill>
                    <a:latin typeface="Arial"/>
                  </a:endParaRPr>
                </a:p>
              </p:txBody>
            </p:sp>
            <p:sp>
              <p:nvSpPr>
                <p:cNvPr id="248" name=""/>
                <p:cNvSpPr/>
                <p:nvPr/>
              </p:nvSpPr>
              <p:spPr>
                <a:xfrm>
                  <a:off x="5760" y="5461920"/>
                  <a:ext cx="9131040" cy="63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9" name=""/>
              <p:cNvGrpSpPr/>
              <p:nvPr/>
            </p:nvGrpSpPr>
            <p:grpSpPr>
              <a:xfrm>
                <a:off x="5760" y="6096240"/>
                <a:ext cx="9131040" cy="528480"/>
                <a:chOff x="5760" y="6096240"/>
                <a:chExt cx="9131040" cy="528480"/>
              </a:xfrm>
            </p:grpSpPr>
            <p:sp>
              <p:nvSpPr>
                <p:cNvPr id="250" name=""/>
                <p:cNvSpPr/>
                <p:nvPr/>
              </p:nvSpPr>
              <p:spPr>
                <a:xfrm>
                  <a:off x="5760" y="6096240"/>
                  <a:ext cx="91310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ea typeface="Times New Roman"/>
                    </a:rPr>
                    <a:t>(</a:t>
                  </a:r>
                  <a:r>
                    <a:rPr b="1" lang="es-CL" sz="1200" spc="-1" strike="noStrike">
                      <a:solidFill>
                        <a:srgbClr val="ffffff"/>
                      </a:solidFill>
                      <a:latin typeface="Arial"/>
                      <a:ea typeface="Times New Roman"/>
                    </a:rPr>
                    <a:t>3) </a:t>
                  </a:r>
                  <a:r>
                    <a:rPr b="0" lang="es-CL" sz="1200" spc="-1" strike="noStrike">
                      <a:solidFill>
                        <a:srgbClr val="ffffff"/>
                      </a:solidFill>
                      <a:latin typeface="Arial"/>
                      <a:ea typeface="Times New Roman"/>
                    </a:rPr>
                    <a:t>Es el tipo de acuerdo bilateral más básico en materias arancelarias que persigue liberar parcialmente el comercio de listados acotados de productos. Normalmente se le concibe como una primera etapa en un proceso de apertura mayor a largo plaz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1" name=""/>
                <p:cNvSpPr/>
                <p:nvPr/>
              </p:nvSpPr>
              <p:spPr>
                <a:xfrm>
                  <a:off x="5760" y="6096240"/>
                  <a:ext cx="91310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52" name=""/>
            <p:cNvSpPr/>
            <p:nvPr/>
          </p:nvSpPr>
          <p:spPr>
            <a:xfrm>
              <a:off x="0" y="0"/>
              <a:ext cx="9143640" cy="66294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 name="PlaceHolder 1"/>
          <p:cNvSpPr>
            <a:spLocks noGrp="1"/>
          </p:cNvSpPr>
          <p:nvPr>
            <p:ph type="sldNum" idx="2"/>
          </p:nvPr>
        </p:nvSpPr>
        <p:spPr/>
        <p:txBody>
          <a:bodyPr/>
          <a:p>
            <a:fld id="{66EF5A0F-F3D2-43AF-93C2-DCB778634025}"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Objetivos:</a:t>
            </a:r>
            <a:endParaRPr b="1" lang="en-US" sz="4400" spc="-1" strike="noStrike">
              <a:solidFill>
                <a:srgbClr val="e5e5ff"/>
              </a:solidFill>
              <a:latin typeface="Garamond"/>
            </a:endParaRPr>
          </a:p>
        </p:txBody>
      </p:sp>
      <p:sp>
        <p:nvSpPr>
          <p:cNvPr id="104" name="PlaceHolder 2"/>
          <p:cNvSpPr>
            <a:spLocks noGrp="1"/>
          </p:cNvSpPr>
          <p:nvPr>
            <p:ph/>
          </p:nvPr>
        </p:nvSpPr>
        <p:spPr>
          <a:xfrm>
            <a:off x="457200" y="1196640"/>
            <a:ext cx="8229600" cy="5256360"/>
          </a:xfrm>
          <a:prstGeom prst="rect">
            <a:avLst/>
          </a:prstGeom>
          <a:noFill/>
          <a:ln w="0">
            <a:noFill/>
          </a:ln>
        </p:spPr>
        <p:txBody>
          <a:bodyPr lIns="90000" rIns="90000" tIns="46800" bIns="46800"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Fortalecer los lazos de amistad entre los pueblos de América Latina.</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Generar y acelerar la integración económica regional – a objeto de mejorar el nivel de vida de los pueblos.</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romover el desarrollo económico-social, armónico y equilibrado de la región. (Art. 1)</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stablecer en forma gradual y progresiva, un mercado común latinoamericano.</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3392BE7A-FCEE-4C1C-A293-5F03A72E86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Desarrollo de funciones básicas a saber:</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Promoción y regulación del comerci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recíproc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La complementación económica.</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Acciones de cooperación a fin de ampliar lo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mercados.</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EAA64ABF-70CA-4A8D-9C99-675AD75835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Principios rectores de la ALADI.</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Se encuentran consignados en el Art. 3 Tratado de Montevide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luralism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Convergenci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Flexibilida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ratamiento diferenciad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Multiplicidad</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10E3E707-C512-444C-B7AB-2DFD586C7A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luralism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Sustentado en la voluntad de los países  </a:t>
            </a:r>
            <a:r>
              <a:rPr b="0" lang="es-ES" sz="3200" spc="-1" strike="noStrike">
                <a:solidFill>
                  <a:srgbClr val="ffffff"/>
                </a:solidFill>
                <a:latin typeface="Garamond"/>
              </a:rPr>
              <a:t>	</a:t>
            </a:r>
            <a:r>
              <a:rPr b="0" lang="es-ES" sz="3200" spc="-1" strike="noStrike">
                <a:solidFill>
                  <a:srgbClr val="ffffff"/>
                </a:solidFill>
                <a:latin typeface="Garamond"/>
              </a:rPr>
              <a:t>miembro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Abarca materias tanto políticas como </a:t>
            </a:r>
            <a:r>
              <a:rPr b="0" lang="es-ES" sz="3200" spc="-1" strike="noStrike">
                <a:solidFill>
                  <a:srgbClr val="ffffff"/>
                </a:solidFill>
                <a:latin typeface="Garamond"/>
              </a:rPr>
              <a:t>	</a:t>
            </a:r>
            <a:r>
              <a:rPr b="0" lang="es-ES" sz="3200" spc="-1" strike="noStrike">
                <a:solidFill>
                  <a:srgbClr val="ffffff"/>
                </a:solidFill>
                <a:latin typeface="Garamond"/>
              </a:rPr>
              <a:t>económica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0FFBD1F7-FA35-466A-9476-B9C0C715E4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Convergencia</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Es el de mayor importancia.</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Multilateralización progresiva de los acuerdos de          alcance parcial – hacia la formación de un mercado común latinoamericano.</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Negociaciones periódicas entre los países miembros.</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50EEB442-479A-4BE5-B50C-E54F5547B1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Flexibilidad</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ermite celebración de acuerdos de alcance parcial.</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Regulado de manera compatible con el principio de convergencia y el fortalecimiento de los vínculos de integración.</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FCCB4874-68BB-4A38-A13C-917DA90DB7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ratamiento diferenciado</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e determina en cada caso.</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anto mecanismos de alcance parcial como regional</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obre base de desarrollo de los países miembros- será más favorable a los países de menor desarrollo relativo.</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4F4148E0-08B8-4218-90F2-5EA8C4B07D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1T20:26:11Z</dcterms:created>
  <dc:creator>Sebastian Quiroz</dc:creator>
  <dc:description/>
  <dc:language>en-US</dc:language>
  <cp:lastModifiedBy>Judith María Baeza Henríquez</cp:lastModifiedBy>
  <dcterms:modified xsi:type="dcterms:W3CDTF">2009-04-23T16:49:18Z</dcterms:modified>
  <cp:revision>10</cp:revision>
  <dc:subject/>
  <dc:title>   ALADI</dc:title>
</cp:coreProperties>
</file>