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CDD79-43FA-4E12-BABB-45A07D94D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05141-1336-4FD2-8729-86F59551F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E8999-B399-4A3F-B712-3A3A39235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9F595-E6BA-4650-A52B-B5B2C1ABC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88598-F3FC-433C-83D6-1ECFEECA7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D9354-06C4-427E-8AC4-090C9B1FC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B81AF-1D42-406A-96EC-44D475C8B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26CD3-EF5C-4D83-A63A-225F97751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99473-870F-4613-BE09-103C39B6C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7E08F-D4EF-445E-A1ED-FD5468087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63D3E-9700-40C7-ADF4-2AE69FD71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0A76-289E-4ACA-B39C-B30505D70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3B378-F164-4B54-9E93-8F23D5A14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7C139-AB1E-4874-924B-0510EEA0E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D78E3-17FB-4ED2-8105-B0AB2F157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810A0-E439-4EF6-BEA1-D00B783BC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AB1AF-A382-4A69-8E42-D20927B95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014C1-C6B1-4CD9-B9A2-48D1B69F5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212A5-3974-4B98-8DA0-13CB9FCCF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1B529-1E43-49F4-92D2-9C54383D7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FE92B-551A-4D3E-A4EF-B3E5826D1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BD10-E79B-489A-8789-44CAD73E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A703A-1EEC-4D9B-9F17-1CD5DB984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D454-51E8-4D0E-985B-04EF5FA82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FA42-D6CE-4646-97D3-8482B8C49CAC}"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036E-E754-4F64-878A-E19118C07B85}"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a:t>
            </a:r>
            <a:r>
              <a:rPr b="0" lang="es-ES_tradnl" sz="2000" spc="-1" strike="noStrike">
                <a:solidFill>
                  <a:srgbClr val="ffffff"/>
                </a:solidFill>
                <a:latin typeface="Book Antiqua"/>
              </a:rPr>
              <a:t>, que le envió a O’Higgins en 1815, se refiere al proyecto de unión de nuestros pueblos como la formación de una “Nación de Repúblicas”.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dc:language>en-US</dc:language>
  <cp:lastModifiedBy>Judith María Baeza Henríquez</cp:lastModifiedBy>
  <dcterms:modified xsi:type="dcterms:W3CDTF">2009-03-26T14:45:37Z</dcterms:modified>
  <cp:revision>108</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