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82FAD-7AD0-4900-B358-E4B2A0F70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95534-6412-4344-8A58-83688AB69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DB055-44A6-4A89-B4BA-5C8B6E97B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52EDF-FEA1-40FC-A8AD-103E10587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F25127-C818-4C4C-8642-DB0AC10E5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92FAF-4279-430C-8D73-BB70869C8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01F7A-D713-4C8D-8111-9FDDE26E9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24F72-F2A0-4C43-8EE2-6DDB70956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1CD8E-96F3-4812-93A4-E45D02467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E07C9-FD45-4A15-8B51-3D37354E2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88E0F-7DCB-46D4-B387-26B696BE0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1D970-CFB9-4082-8058-66DFD38B6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A8F37-CA81-43D3-822C-E13170C7B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C6868-0AE5-48EB-A348-89DDF3928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DE46B-58DB-4611-B47C-FB151F911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B6D98-FA54-43CB-BC3D-8F73FFCD7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77D6C-9A71-48A7-8D33-4DBE4F074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480EC-CC34-4421-86E3-24FDB9CA9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E589F-6DC2-43CE-981F-411C4F737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527FA-385E-4CE2-941C-C829DBFA7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7B9A3-0D8C-454B-BA1D-0CD6612C7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4A39D-5364-4DBD-B644-B7A738F32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98F47-2A5C-4AA3-B01F-60C8CFD9B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F7F70-6F3F-45D0-8C86-B5A56CDA1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440" y="1447920"/>
            <a:ext cx="7924680" cy="4572000"/>
          </a:xfrm>
          <a:prstGeom prst="rect">
            <a:avLst/>
          </a:prstGeom>
          <a:solidFill>
            <a:srgbClr val="006699">
              <a:alpha val="60000"/>
            </a:srgbClr>
          </a:solidFill>
          <a:ln w="0">
            <a:noFill/>
          </a:ln>
        </p:spPr>
        <p:txBody>
          <a:bodyPr lIns="90000" rIns="90000" tIns="46800" bIns="46800" anchor="t">
            <a:normAutofit/>
          </a:bodyPr>
          <a:p>
            <a:pPr marL="343080" indent="-34308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172200"/>
            <a:ext cx="15494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38280" y="6172200"/>
            <a:ext cx="40896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1722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7A65-89CF-4FBB-8B81-CF6BEB660A35}" type="slidenum">
              <a:rPr b="0" lang="es-ES" sz="1400" spc="-1" strike="noStrike">
                <a:solidFill>
                  <a:srgbClr val="ffffff"/>
                </a:solidFill>
                <a:latin typeface="Tahom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5194440"/>
            <a:ext cx="74678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823B-913B-4143-9F99-57A7D16ADD42}" type="slidenum">
              <a:rPr b="0" lang="es-E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rot="19691400">
            <a:off x="638280" y="2707920"/>
            <a:ext cx="3429000" cy="3589200"/>
          </a:xfrm>
          <a:prstGeom prst="rect">
            <a:avLst/>
          </a:prstGeom>
          <a:ln w="0">
            <a:noFill/>
          </a:ln>
        </p:spPr>
      </p:pic>
      <p:sp>
        <p:nvSpPr>
          <p:cNvPr id="83" name="PlaceHolder 1"/>
          <p:cNvSpPr>
            <a:spLocks noGrp="1"/>
          </p:cNvSpPr>
          <p:nvPr>
            <p:ph type="title"/>
          </p:nvPr>
        </p:nvSpPr>
        <p:spPr>
          <a:xfrm>
            <a:off x="1835280" y="1700280"/>
            <a:ext cx="72007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La integración en América Latina:</a:t>
            </a:r>
            <a:br>
              <a:rPr sz="4400"/>
            </a:br>
            <a:r>
              <a:rPr b="0" lang="es-ES_tradnl" sz="4400" spc="-1" strike="noStrike">
                <a:solidFill>
                  <a:srgbClr val="ffffff"/>
                </a:solidFill>
                <a:latin typeface="Book Antiqua"/>
              </a:rPr>
              <a:t>antecedentes históricos</a:t>
            </a:r>
            <a:endParaRPr b="0" lang="en-US" sz="4400" spc="-1" strike="noStrike">
              <a:solidFill>
                <a:srgbClr val="ffffff"/>
              </a:solidFill>
              <a:latin typeface="Tahoma"/>
            </a:endParaRPr>
          </a:p>
        </p:txBody>
      </p:sp>
      <p:sp>
        <p:nvSpPr>
          <p:cNvPr id="84" name=""/>
          <p:cNvSpPr/>
          <p:nvPr/>
        </p:nvSpPr>
        <p:spPr>
          <a:xfrm>
            <a:off x="684360" y="4653000"/>
            <a:ext cx="8280360" cy="749160"/>
          </a:xfrm>
          <a:prstGeom prst="rect">
            <a:avLst/>
          </a:prstGeom>
          <a:noFill/>
          <a:ln w="0">
            <a:noFill/>
          </a:ln>
        </p:spPr>
        <p:style>
          <a:lnRef idx="0"/>
          <a:fillRef idx="0"/>
          <a:effectRef idx="0"/>
          <a:fontRef idx="minor"/>
        </p:style>
        <p:txBody>
          <a:bodyPr lIns="90000" rIns="90000" tIns="46800" bIns="46800" anchor="t">
            <a:noAutofit/>
          </a:bodyPr>
          <a:p>
            <a:pPr lvl="1" marL="4572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Book Antiqua"/>
              </a:rPr>
              <a:t>Iris Vittini</a:t>
            </a:r>
            <a:endParaRPr b="0" lang="en-US" sz="40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Profesora Jean Monnet</a:t>
            </a:r>
            <a:endParaRPr b="0" lang="en-US" sz="28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Universidad de Chi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os ideales bolivarianos de integración latinoamericana y las razones para su fortalecimiento eran compartidas por Andrés Bello. El diagnóstico de los medios para alcanzarlo, sin embargo, fueron diversos en el autor de nuestro Código Civil.</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Bello, a diferencia de Bolívar, no era la virtud ciudadana el medio necesario para dotar de orden a las repúblicas nacientes, sino la regulación de la conducta de los ciudadanos por medio de la legislación.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Una de las obras más importantes de Andrés Bello fue la creación del Código Civil chileno, que fue reproducido en una gran parte de los países de América Latina.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Sus ideas integracionistas las expresó en el Diario Araucano, en 1844, con ocasión del congreso que se celebraría en Lima en 1847. “¿Cuándo ha existido en el mundo un conjunto de naciones que formase más verdaderamente una familia?”</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Andrés Bello, la idea de realizar un congreso que representara a todos los nuevos Estados de este continente, era una utopía estéril, pero cambió fundamentalmente de opinión: expresando que aunque “la empresa de crear este congreso no produzca los resultados que se esperaban de ella, si se consiguieran algunos, esto solo lo justificaría, y son tantos y de tanta importancia los puntos al que el proyectado congreso debería dirigir su atención, que el menor de ellos recompensaría los costos y esfuerzos necesarios para reunir y organizar este cuerpo”.</a:t>
            </a:r>
            <a:endParaRPr b="0" lang="en-US" sz="1500" spc="-1" strike="noStrike">
              <a:solidFill>
                <a:srgbClr val="ffffff"/>
              </a:solidFill>
              <a:latin typeface="Times New Roman"/>
            </a:endParaRPr>
          </a:p>
        </p:txBody>
      </p:sp>
      <p:sp>
        <p:nvSpPr>
          <p:cNvPr id="105"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compartiendo los ideales de Bolívar, quiso fijar la senda de la integración en forma más realista, rehuyendo los acuerdos políticos de gran envergadura mientras no existiera las condiciones mínimas para hacerlos sustentables y duraderos. La recomendación de Bello fue incluir en el proceso de integración acuerdos comerciales, una materia que trató en su libro sobre Principios de Derecho Internacional.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a Cláusula Bello:</a:t>
            </a:r>
            <a:r>
              <a:rPr b="0" lang="es-ES_tradnl" sz="1800" spc="-1" strike="noStrike">
                <a:solidFill>
                  <a:srgbClr val="ffffff"/>
                </a:solidFill>
                <a:latin typeface="Book Antiqua"/>
              </a:rPr>
              <a:t> esta cláusula fue una iniciativa concreta de Andrés Bello, que se introdujo en Chile en diversos tratados celebrados con países no-latinoamericanos, en los cuales se establecía sistemas de preferencias a favor de nuestras naciones. “En los tratados de comercio que esta República se halla en el caso a celebrar con potencias extranjeras, me he propuesto reservarle el derecho de conceder favores especiales a las Repúblicas hermanas, esta será la sola excepción al principio de imparcialidad que deseamos observar con todos. Los adelantamientos de las potencias comerciales en la navegación, y en todas las ramas de la industria, ahogaría para siempre la nuestra y nos privarían de uno de los más necesarios medios de seguridad y defensa si no nos acordásemos mutuamente algunas ventajas de nuestras relaciones recíprocas.”</a:t>
            </a:r>
            <a:endParaRPr b="0" lang="en-US" sz="1800" spc="-1" strike="noStrike">
              <a:solidFill>
                <a:srgbClr val="ffffff"/>
              </a:solidFill>
              <a:latin typeface="Times New Roman"/>
            </a:endParaRPr>
          </a:p>
        </p:txBody>
      </p:sp>
      <p:sp>
        <p:nvSpPr>
          <p:cNvPr id="107"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81080" y="1628640"/>
            <a:ext cx="871200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En un principio, Chile utilizó ampliamente la Cláusula Andrés Bello, especialmente en los tratados bilaterales. Los países latinoamericanos, en sus relaciones bilaterales, prefirieron pactar una cláusula de la Nación Más Favorecida, de carácter amplio. Pero el propio Bello fue abandonando la idea. Estaba reconfortado con una América Latina interesada en aplicar una política económica basada en la solidaridad.</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Según el Prof. Francisco Orrego Vicuña, de haber perseverado en el tiempo la Cláusula Andrés Bello, habría constituido un sistema preferencial latinoamericano, que habría servido de base al proceso de integración económica, adelantándose a las ideas que se consagrarían un siglo más tarde en la ALAC, Asociación Latinoamericana de Libre Comercio, de 1960, y en la ALADI, Asociación Latinoamericana de Integración, de 1980.</a:t>
            </a:r>
            <a:endParaRPr b="0" lang="en-US" sz="2000" spc="-1" strike="noStrike">
              <a:solidFill>
                <a:srgbClr val="ffffff"/>
              </a:solidFill>
              <a:latin typeface="Times New Roman"/>
            </a:endParaRPr>
          </a:p>
        </p:txBody>
      </p:sp>
      <p:sp>
        <p:nvSpPr>
          <p:cNvPr id="109"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116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Otros aportes de</a:t>
            </a:r>
            <a:br>
              <a:rPr sz="4400"/>
            </a:br>
            <a:r>
              <a:rPr b="0" lang="es-ES_tradnl" sz="4400" spc="-1" strike="noStrike">
                <a:solidFill>
                  <a:srgbClr val="ffffff"/>
                </a:solidFill>
                <a:latin typeface="Book Antiqua"/>
              </a:rPr>
              <a:t>Andrés Bello</a:t>
            </a:r>
            <a:endParaRPr b="0" lang="en-US" sz="4400" spc="-1" strike="noStrike">
              <a:solidFill>
                <a:srgbClr val="ffffff"/>
              </a:solidFill>
              <a:latin typeface="Times New Roman"/>
            </a:endParaRPr>
          </a:p>
        </p:txBody>
      </p:sp>
      <p:sp>
        <p:nvSpPr>
          <p:cNvPr id="111" name=""/>
          <p:cNvSpPr/>
          <p:nvPr/>
        </p:nvSpPr>
        <p:spPr>
          <a:xfrm>
            <a:off x="468360" y="1700280"/>
            <a:ext cx="835164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drés Bello redactó el Código Civil, al que le dedicó más de 20 años, desde 1840. Entró en vigencia en 1857.</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dactor del Tratado de Paz y Amistad, Comercio y Navegación entre Chile y los Estados Unidos, mayo de 1832. </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ublicó su libro, “Gramática de la Lengua Castellana Destinada al uso de los Americanos” dedicada a la importancia del idioma castella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79280" y="130320"/>
            <a:ext cx="61930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3" name=""/>
          <p:cNvSpPr/>
          <p:nvPr/>
        </p:nvSpPr>
        <p:spPr>
          <a:xfrm>
            <a:off x="250920" y="1557360"/>
            <a:ext cx="8351640" cy="482436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Víctor Haya de la Torre nació en Trujillo, Perú y murió en Lima. </a:t>
            </a: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íder peruano, fundador del </a:t>
            </a:r>
            <a:r>
              <a:rPr b="1" lang="es-ES_tradnl" sz="1500" spc="-1" strike="noStrike">
                <a:solidFill>
                  <a:srgbClr val="ffffff"/>
                </a:solidFill>
                <a:latin typeface="Book Antiqua"/>
              </a:rPr>
              <a:t>APRA</a:t>
            </a:r>
            <a:r>
              <a:rPr b="0" lang="es-ES_tradnl" sz="1500" spc="-1" strike="noStrike">
                <a:solidFill>
                  <a:srgbClr val="ffffff"/>
                </a:solidFill>
                <a:latin typeface="Book Antiqua"/>
              </a:rPr>
              <a:t>, Alianza Popular  Revolucionaria</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	</a:t>
            </a:r>
            <a:r>
              <a:rPr b="0" lang="es-ES_tradnl" sz="1500" spc="-1" strike="noStrike">
                <a:solidFill>
                  <a:srgbClr val="ffffff"/>
                </a:solidFill>
                <a:latin typeface="Book Antiqua"/>
              </a:rPr>
              <a:t>Americana, en México, el 7 de mayo de 1924.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s autor del libro “El Antiimperialismo y el APRA”. En el Cap. 1º de este libro se dice: “La palabra de orden del APRA sintetiza sin duda, la aspiración de veinte pueblos en peligro: “contra el Imperialismo, por la Unidad Política de América Latina, para la realización de La Justicia Social”.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l APRA tenía su “Programa Máximo” de cinco puntos: </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Acción contra el imperialismo yanki</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Unidad Política de la América Latina</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nacionalización de tierras e industrias</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internacionalización del Canal de Panamá</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solidaridad con todos los pueblos y clases oprimidas del mundo</a:t>
            </a:r>
            <a:endParaRPr b="0" lang="en-US" sz="1500" spc="-1" strike="noStrike">
              <a:solidFill>
                <a:srgbClr val="ffffff"/>
              </a:solidFill>
              <a:latin typeface="Times New Roman"/>
            </a:endParaRPr>
          </a:p>
          <a:p>
            <a:pPr lvl="1" marL="727920" indent="-280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Fue candidato presidencial en Perú en diversas ocasiones, ganando incluso las elecciones del año 1962. Debido al Golpe de Estado, nunca pudo tomar posesión del cargo.</a:t>
            </a:r>
            <a:endParaRPr b="0" lang="en-US" sz="1500" spc="-1" strike="noStrike">
              <a:solidFill>
                <a:srgbClr val="ffffff"/>
              </a:solidFill>
              <a:latin typeface="Times New Roman"/>
            </a:endParaRPr>
          </a:p>
        </p:txBody>
      </p:sp>
      <p:pic>
        <p:nvPicPr>
          <p:cNvPr id="114" name="" descr=""/>
          <p:cNvPicPr/>
          <p:nvPr/>
        </p:nvPicPr>
        <p:blipFill>
          <a:blip r:embed="rId2"/>
          <a:stretch/>
        </p:blipFill>
        <p:spPr>
          <a:xfrm>
            <a:off x="7273800" y="117360"/>
            <a:ext cx="1762200" cy="25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332000" y="130320"/>
            <a:ext cx="6192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6" name=""/>
          <p:cNvSpPr/>
          <p:nvPr/>
        </p:nvSpPr>
        <p:spPr>
          <a:xfrm>
            <a:off x="396720" y="1628640"/>
            <a:ext cx="8352000" cy="4824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ndrés Townsend Ezcurra, importante político y académico peruano, en su informe ante el XII Congreso del Partido Aprista Peruano, en 1979, sintetiza el APRA en relación a la integración latinoamericana. “ Si el APRA tiene un mérito para ser considerada en la opinión mundial, el de haber sido profeta y precursor en los movimientos integracionistas que son el sello característicos del mundo contemporáneo”. </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elebrando los 50 años del APRISMO en Lima, Perú, en 1989, expresó: “Así como hubo socialismo utópico y después un socialismo científico, podemos afirmar que ha habido un unionismo utópico, el posterior a la muerte de Simón Bolívar y hay ahora un unionismo realista, científico, del cual ha sido abanderado y precursor Haya de la Torre. El unionismo que tiene sustento económico, raíz antiimperialista y socia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rot="19691400">
            <a:off x="2195280" y="981000"/>
            <a:ext cx="4263840" cy="4464000"/>
          </a:xfrm>
          <a:prstGeom prst="rect">
            <a:avLst/>
          </a:prstGeom>
          <a:ln w="0">
            <a:noFill/>
          </a:ln>
        </p:spPr>
      </p:pic>
      <p:sp>
        <p:nvSpPr>
          <p:cNvPr id="118" name=""/>
          <p:cNvSpPr/>
          <p:nvPr/>
        </p:nvSpPr>
        <p:spPr>
          <a:xfrm>
            <a:off x="2843280" y="5805360"/>
            <a:ext cx="62625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Gracias por su </a:t>
            </a: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atención!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95280" y="1661760"/>
            <a:ext cx="8137440" cy="4646520"/>
          </a:xfrm>
          <a:prstGeom prst="rect">
            <a:avLst/>
          </a:prstGeom>
          <a:solidFill>
            <a:srgbClr val="006699">
              <a:alpha val="60000"/>
            </a:srgbClr>
          </a:solid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Venezolano, precursor de la independencia y la unidad de</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os pueblos de América Latina</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staba en desacuerdo con la política de España hacia nuestra región. Hizo contactos con los Ministros de R.R.E.E. de Inglaterra, William Pitt, y de E.E.U.U con el fin de lograr un entendimiento solidario entre estos países y América española libertada.</a:t>
            </a:r>
            <a:endParaRPr b="0" lang="en-US" sz="1800" spc="-1" strike="noStrike">
              <a:solidFill>
                <a:srgbClr val="ffffff"/>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n 1790 les planteó su proyecto del llamado “Incanato”, donde pretendía que fuera un inca el rey que gobernara estas naciones, a diferencia de Simón Bolívar, quien proclamaba  una “ Nación de Repúblicas”. </a:t>
            </a:r>
            <a:endParaRPr b="0" lang="en-US" sz="1800" spc="-1" strike="noStrike">
              <a:solidFill>
                <a:srgbClr val="ffffff"/>
              </a:solidFill>
              <a:latin typeface="Tahoma"/>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00"/>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Se ha dicho que Francisco De Miranda tenía en su imaginación y en su dinamismo un tesoro difícil de guardar. Además de trabajar por la independencia del continente y pedir apoyo para sus ideales, planeó un vasto sistema de repercusión mundial que recién comenzamos a observar en nuestros días.</a:t>
            </a:r>
            <a:r>
              <a:rPr b="0" lang="es-ES_tradnl" sz="1600" spc="-1" strike="noStrike">
                <a:solidFill>
                  <a:srgbClr val="ffffff"/>
                </a:solidFill>
                <a:latin typeface="Book Antiqua"/>
              </a:rPr>
              <a: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6" name="PlaceHolder 2"/>
          <p:cNvSpPr>
            <a:spLocks noGrp="1"/>
          </p:cNvSpPr>
          <p:nvPr>
            <p:ph type="title"/>
          </p:nvPr>
        </p:nvSpPr>
        <p:spPr>
          <a:xfrm>
            <a:off x="250920" y="152280"/>
            <a:ext cx="63403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Book Antiqua"/>
              </a:rPr>
              <a:t>Francisco de Miranda</a:t>
            </a:r>
            <a:br>
              <a:rPr sz="4000"/>
            </a:br>
            <a:r>
              <a:rPr b="0" lang="es-ES_tradnl" sz="3200" spc="-1" strike="noStrike">
                <a:solidFill>
                  <a:srgbClr val="ffffff"/>
                </a:solidFill>
                <a:latin typeface="Book Antiqua"/>
              </a:rPr>
              <a:t>(1750-1816)</a:t>
            </a:r>
            <a:endParaRPr b="0" lang="en-US" sz="3200" spc="-1" strike="noStrike">
              <a:solidFill>
                <a:srgbClr val="ffffff"/>
              </a:solidFill>
              <a:latin typeface="Tahoma"/>
            </a:endParaRPr>
          </a:p>
        </p:txBody>
      </p:sp>
      <p:pic>
        <p:nvPicPr>
          <p:cNvPr id="87" name="" descr=""/>
          <p:cNvPicPr/>
          <p:nvPr/>
        </p:nvPicPr>
        <p:blipFill>
          <a:blip r:embed="rId2"/>
          <a:stretch/>
        </p:blipFill>
        <p:spPr>
          <a:xfrm>
            <a:off x="6804000" y="44280"/>
            <a:ext cx="2239920" cy="259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68360" y="1916280"/>
            <a:ext cx="8137440" cy="37828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rancisco de Miranda fue amigo de Bernardo O’Higgins y del peruano Juan Pablo Vizcardo y Guzmán, jesuita e intelectual, precursor de la independencia del Perú.</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De Miranda y el futuro libertador, Simón Bolívar, soñaron y combatieron juntos, pero un doloroso episodio de la historia los separó trágicamente: De Miranda, en la batalla de La Guaira, capituló frente a Monteverde, cosa que Bolívar no perdonó, entregando a de Miranda a los españoles. Francisco de Miranda, sin enunciar una queja, murió en 1816 en prisión en un calabozo de Cádiz. </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a influencia de de Miranda fue determinante frente a Bolívar, O’Higgins y Andrés Bello.</a:t>
            </a:r>
            <a:endParaRPr b="0" lang="en-US" sz="1800" spc="-1" strike="noStrike">
              <a:solidFill>
                <a:srgbClr val="ffffff"/>
              </a:solidFill>
              <a:latin typeface="Times New Roman"/>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
          <p:cNvSpPr/>
          <p:nvPr/>
        </p:nvSpPr>
        <p:spPr>
          <a:xfrm>
            <a:off x="1258920" y="152280"/>
            <a:ext cx="63403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Francisco de Miranda</a:t>
            </a:r>
            <a:br>
              <a:rPr sz="4400"/>
            </a:br>
            <a:r>
              <a:rPr b="0" lang="es-ES_tradnl" sz="3200" spc="-1" strike="noStrike">
                <a:solidFill>
                  <a:srgbClr val="ffffff"/>
                </a:solidFill>
                <a:latin typeface="Book Antiqua"/>
              </a:rPr>
              <a:t>(1750-181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66560" y="1844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ació en Caracas, Virreinato de Nueva Granad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Hijo de una acaudalada familia de criollos, queda huérfano a l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edad de nueve años. Sus maestros  fueron Simón Rodríguez y</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Andrés Bello. </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Bolívar fue </a:t>
            </a:r>
            <a:r>
              <a:rPr b="1" lang="es-ES_tradnl" sz="1600" spc="-1" strike="noStrike">
                <a:solidFill>
                  <a:srgbClr val="ffffff"/>
                </a:solidFill>
                <a:latin typeface="Book Antiqua"/>
              </a:rPr>
              <a:t>estadista, estratega, pensador, legislador y visionario</a:t>
            </a:r>
            <a:r>
              <a:rPr b="0" lang="es-ES_tradnl" sz="1600" spc="-1" strike="noStrike">
                <a:solidFill>
                  <a:srgbClr val="ffffff"/>
                </a:solidFill>
                <a:latin typeface="Book Antiqua"/>
              </a:rPr>
              <a:t>. Sentó las bases de un nuevo Derecho Internacional y su pensamiento integracionista nos está inspirando permanentemente. </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tando en Roma, en 1805, Bolívar pronunció su célebre </a:t>
            </a:r>
            <a:r>
              <a:rPr b="1" lang="es-ES_tradnl" sz="1600" spc="-1" strike="noStrike">
                <a:solidFill>
                  <a:srgbClr val="ffffff"/>
                </a:solidFill>
                <a:latin typeface="Book Antiqua"/>
              </a:rPr>
              <a:t>Juramento de Monte Sacro o Aventino</a:t>
            </a:r>
            <a:r>
              <a:rPr b="0" lang="es-ES_tradnl" sz="1600" spc="-1" strike="noStrike">
                <a:solidFill>
                  <a:srgbClr val="ffffff"/>
                </a:solidFill>
                <a:latin typeface="Book Antiqua"/>
              </a:rPr>
              <a:t>, ante su amigo Simón Rodríguez, en el que juró dar libertad a su patria y al resto de los pueblos dominados por  la colonia española.</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t>
            </a:r>
            <a:r>
              <a:rPr b="0" lang="es-ES_tradnl" sz="1600" spc="-1" strike="noStrike">
                <a:solidFill>
                  <a:srgbClr val="ffffff"/>
                </a:solidFill>
                <a:latin typeface="Book Antiqua"/>
              </a:rPr>
              <a:t>El </a:t>
            </a:r>
            <a:r>
              <a:rPr b="1" lang="es-ES_tradnl" sz="1600" spc="-1" strike="noStrike">
                <a:solidFill>
                  <a:srgbClr val="ffffff"/>
                </a:solidFill>
                <a:latin typeface="Book Antiqua"/>
              </a:rPr>
              <a:t>título de Libertador</a:t>
            </a:r>
            <a:r>
              <a:rPr b="0" lang="es-ES_tradnl" sz="1600" spc="-1" strike="noStrike">
                <a:solidFill>
                  <a:srgbClr val="ffffff"/>
                </a:solidFill>
                <a:latin typeface="Book Antiqua"/>
              </a:rPr>
              <a:t> es superior a todos los que ha recibido el orgullo humano”. Así se expresa el propio Simón Bolívar, luego de recibir este título por el Cabildo de Mérida en Venezuela y ser ratificado por el Congreso de Angostura, en 1820.</a:t>
            </a:r>
            <a:endParaRPr b="0" lang="en-US" sz="1600" spc="-1" strike="noStrike">
              <a:solidFill>
                <a:srgbClr val="ffffff"/>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1" name=""/>
          <p:cNvSpPr/>
          <p:nvPr/>
        </p:nvSpPr>
        <p:spPr>
          <a:xfrm>
            <a:off x="108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pic>
        <p:nvPicPr>
          <p:cNvPr id="92" name="" descr=""/>
          <p:cNvPicPr/>
          <p:nvPr/>
        </p:nvPicPr>
        <p:blipFill>
          <a:blip r:embed="rId2"/>
          <a:srcRect l="0" t="0" r="0" b="4706"/>
          <a:stretch/>
        </p:blipFill>
        <p:spPr>
          <a:xfrm>
            <a:off x="6919920" y="73080"/>
            <a:ext cx="2117880" cy="29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66560" y="1628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Consolidada la independencia de los Estados Latinoamericanos, Bolívar dedicó sus esfuerzos a la consolidación de los nuevos Estados nacionales y a su proyecto de integración latinoamericana. </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En la </a:t>
            </a:r>
            <a:r>
              <a:rPr b="1" lang="es-ES_tradnl" sz="2000" spc="-1" strike="noStrike">
                <a:solidFill>
                  <a:srgbClr val="ffffff"/>
                </a:solidFill>
                <a:latin typeface="Book Antiqua"/>
              </a:rPr>
              <a:t>Carta de Jamaica</a:t>
            </a:r>
            <a:r>
              <a:rPr b="0" lang="es-ES_tradnl" sz="2000" spc="-1" strike="noStrike">
                <a:solidFill>
                  <a:srgbClr val="ffffff"/>
                </a:solidFill>
                <a:latin typeface="Book Antiqua"/>
              </a:rPr>
              <a:t>, que le envió a O’Higgins en 1815, se refiere al proyecto de unión de nuestros pueblos como la formación de una “Nación de Repúblicas”. </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Bolívar ejecutó con mucho esfuerzo la integración de </a:t>
            </a:r>
            <a:r>
              <a:rPr b="1" lang="es-ES_tradnl" sz="2000" spc="-1" strike="noStrike">
                <a:solidFill>
                  <a:srgbClr val="ffffff"/>
                </a:solidFill>
                <a:latin typeface="Book Antiqua"/>
              </a:rPr>
              <a:t>La Gran Colombia</a:t>
            </a:r>
            <a:r>
              <a:rPr b="0" lang="es-ES_tradnl" sz="2000" spc="-1" strike="noStrike">
                <a:solidFill>
                  <a:srgbClr val="ffffff"/>
                </a:solidFill>
                <a:latin typeface="Book Antiqua"/>
              </a:rPr>
              <a:t> como un modelo unitario de tres países, conformado por el Virreinato de Nueva Granada (posteriormente llamado Departamento de Cundinamarca, correspondiente a las actuales Colombia y Panamá); la Capitanía General de Venezuela, y el Departamento de Quito, correspondiente a Ecuador.</a:t>
            </a:r>
            <a:endParaRPr b="0" lang="en-US" sz="2000" spc="-1" strike="noStrike">
              <a:solidFill>
                <a:srgbClr val="ffffff"/>
              </a:solidFill>
              <a:latin typeface="Times New Roman"/>
            </a:endParaRPr>
          </a:p>
        </p:txBody>
      </p:sp>
      <p:sp>
        <p:nvSpPr>
          <p:cNvPr id="94"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Perú</a:t>
            </a:r>
            <a:r>
              <a:rPr b="0" lang="es-ES_tradnl" sz="2100" spc="-1" strike="noStrike">
                <a:solidFill>
                  <a:srgbClr val="ffffff"/>
                </a:solidFill>
                <a:latin typeface="Book Antiqua"/>
              </a:rPr>
              <a:t>, en 1824  Simón Bolívar triunfó en las batallas de Junín (6 de agosto) y de Ayacucho (9 de diciembre) logrando así la capitulación española que reconoció la </a:t>
            </a:r>
            <a:r>
              <a:rPr b="1" lang="es-ES_tradnl" sz="2100" spc="-1" strike="noStrike">
                <a:solidFill>
                  <a:srgbClr val="ffffff"/>
                </a:solidFill>
                <a:latin typeface="Book Antiqua"/>
              </a:rPr>
              <a:t>independencia peruana</a:t>
            </a:r>
            <a:r>
              <a:rPr b="0" lang="es-ES_tradnl" sz="2100" spc="-1" strike="noStrike">
                <a:solidFill>
                  <a:srgbClr val="ffffff"/>
                </a:solidFill>
                <a:latin typeface="Book Antiqua"/>
              </a:rPr>
              <a:t>. Esta acción emancipadora fue iniciada en 1821 por el general argentino José San Martín, quien declaró la independencia e instauró la República del Perú.</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Bolivia, Simón Bolívar declaró su independencia</a:t>
            </a:r>
            <a:r>
              <a:rPr b="0" lang="es-ES_tradnl" sz="2100" spc="-1" strike="noStrike">
                <a:solidFill>
                  <a:srgbClr val="ffffff"/>
                </a:solidFill>
                <a:latin typeface="Book Antiqua"/>
              </a:rPr>
              <a:t> en 1825, tras una lucha iniciada en 1809. La República de Bolivia asumió en el año de su independencia dicho nombre, tras haberse llamado República Bolívar hasta 1825. En ese mismo año, se le encargó a Bolívar la </a:t>
            </a:r>
            <a:r>
              <a:rPr b="1" lang="es-ES_tradnl" sz="2100" spc="-1" strike="noStrike">
                <a:solidFill>
                  <a:srgbClr val="ffffff"/>
                </a:solidFill>
                <a:latin typeface="Book Antiqua"/>
              </a:rPr>
              <a:t>redacción del primer proyecto de Constitución</a:t>
            </a:r>
            <a:r>
              <a:rPr b="0" lang="es-ES_tradnl" sz="2100" spc="-1" strike="noStrike">
                <a:solidFill>
                  <a:srgbClr val="ffffff"/>
                </a:solidFill>
                <a:latin typeface="Book Antiqua"/>
              </a:rPr>
              <a:t>. Lo entregó al Congreso Constituyente boliviano ese mismo año. </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96"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José Antonio de la Santísima </a:t>
            </a:r>
            <a:br>
              <a:rPr sz="2800"/>
            </a:br>
            <a:r>
              <a:rPr b="0" lang="es-ES_tradnl" sz="2800" spc="-1" strike="noStrike">
                <a:solidFill>
                  <a:srgbClr val="ffffff"/>
                </a:solidFill>
                <a:latin typeface="Book Antiqua"/>
              </a:rPr>
              <a:t>Trinidad Simón Bolívar y Palacios</a:t>
            </a:r>
            <a:br>
              <a:rPr sz="2800"/>
            </a:br>
            <a:r>
              <a:rPr b="0" lang="es-ES_tradnl" sz="2000" spc="-1" strike="noStrike">
                <a:solidFill>
                  <a:srgbClr val="ffffff"/>
                </a:solidFill>
                <a:latin typeface="Book Antiqua"/>
              </a:rPr>
              <a:t>(1783-1830)</a:t>
            </a:r>
            <a:endParaRPr b="0" lang="en-US" sz="2000" spc="-1" strike="noStrike">
              <a:solidFill>
                <a:srgbClr val="ffffff"/>
              </a:solidFill>
              <a:latin typeface="Tahoma"/>
            </a:endParaRPr>
          </a:p>
        </p:txBody>
      </p:sp>
      <p:sp>
        <p:nvSpPr>
          <p:cNvPr id="98" name="PlaceHolder 2"/>
          <p:cNvSpPr>
            <a:spLocks noGrp="1"/>
          </p:cNvSpPr>
          <p:nvPr>
            <p:ph/>
          </p:nvPr>
        </p:nvSpPr>
        <p:spPr>
          <a:xfrm>
            <a:off x="685800" y="1447560"/>
            <a:ext cx="7773840" cy="5221080"/>
          </a:xfrm>
          <a:prstGeom prst="rect">
            <a:avLst/>
          </a:prstGeom>
          <a:solidFill>
            <a:srgbClr val="006699">
              <a:alpha val="60000"/>
            </a:srgbClr>
          </a:solidFill>
          <a:ln w="0">
            <a:noFill/>
          </a:ln>
        </p:spPr>
        <p:txBody>
          <a:bodyPr lIns="90000" rIns="90000" tIns="46800" bIns="46800" anchor="t">
            <a:normAutofit/>
          </a:bodyPr>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a:t>
            </a:r>
            <a:r>
              <a:rPr b="1" lang="es-ES_tradnl" sz="1700" spc="-1" strike="noStrike">
                <a:solidFill>
                  <a:srgbClr val="ffffff"/>
                </a:solidFill>
                <a:latin typeface="Book Antiqua"/>
              </a:rPr>
              <a:t>Tratado de Unión, Liga y Confederación Perpetua</a:t>
            </a:r>
            <a:r>
              <a:rPr b="0" lang="es-ES_tradnl" sz="1700" spc="-1" strike="noStrike">
                <a:solidFill>
                  <a:srgbClr val="ffffff"/>
                </a:solidFill>
                <a:latin typeface="Book Antiqua"/>
              </a:rPr>
              <a:t>, suscrito el 15 de julio de 1826, fue el proyecto más ambicioso de Simón Bolívar. Este Tratado es producto del Congreso Anfictiónico de Panamá que pretendía crear una confederación de países americanos en defensa del Continente, en contra de la Liga de la Santa Alianza, mediante la conformación de un ejército de más de 60.000 soldados para defenderse de España. En el marco de dicho congreso, Bolívar presentó este tratado.</a:t>
            </a: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A pesar de haber sido suscrito por los Estados Mexicanos, Centroamérica, Colombia y Perú, sólo fue  ratificado por Colombia.  En el tratado se destaca el carácter de hermandad de las Naciones. A pesar de no haber sido ratificado, sus principios han trascendido en el tiempo y han sido incorporados en el Derecho Internacional.  </a:t>
            </a: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
        <p:nvSpPr>
          <p:cNvPr id="100" name=""/>
          <p:cNvSpPr/>
          <p:nvPr/>
        </p:nvSpPr>
        <p:spPr>
          <a:xfrm>
            <a:off x="250920" y="148608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Tratado de Unión, Liga y Confederación Perpetua estableció, en su </a:t>
            </a:r>
            <a:r>
              <a:rPr b="1" lang="es-ES_tradnl" sz="1700" spc="-1" strike="noStrike">
                <a:solidFill>
                  <a:srgbClr val="ffffff"/>
                </a:solidFill>
                <a:latin typeface="Book Antiqua"/>
              </a:rPr>
              <a:t>artículo 1º</a:t>
            </a:r>
            <a:r>
              <a:rPr b="0" lang="es-ES_tradnl" sz="1700" spc="-1" strike="noStrike">
                <a:solidFill>
                  <a:srgbClr val="ffffff"/>
                </a:solidFill>
                <a:latin typeface="Book Antiqua"/>
              </a:rPr>
              <a:t>: “Colombia, Centroamérica, Perú, los Estados Unidos Mexicanos se ligan y confederan mutuamente, en paz y guerra. Contraen para ello un pacto perpetuo de amistad firme e inviolable, y unión íntima y estrecha con cada una de dichas part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Otra disposición novedosa de este tratado es el </a:t>
            </a:r>
            <a:r>
              <a:rPr b="1" lang="es-ES_tradnl" sz="1700" spc="-1" strike="noStrike">
                <a:solidFill>
                  <a:srgbClr val="ffffff"/>
                </a:solidFill>
                <a:latin typeface="Book Antiqua"/>
              </a:rPr>
              <a:t>artículo 29</a:t>
            </a:r>
            <a:r>
              <a:rPr b="0" lang="es-ES_tradnl" sz="1700" spc="-1" strike="noStrike">
                <a:solidFill>
                  <a:srgbClr val="ffffff"/>
                </a:solidFill>
                <a:latin typeface="Book Antiqua"/>
              </a:rPr>
              <a:t>, donde se adelanta en su redacción a la cláusula democrática que actualmente se encuentra en los tratados de integración y en los acuerdos celebrados con la Unión Europea: “Si alguna de las Partes variase esencialmente sus actuales formas de gobierno quedará, por el mismo hecho, excluida de la Confederación, su gobierno no será reconocido, ni ella readmitida en dicha Confederación sino con el voto unánime de todas las Partes que la constituyan entonc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Simón Bolívar falleció en 1830, en Santa Marta, Colombia, sumido en la soledad, pobreza y en la miseria de ver derrumbado el sueño de América, debido a que las oligarquías de cada virreinato y capitanía habían optado por la consolidación de cada república individualment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50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
        <p:nvSpPr>
          <p:cNvPr id="102" name=""/>
          <p:cNvSpPr/>
          <p:nvPr/>
        </p:nvSpPr>
        <p:spPr>
          <a:xfrm>
            <a:off x="179280" y="1557360"/>
            <a:ext cx="8712360" cy="4968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nació en Caracas. Es considerado el más grande</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	</a:t>
            </a:r>
            <a:r>
              <a:rPr b="0" lang="es-ES_tradnl" sz="1800" spc="-1" strike="noStrike">
                <a:solidFill>
                  <a:srgbClr val="ffffff"/>
                </a:solidFill>
                <a:latin typeface="Book Antiqua"/>
              </a:rPr>
              <a:t>humanista de Iberoamérica, según la Universidad de Chile. Por su parte, Felipe Herrera, señalaba en su libro que Bello fue el libertador intelectual de América Latina.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Bello viajó a Inglaterra en 1810 donde desempeñó funciones consulares. Diversas circunstancias permitieron que llegara a Chile en 1829. Su figura se destacó en todo el quehacer político y cultural de nuestro país, haciendo aporte en las Letras, filosofía, política, educación, diplomacia y en Derecho. Fue el fundador y primer rector de la Universidad de Chile (1842); subsecretario del Ministerio de R.R.E.E. y Senador de la República por varios períodos, hasta su muerte en 1865. Asesor directo de los Presidentes José Joaquín Prieto, Manuel Bulnes y del Vicepresidente Diego Portales, elaborando los numerosos discursos pronunciados por ellos. Precursor del Derecho Internacional, publicó el principio del “Derecho de Jentes” en 1832, que luego amplió, titulándolo “Principios del Derecho Internacional” en 1844, y en 1864 es el primer texto dedicado al estudio del Derecho Internacional en América.</a:t>
            </a:r>
            <a:endParaRPr b="0" lang="en-US" sz="1800" spc="-1" strike="noStrike">
              <a:solidFill>
                <a:srgbClr val="ffffff"/>
              </a:solidFill>
              <a:latin typeface="Times New Roman"/>
            </a:endParaRPr>
          </a:p>
        </p:txBody>
      </p:sp>
      <p:pic>
        <p:nvPicPr>
          <p:cNvPr id="103" name="" descr=""/>
          <p:cNvPicPr/>
          <p:nvPr/>
        </p:nvPicPr>
        <p:blipFill>
          <a:blip r:embed="rId2"/>
          <a:stretch/>
        </p:blipFill>
        <p:spPr>
          <a:xfrm>
            <a:off x="7359480" y="44280"/>
            <a:ext cx="1676520" cy="178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1:53:24Z</dcterms:created>
  <dc:creator>Wilson De los Reyes Aragón</dc:creator>
  <dc:description/>
  <dc:language>en-US</dc:language>
  <cp:lastModifiedBy>Judith María Baeza Henríquez</cp:lastModifiedBy>
  <dcterms:modified xsi:type="dcterms:W3CDTF">2009-03-26T14:45:37Z</dcterms:modified>
  <cp:revision>108</cp:revision>
  <dc:subject/>
  <dc:title>Colombia - Ecuad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43082</vt:lpwstr>
  </property>
</Properties>
</file>