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A19E-0892-44EF-A15A-03297D7F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5D1-DF1F-4F8E-92AE-8A26BC63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598-146B-4435-AD40-F588EE33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08E-0C3D-417C-B097-A354C212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84B2-5D3D-4C54-B97C-496B2651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7ED6-0CD6-4681-B251-3109DBDF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09BA-AEE3-4539-AA2B-9EDCDB78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D7F8-E980-4ABF-8F3D-8A6F6D09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0E2C-C13C-4751-A476-5F271D78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41B0-6D6E-4684-B494-8A490515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DE3E-71E6-4BEA-BD46-8E64B6E8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9967-D1C2-4A07-B985-706BE0A8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3B24-D5A5-403A-B34A-56561F74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97CC-89AB-4AD7-9420-5B976581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BEF3-D61D-47FD-A169-55674E07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1761-A824-43E4-A7EE-2CD99F38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3685-3023-4D0B-99B7-696751E0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A31F-C15C-470A-91E9-6FB49DA3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4F5E-9430-4D7D-AACF-DC6833BE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D30-CD9D-4F15-96E6-FC70AEDF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C8B7-9D1C-4A39-AED9-0F56ECD9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806-4C98-4662-9B6E-281E709E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6B70-1635-450B-AB78-E3586A6E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888-A4E2-4D6F-AB34-1DB23F44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DCAE-642E-4A9F-BD9D-EFA468380FB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194A-1E5A-4FC6-87E8-EB088A86898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La crisis de los misiles 1962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78920" y="4292280"/>
            <a:ext cx="8713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ción para la cátedra de Relaciones Internacionales del Profesor José Rodríguez Elizondo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bastián Flores Día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rzo de 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Uso exclusivo para la clase. Se prohíbe citar u ocupar sin permiso del auto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apa de la situació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623736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írculos verdes corresponden a las bases soviéticas. El punto amarillo corresponde a la base de Guantánamo, perteneciente a EE U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332000" y="995400"/>
            <a:ext cx="704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17:11:37Z</dcterms:created>
  <dc:creator>...</dc:creator>
  <dc:description/>
  <dc:language>en-US</dc:language>
  <cp:lastModifiedBy>...</cp:lastModifiedBy>
  <dcterms:modified xsi:type="dcterms:W3CDTF">2009-03-29T22:00:22Z</dcterms:modified>
  <cp:revision>3</cp:revision>
  <dc:subject/>
  <dc:title>La crisis de los misiles 1962</dc:title>
</cp:coreProperties>
</file>