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B8E-900A-4BB2-B64D-0C0EC21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AC6-A3F0-46BD-865D-F44950AC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114-0FAC-4A7D-B776-EE3345B7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59A-9A9B-4E72-8D4B-3249B738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100-80F5-47E5-9817-906C156C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85BA-6911-4CC4-9265-CCA25CFB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6761-259A-43CE-B346-5950530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006-4FFD-4826-9716-B480A9A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F3E-64A4-475D-8453-FD3C3B3E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EA0C-9FCE-4DCB-9A14-F4A536E8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4E02-72E8-487F-9667-2906828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71A-DDAF-40C0-9425-F9ACA7A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352F-61E9-4530-BEBD-C661185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9F4-9F99-421B-8CC8-F2EFBCD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655-5AAF-4A4E-BD5A-D188750F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273-5E79-4725-BFF4-D68E0695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900-241E-400A-B081-B05AB7F3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109-C126-4BD4-9DFD-E17FA04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389-DE35-46DA-B9E8-33FB81E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3F0-EA99-4ECD-B78A-3BB3BF8E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029-3678-41B0-9AD9-36193DE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D0E-4754-4554-95ED-92271A0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FCC-3B1E-4850-B308-B3B97A0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19C-A1EA-4F84-BC09-5AB2183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23B-7D23-4BF5-AB08-AF82FB4FC9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7A0-B52A-4620-AAD4-50D5D39942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La crisis de los misiles 1962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429228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pa de la situa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írculos verdes corresponden a las bases soviéticas. El punto amarillo corresponde a la base de Guantánamo, perteneciente a EE U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32000" y="995400"/>
            <a:ext cx="704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11:37Z</dcterms:created>
  <dc:creator>...</dc:creator>
  <dc:description/>
  <dc:language>en-US</dc:language>
  <cp:lastModifiedBy>...</cp:lastModifiedBy>
  <dcterms:modified xsi:type="dcterms:W3CDTF">2009-03-29T22:00:22Z</dcterms:modified>
  <cp:revision>3</cp:revision>
  <dc:subject/>
  <dc:title>La crisis de los misiles 1962</dc:title>
</cp:coreProperties>
</file>