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1CC-8295-4CA8-9B45-9552765B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481-A0B7-4626-84C4-B9E9E3A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07D-1F3E-465F-9AD0-26977905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C5-65DE-49B5-B1A9-3707CC0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3117-FB1C-4EED-8804-1E5A872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D624-6A6A-4216-A80A-5BFAA097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4BDD-EE36-47EB-B722-2BDE8B2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5ED-47F9-493E-836B-D7C8951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6735-75F1-47A7-BF20-49B7129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EF42-DF3C-4001-B521-FE85EF46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97D-7D6B-4EE9-9E3C-FF07696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852-E6A3-433A-BB0D-FC40DDFA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4F40-8EC2-4C14-B553-F5B05C0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B9A-0566-408D-8E00-5261607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BD22-42E6-4D73-A5CB-ECFF3E4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3F9-86ED-4095-B3E5-E6E30EB2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1FD9-45FA-441F-A822-974E85C0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6EC-B762-4117-9006-C0AD277C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E6A-CA16-456E-B828-B3E4CFC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63F-277C-4554-B125-0B04300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DFA-C5A4-4AB4-B586-5D9D2B0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A9F-35FB-41A8-AC92-F64B1E6A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B1F-1835-4A78-A3E1-1942E4E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86E-2587-47EC-AD09-D8C8E23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426F-5E9D-4469-9BD1-3966BB8774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68B-2137-41F3-92DE-F4C3B0C5E4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La crisis de los misiles 1962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429228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pa de la situa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írculos verdes corresponden a las bases soviéticas. El punto amarillo corresponde a la base de Guantánamo, perteneciente a EE U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32000" y="995400"/>
            <a:ext cx="704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11:37Z</dcterms:created>
  <dc:creator>...</dc:creator>
  <dc:description/>
  <dc:language>en-US</dc:language>
  <cp:lastModifiedBy>...</cp:lastModifiedBy>
  <dcterms:modified xsi:type="dcterms:W3CDTF">2009-03-29T22:00:22Z</dcterms:modified>
  <cp:revision>3</cp:revision>
  <dc:subject/>
  <dc:title>La crisis de los misiles 1962</dc:title>
</cp:coreProperties>
</file>