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464-6E3C-4FD5-AEE5-B140637A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D95-D83F-482C-AF0F-86E5D21E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ECD-250B-4534-8B80-D7B1AA22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E29-EB95-4928-805B-28ED50F9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EA9-F6DF-4EF3-9015-100959E9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F1F-5813-464C-9125-40D2E31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D705-18AF-4631-8556-0C3CD4F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C17-9491-43E2-A91C-CE18A0A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0A5-3F4F-4E4A-BF35-C72733E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0B7A-E7F3-4B31-8A9F-EA24F507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B24-7730-49DB-83D9-4F14769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1A8-9B2A-40CA-9F0E-A7DA05F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D90-6D6D-4895-94FF-F17B1F9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D831-93A5-475C-A022-675D4CA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416C-87B1-43AF-8D32-EEB504FD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2C2-B74F-4197-B621-E7B0F4F4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F807-99CD-4CBA-8108-06308FF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657-A94F-4B6C-9E7F-9963D9F8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9BF-395C-4BB5-9157-8DDACC5A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79B-F5DF-43AE-B8E7-25C33B6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510-7207-4DF3-870E-B5AD1A80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86D-0CCE-4C22-8401-41F24DC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0DC-169D-40D7-9841-1CE9515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C0-4BDD-4D78-AF28-19B2CE2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3A1-2339-4158-90BC-B9333503F0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555-B818-4F02-A5C5-39B0B1274D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edio Oriente: Israel - Pales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1947- 194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 acuerdo al plan inicial de la ONU, la zona denominad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alestina británic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en el mapa de la izquierda) sería dividido tres partes: Israel (con morado); Estado Árabe -posiblemente palestino- (con verde); el resto sería asignado a otros países. Como podemos apreciar en el mapa de la derecha, ese amplió el territorio judío luego de la guerra del 48 (la zona rosada corresponde a las anexione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 morado corresponde a Israel desde 1949 a 1967; la zona lila son los territorios ocupados desde 1967 a 1988; y los cuadrados verdes son los campamentos palestin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uego de los acuerdo de Camp David de 1994, con lila corresponde a Israel; La zona roja son los territorios autónomos controlados por la Autoridad Nacional Palestina; La zona verde son 450 localidades en que la ANP ejerce el poder civil, e Israel la seguridad; La zona color damasco corresponde a la región en que se encuentran los asentamientos judíos de Cisjordania (colono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a zona rosada corresponde a los territorios autónomos palestinos; los puntos verdes son los asentamientos judíos en la zona palestina. Con verde oscura están las ciudades de la ANP; y con Naranjo tenemos la división de Jerusalé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0498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53:56Z</dcterms:created>
  <dc:creator>...</dc:creator>
  <dc:description/>
  <dc:language>en-US</dc:language>
  <cp:lastModifiedBy>...</cp:lastModifiedBy>
  <dcterms:modified xsi:type="dcterms:W3CDTF">2008-03-08T18:58:04Z</dcterms:modified>
  <cp:revision>3</cp:revision>
  <dc:subject/>
  <dc:title>Medio Oriente: Israel</dc:title>
</cp:coreProperties>
</file>