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081-042D-4FEE-B341-E7AC6012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055-B0C7-4BCE-AD5C-F50241A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7F1-6963-4AF6-B832-EE2D3CA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B0E-80D4-46FB-97F2-151BDA3A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7F37-EA59-4D74-A683-109359A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D2F-2E74-43DA-AFA5-CCB1572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504-6117-437E-B895-39C3124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8B10-241E-4E38-9E14-623942C1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4CF-0829-4978-A258-E239C134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0BFB-571C-456B-A59C-2C114CDD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F22F-CD11-4FC2-BDA5-72E99DF3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BBA-F939-441E-B6B2-E5417ADB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5171-B4C9-4286-ACA9-32984E5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F09-3DBB-44D9-B97A-A8F9532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C63A-4073-4DB2-80B6-DDEF5F3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5FBE-329C-441B-8096-2E714E35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C17-5C79-4CBA-81B7-E706966C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025-820E-4F67-B6BE-EE899FC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0F3-BA9D-4C8F-B791-744C59B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69A-5E0D-4AB2-B297-B76F272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FF9-2B18-4F49-9980-97C9A3F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A17-38A7-411A-8189-64B6D8C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EBB-916A-4339-8157-064C79B0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F11-B812-4C0F-8260-F59FF17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BD5-161A-4C20-8B95-99DB0B6127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7F6-93F7-4239-A999-07C92CE54C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edio Oriente: Israel - Pales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1947- 194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 acuerdo al plan inicial de la ONU, la zona denominad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alestina británic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en el mapa de la izquierda) sería dividido tres partes: Israel (con morado); Estado Árabe -posiblemente palestino- (con verde); el resto sería asignado a otros países. Como podemos apreciar en el mapa de la derecha, ese amplió el territorio judío luego de la guerra del 48 (la zona rosada corresponde a las anexione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 morado corresponde a Israel desde 1949 a 1967; la zona lila son los territorios ocupados desde 1967 a 1988; y los cuadrados verdes son los campamentos palestin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uego de los acuerdo de Camp David de 1994, con lila corresponde a Israel; La zona roja son los territorios autónomos controlados por la Autoridad Nacional Palestina; La zona verde son 450 localidades en que la ANP ejerce el poder civil, e Israel la seguridad; La zona color damasco corresponde a la región en que se encuentran los asentamientos judíos de Cisjordania (colono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a zona rosada corresponde a los territorios autónomos palestinos; los puntos verdes son los asentamientos judíos en la zona palestina. Con verde oscura están las ciudades de la ANP; y con Naranjo tenemos la división de Jerusalé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0498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53:56Z</dcterms:created>
  <dc:creator>...</dc:creator>
  <dc:description/>
  <dc:language>en-US</dc:language>
  <cp:lastModifiedBy>...</cp:lastModifiedBy>
  <dcterms:modified xsi:type="dcterms:W3CDTF">2008-03-08T18:58:04Z</dcterms:modified>
  <cp:revision>3</cp:revision>
  <dc:subject/>
  <dc:title>Medio Oriente: Israel</dc:title>
</cp:coreProperties>
</file>