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0EE-11A4-4526-8686-38EA9BCF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98F-0434-4611-85C7-5E9555BA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EFD-5415-474C-842E-03883B9B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C4D-E36F-4A0E-B046-9710B556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8EF2-C295-4806-ABCD-4A4EF2CB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4AA6-9BC6-4BD2-8AE8-29695271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A036-5BE9-4B80-9130-757C0201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8EE2-9AE9-463F-953B-D04BE4AF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4007-0404-4E44-A990-B18AFD70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4CC4-4B23-463F-8FA3-8BFF0C2B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15AC-03EF-421F-8EBF-8B6AED8E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41C-0FE0-4CAD-B097-F6537087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A4CE-02AC-42C2-94E7-AF9105D0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B614-7316-45AC-9FEA-F8E8276C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7BAC-C35B-4734-B71D-AF978D6E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C4DC-C8C8-4E62-8759-3F0EEDB5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492C-1324-475E-815C-78F217D7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C05-E767-42B3-AF3A-17DC5C20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648-1FE4-4449-B367-E397EE1D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28D-7560-4090-B357-E94E0909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F59-0B73-4BA2-8452-E1ABB547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0D0-9801-4891-9DD7-82115233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522-644C-4997-8FCC-E9632581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64B-0DC8-4C68-8BE0-386C183D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8ED5-EB93-44A0-A35E-F88E452698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B059-361E-42F4-8018-F40B95255F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Medio Oriente: Israel - Palestin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resentación para la cátedra de Relaciones Internacionales del Profesor José Rodríguez Elizond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bastián Flores Día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rzo de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Uso exclusivo para la clase. Se prohíbe citar u ocupar sin permiso del aut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1947- 194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 acuerdo al plan inicial de la ONU, la zona denominad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alestina británic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en el mapa de la izquierda) sería dividido tres partes: Israel (con morado); Estado Árabe -posiblemente palestino- (con verde); el resto sería asignado a otros países. Como podemos apreciar en el mapa de la derecha, ese amplió el territorio judío luego de la guerra del 48 (la zona rosada corresponde a las anexione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l morado corresponde a Israel desde 1949 a 1967; la zona lila son los territorios ocupados desde 1967 a 1988; y los cuadrados verdes son los campamentos palestin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280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Luego de los acuerdo de Camp David de 1994, con lila corresponde a Israel; La zona roja son los territorios autónomos controlados por la Autoridad Nacional Palestina; La zona verde son 450 localidades en que la ANP ejerce el poder civil, e Israel la seguridad; La zona color damasco corresponde a la región en que se encuentran los asentamientos judíos de Cisjordania (colono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69786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La zona rosada corresponde a los territorios autónomos palestinos; los puntos verdes son los asentamientos judíos en la zona palestina. Con verde oscura están las ciudades de la ANP; y con Naranjo tenemos la división de Jerusalé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04988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6:53:56Z</dcterms:created>
  <dc:creator>...</dc:creator>
  <dc:description/>
  <dc:language>en-US</dc:language>
  <cp:lastModifiedBy>...</cp:lastModifiedBy>
  <dcterms:modified xsi:type="dcterms:W3CDTF">2008-03-08T18:58:04Z</dcterms:modified>
  <cp:revision>3</cp:revision>
  <dc:subject/>
  <dc:title>Medio Oriente: Israel</dc:title>
</cp:coreProperties>
</file>