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fesor Claudio Palaveci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a28a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00a28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7403F39-A28D-4918-99A4-B809D5BE8C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2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fesor Claudio Palavecin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EDC8142-4121-4DC6-B6E7-BE36B9AC45D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2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fesor Claudio Palavecin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BEB0701-AF31-4CA9-94FD-76C5C6770F8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2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fesor Claudio Palavecin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0FD1C08-BE2A-48CE-9BF1-A306B9DC2EF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65120" y="404640"/>
            <a:ext cx="819936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a28a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3120" cy="19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43720"/>
            <a:ext cx="8223120" cy="19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5120" y="404640"/>
            <a:ext cx="819936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a28a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2560" cy="19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0640" y="1676160"/>
            <a:ext cx="4012560" cy="19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43720"/>
            <a:ext cx="4012560" cy="19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0640" y="3843720"/>
            <a:ext cx="4012560" cy="19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65120" y="404640"/>
            <a:ext cx="819936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a28a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2647440" cy="19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7480" y="1676160"/>
            <a:ext cx="2647440" cy="19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17760" y="1676160"/>
            <a:ext cx="2647440" cy="19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43720"/>
            <a:ext cx="2647440" cy="19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7480" y="3843720"/>
            <a:ext cx="2647440" cy="19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17760" y="3843720"/>
            <a:ext cx="2647440" cy="19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5120" y="404640"/>
            <a:ext cx="819936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a28a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822312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5120" y="404640"/>
            <a:ext cx="819936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a28a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312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5120" y="404640"/>
            <a:ext cx="819936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a28a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256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640" y="1676160"/>
            <a:ext cx="401256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5120" y="404640"/>
            <a:ext cx="819936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a28a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5120" y="404640"/>
            <a:ext cx="8199360" cy="23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5120" y="404640"/>
            <a:ext cx="819936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a28a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2560" cy="19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640" y="1676160"/>
            <a:ext cx="401256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843720"/>
            <a:ext cx="4012560" cy="19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65120" y="404640"/>
            <a:ext cx="819936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a28a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822312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5120" y="404640"/>
            <a:ext cx="819936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a28a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256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640" y="1676160"/>
            <a:ext cx="4012560" cy="19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640" y="3843720"/>
            <a:ext cx="4012560" cy="19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5120" y="404640"/>
            <a:ext cx="819936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a28a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2560" cy="19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640" y="1676160"/>
            <a:ext cx="4012560" cy="19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843720"/>
            <a:ext cx="8223120" cy="19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5120" y="404640"/>
            <a:ext cx="819936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a28a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3120" cy="19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843720"/>
            <a:ext cx="8223120" cy="19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5120" y="404640"/>
            <a:ext cx="819936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a28a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2560" cy="19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640" y="1676160"/>
            <a:ext cx="4012560" cy="19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843720"/>
            <a:ext cx="4012560" cy="19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640" y="3843720"/>
            <a:ext cx="4012560" cy="19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5120" y="404640"/>
            <a:ext cx="819936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a28a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2647440" cy="19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7480" y="1676160"/>
            <a:ext cx="2647440" cy="19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17760" y="1676160"/>
            <a:ext cx="2647440" cy="19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843720"/>
            <a:ext cx="2647440" cy="19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7480" y="3843720"/>
            <a:ext cx="2647440" cy="19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17760" y="3843720"/>
            <a:ext cx="2647440" cy="19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5120" y="404640"/>
            <a:ext cx="819936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a28a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312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5120" y="404640"/>
            <a:ext cx="819936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a28a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256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0640" y="1676160"/>
            <a:ext cx="401256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5120" y="404640"/>
            <a:ext cx="819936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a28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65120" y="404640"/>
            <a:ext cx="8199360" cy="23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5120" y="404640"/>
            <a:ext cx="819936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a28a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2560" cy="19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0640" y="1676160"/>
            <a:ext cx="401256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43720"/>
            <a:ext cx="4012560" cy="19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65120" y="404640"/>
            <a:ext cx="819936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a28a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256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0640" y="1676160"/>
            <a:ext cx="4012560" cy="19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0640" y="3843720"/>
            <a:ext cx="4012560" cy="19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65120" y="404640"/>
            <a:ext cx="819936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a28a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2560" cy="19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0640" y="1676160"/>
            <a:ext cx="4012560" cy="19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3720"/>
            <a:ext cx="8223120" cy="19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5120" y="404640"/>
            <a:ext cx="8199360" cy="508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a28a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a28a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76160"/>
            <a:ext cx="822312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marL="205560" indent="-20556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Clr>
                <a:srgbClr val="00a2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5956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Clr>
                <a:srgbClr val="00a28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877320" indent="-20556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Clr>
                <a:srgbClr val="00a2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188720" indent="-20844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Clr>
                <a:srgbClr val="00a28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440000" indent="-14868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Clr>
                <a:srgbClr val="00a2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440000" indent="-14868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440000" indent="-14868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4419720" y="5866920"/>
            <a:ext cx="4419360" cy="6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2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Gothic"/>
              </a:rPr>
              <a:t>Profesor: Claudio Palaveci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Rectangle 2"/>
          <p:cNvSpPr/>
          <p:nvPr/>
        </p:nvSpPr>
        <p:spPr>
          <a:xfrm>
            <a:off x="0" y="6083280"/>
            <a:ext cx="9142560" cy="401760"/>
          </a:xfrm>
          <a:prstGeom prst="rect">
            <a:avLst/>
          </a:prstGeom>
          <a:solidFill>
            <a:srgbClr val="00a2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Arial"/>
              </a:rPr>
              <a:t>Profesor Claudio Palavecino Cácer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0" name="Picture 9" descr="pt"/>
          <p:cNvPicPr/>
          <p:nvPr/>
        </p:nvPicPr>
        <p:blipFill>
          <a:blip r:embed="rId2"/>
          <a:stretch/>
        </p:blipFill>
        <p:spPr>
          <a:xfrm>
            <a:off x="3381480" y="2881440"/>
            <a:ext cx="2381040" cy="1095120"/>
          </a:xfrm>
          <a:prstGeom prst="rect">
            <a:avLst/>
          </a:prstGeom>
          <a:ln w="0">
            <a:noFill/>
          </a:ln>
        </p:spPr>
      </p:pic>
      <p:pic>
        <p:nvPicPr>
          <p:cNvPr id="41" name="Picture 11" descr="pt"/>
          <p:cNvPicPr/>
          <p:nvPr/>
        </p:nvPicPr>
        <p:blipFill>
          <a:blip r:embed="rId3"/>
          <a:stretch/>
        </p:blipFill>
        <p:spPr>
          <a:xfrm>
            <a:off x="3381480" y="2881440"/>
            <a:ext cx="2381040" cy="109512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13" descr="pt"/>
          <p:cNvPicPr/>
          <p:nvPr/>
        </p:nvPicPr>
        <p:blipFill>
          <a:blip r:embed="rId4"/>
          <a:stretch/>
        </p:blipFill>
        <p:spPr>
          <a:xfrm>
            <a:off x="3381480" y="2881440"/>
            <a:ext cx="2381040" cy="1095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5" descr="pt"/>
          <p:cNvPicPr/>
          <p:nvPr/>
        </p:nvPicPr>
        <p:blipFill>
          <a:blip r:embed="rId5"/>
          <a:stretch/>
        </p:blipFill>
        <p:spPr>
          <a:xfrm>
            <a:off x="3381480" y="2881440"/>
            <a:ext cx="2381040" cy="10951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5120" y="404640"/>
            <a:ext cx="8199360" cy="508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a28a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a28a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76160"/>
            <a:ext cx="822312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marL="205560" indent="-20556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Clr>
                <a:srgbClr val="00a2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5956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Clr>
                <a:srgbClr val="00a28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877320" indent="-20556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Clr>
                <a:srgbClr val="00a2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188720" indent="-20844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Clr>
                <a:srgbClr val="00a28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440000" indent="-14868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Clr>
                <a:srgbClr val="00a2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440000" indent="-14868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440000" indent="-14868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95360" y="1761840"/>
            <a:ext cx="8207280" cy="1724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a28a"/>
                </a:solidFill>
                <a:latin typeface="Century Gothic"/>
              </a:rPr>
              <a:t>NUEVA JUSTICIA LABORAL</a:t>
            </a:r>
            <a:endParaRPr b="1" lang="en-US" sz="4000" spc="-1" strike="noStrike">
              <a:solidFill>
                <a:srgbClr val="00a28a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69440" y="2746080"/>
            <a:ext cx="820116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ffffff"/>
                </a:solidFill>
                <a:latin typeface="Century Gothic"/>
              </a:rPr>
              <a:t>Su impacto sobre la Empres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9" descr="Justicia en coma"/>
          <p:cNvPicPr/>
          <p:nvPr/>
        </p:nvPicPr>
        <p:blipFill>
          <a:blip r:embed="rId1"/>
          <a:stretch/>
        </p:blipFill>
        <p:spPr>
          <a:xfrm>
            <a:off x="1981080" y="4572000"/>
            <a:ext cx="510552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3 Marcador de pie de página"/>
          <p:cNvSpPr/>
          <p:nvPr/>
        </p:nvSpPr>
        <p:spPr>
          <a:xfrm>
            <a:off x="4419720" y="5867280"/>
            <a:ext cx="441936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Gothic"/>
              </a:rPr>
              <a:t>Profesor: Claudio Palavecin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2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fesor Claudio Palavecin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Rectangle 4"/>
          <p:cNvSpPr/>
          <p:nvPr/>
        </p:nvSpPr>
        <p:spPr>
          <a:xfrm>
            <a:off x="533520" y="609480"/>
            <a:ext cx="819936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600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00a28a"/>
                </a:solidFill>
                <a:latin typeface="Arial"/>
              </a:rPr>
              <a:t>Procedimiento Monitorio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Rectangle 5"/>
          <p:cNvSpPr/>
          <p:nvPr/>
        </p:nvSpPr>
        <p:spPr>
          <a:xfrm>
            <a:off x="914400" y="1905120"/>
            <a:ext cx="784872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entury Gothic"/>
              </a:rPr>
              <a:t>Contiendas de cuantía igual o inferior a 10 IMM (sin considerar incremento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entury Gothic"/>
              </a:rPr>
              <a:t>Reclamación por despido de trabajadora con fuero maternal. No requiere reclamo previo ante Inspección del Trabajo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entury Gothic"/>
              </a:rPr>
              <a:t>Reclamación judicial de multas de cuantía igual o inferior a 10 IMM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entury Gothic"/>
              </a:rPr>
              <a:t>Reclamación judicial de resoluciones de la DT distintas de la multa administrativa o de la reconsideración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entury Gothic"/>
              </a:rPr>
              <a:t>Importancia de comparecencia ante la Inspección del Trabaj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3 Marcador de pie de página"/>
          <p:cNvSpPr/>
          <p:nvPr/>
        </p:nvSpPr>
        <p:spPr>
          <a:xfrm>
            <a:off x="4419720" y="5867280"/>
            <a:ext cx="441936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Gothic"/>
              </a:rPr>
              <a:t>Profesor: Claudio Palavecin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65120" y="404640"/>
            <a:ext cx="8199360" cy="508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00a28a"/>
                </a:solidFill>
                <a:latin typeface="Century Gothic"/>
              </a:rPr>
              <a:t>IMPACTO SOBRE LA EMPRESA</a:t>
            </a:r>
            <a:endParaRPr b="1" lang="en-US" sz="4000" spc="-1" strike="noStrike">
              <a:solidFill>
                <a:srgbClr val="00a28a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3600" y="1142640"/>
            <a:ext cx="869004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000" spc="-1" strike="noStrike" u="sng">
                <a:solidFill>
                  <a:srgbClr val="000000"/>
                </a:solidFill>
                <a:uFillTx/>
                <a:latin typeface="Century Gothic"/>
              </a:rPr>
              <a:t>1.- Limitación severa al derecho a ejercer una defensa jurídica eficaz de sus interese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624"/>
              </a:spcBef>
              <a:spcAft>
                <a:spcPts val="400"/>
              </a:spcAft>
              <a:buClr>
                <a:srgbClr val="00a2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600" spc="-1" strike="noStrike">
                <a:solidFill>
                  <a:srgbClr val="000000"/>
                </a:solidFill>
                <a:latin typeface="Century Gothic"/>
              </a:rPr>
              <a:t>Mayores poderes formales y materiales del juez laboral (hasta configurar un sistema inquisitivo de “justicia” laboral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624"/>
              </a:spcBef>
              <a:spcAft>
                <a:spcPts val="400"/>
              </a:spcAft>
              <a:buClr>
                <a:srgbClr val="00a28a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entury Gothic"/>
              </a:rPr>
              <a:t>Cargas probatorias dinámica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624"/>
              </a:spcBef>
              <a:spcAft>
                <a:spcPts val="400"/>
              </a:spcAft>
              <a:buClr>
                <a:srgbClr val="00a28a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s-CL" sz="2600" spc="-1" strike="noStrike">
                <a:solidFill>
                  <a:srgbClr val="000000"/>
                </a:solidFill>
                <a:latin typeface="Century Gothic"/>
              </a:rPr>
              <a:t>Sistema de impugnaciones limitad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624"/>
              </a:spcBef>
              <a:spcAft>
                <a:spcPts val="400"/>
              </a:spcAft>
              <a:buClr>
                <a:srgbClr val="00a28a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entury Gothic"/>
              </a:rPr>
              <a:t>Tribunal </a:t>
            </a:r>
            <a:r>
              <a:rPr b="0" i="1" lang="es-CL" sz="2600" spc="-1" strike="noStrike">
                <a:solidFill>
                  <a:srgbClr val="000000"/>
                </a:solidFill>
                <a:latin typeface="Century Gothic"/>
              </a:rPr>
              <a:t>estructuralmente parcial</a:t>
            </a:r>
            <a:r>
              <a:rPr b="0" lang="es-CL" sz="2600" spc="-1" strike="noStrike">
                <a:solidFill>
                  <a:srgbClr val="000000"/>
                </a:solidFill>
                <a:latin typeface="Century Gothic"/>
              </a:rPr>
              <a:t> y juez </a:t>
            </a:r>
            <a:r>
              <a:rPr b="0" i="1" lang="es-CL" sz="2600" spc="-1" strike="noStrike">
                <a:solidFill>
                  <a:srgbClr val="000000"/>
                </a:solidFill>
                <a:latin typeface="Century Gothic"/>
              </a:rPr>
              <a:t>ideológicamente parcial</a:t>
            </a:r>
            <a:r>
              <a:rPr b="0" lang="es-CL" sz="2600" spc="-1" strike="noStrike">
                <a:solidFill>
                  <a:srgbClr val="000000"/>
                </a:solidFill>
                <a:latin typeface="Century Gothic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624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2126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2126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2126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3 Marcador de pie de página"/>
          <p:cNvSpPr/>
          <p:nvPr/>
        </p:nvSpPr>
        <p:spPr>
          <a:xfrm>
            <a:off x="4419720" y="5867280"/>
            <a:ext cx="441936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Gothic"/>
              </a:rPr>
              <a:t>Profesor: Claudio Palavecin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5120" y="404640"/>
            <a:ext cx="8199360" cy="508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Century Gothic"/>
              </a:rPr>
              <a:t>1.- Limitación al derecho a  una defensa jurídica eficaz… (continuación)</a:t>
            </a:r>
            <a:endParaRPr b="1" lang="en-US" sz="3200" spc="-1" strike="noStrike">
              <a:solidFill>
                <a:srgbClr val="00a28a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312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lnSpc>
                <a:spcPct val="70000"/>
              </a:lnSpc>
              <a:spcBef>
                <a:spcPts val="1063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700" spc="-1" strike="noStrike">
                <a:solidFill>
                  <a:srgbClr val="000000"/>
                </a:solidFill>
                <a:latin typeface="Century Gothic"/>
              </a:rPr>
              <a:t>Potestades formales o de dirección del nuevo juez laboral: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70000"/>
              </a:lnSpc>
              <a:spcBef>
                <a:spcPts val="1063"/>
              </a:spcBef>
              <a:spcAft>
                <a:spcPts val="400"/>
              </a:spcAft>
              <a:buClr>
                <a:srgbClr val="00a28a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000000"/>
                </a:solidFill>
                <a:latin typeface="Century Gothic"/>
              </a:rPr>
              <a:t>En los procedimientos del trabajo primará el </a:t>
            </a:r>
            <a:r>
              <a:rPr b="0" i="1" lang="es-CL" sz="1700" spc="-1" strike="noStrike" u="sng">
                <a:solidFill>
                  <a:srgbClr val="000000"/>
                </a:solidFill>
                <a:uFillTx/>
                <a:latin typeface="Century Gothic"/>
              </a:rPr>
              <a:t>“impulso procesal de oficio” </a:t>
            </a:r>
            <a:r>
              <a:rPr b="0" lang="es-CL" sz="1700" spc="-1" strike="noStrike">
                <a:solidFill>
                  <a:srgbClr val="000000"/>
                </a:solidFill>
                <a:latin typeface="Century Gothic"/>
              </a:rPr>
              <a:t>(art. 425 CT)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70000"/>
              </a:lnSpc>
              <a:spcBef>
                <a:spcPts val="1063"/>
              </a:spcBef>
              <a:spcAft>
                <a:spcPts val="400"/>
              </a:spcAft>
              <a:buClr>
                <a:srgbClr val="00a28a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700" spc="-1" strike="noStrike" u="sng">
                <a:solidFill>
                  <a:srgbClr val="000000"/>
                </a:solidFill>
                <a:uFillTx/>
                <a:latin typeface="Century Gothic"/>
              </a:rPr>
              <a:t>“…</a:t>
            </a:r>
            <a:r>
              <a:rPr b="0" i="1" lang="es-CL" sz="1700" spc="-1" strike="noStrike" u="sng">
                <a:solidFill>
                  <a:srgbClr val="000000"/>
                </a:solidFill>
                <a:uFillTx/>
                <a:latin typeface="Century Gothic"/>
              </a:rPr>
              <a:t>una vez reclamada su intervención actuará de oficio… </a:t>
            </a:r>
            <a:r>
              <a:rPr b="0" lang="es-CL" sz="1700" spc="-1" strike="noStrike">
                <a:solidFill>
                  <a:srgbClr val="000000"/>
                </a:solidFill>
                <a:latin typeface="Century Gothic"/>
              </a:rPr>
              <a:t>(art. 429 inc. 1° CT)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70000"/>
              </a:lnSpc>
              <a:spcBef>
                <a:spcPts val="1063"/>
              </a:spcBef>
              <a:spcAft>
                <a:spcPts val="400"/>
              </a:spcAft>
              <a:buClr>
                <a:srgbClr val="00a28a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700" spc="-1" strike="noStrike">
                <a:solidFill>
                  <a:srgbClr val="000000"/>
                </a:solidFill>
                <a:latin typeface="Century Gothic"/>
              </a:rPr>
              <a:t>“</a:t>
            </a:r>
            <a:r>
              <a:rPr b="0" i="1" lang="es-CL" sz="1700" spc="-1" strike="noStrike" u="sng">
                <a:solidFill>
                  <a:srgbClr val="000000"/>
                </a:solidFill>
                <a:uFillTx/>
                <a:latin typeface="Century Gothic"/>
              </a:rPr>
              <a:t>Admitida la demanda a tramitación</a:t>
            </a:r>
            <a:r>
              <a:rPr b="0" i="1" lang="es-CL" sz="1700" spc="-1" strike="noStrike">
                <a:solidFill>
                  <a:srgbClr val="000000"/>
                </a:solidFill>
                <a:latin typeface="Century Gothic"/>
              </a:rPr>
              <a:t>, [...] deberá, </a:t>
            </a:r>
            <a:r>
              <a:rPr b="0" i="1" lang="es-CL" sz="1700" spc="-1" strike="noStrike" u="sng">
                <a:solidFill>
                  <a:srgbClr val="000000"/>
                </a:solidFill>
                <a:uFillTx/>
                <a:latin typeface="Century Gothic"/>
              </a:rPr>
              <a:t>de inmediato y sin más trámite</a:t>
            </a:r>
            <a:r>
              <a:rPr b="0" i="1" lang="es-CL" sz="1700" spc="-1" strike="noStrike">
                <a:solidFill>
                  <a:srgbClr val="000000"/>
                </a:solidFill>
                <a:latin typeface="Century Gothic"/>
              </a:rPr>
              <a:t>, citar a las partes a una audiencia… </a:t>
            </a:r>
            <a:r>
              <a:rPr b="0" i="1" lang="es-CL" sz="1700" spc="-1" strike="noStrike" u="sng">
                <a:solidFill>
                  <a:srgbClr val="000000"/>
                </a:solidFill>
                <a:uFillTx/>
                <a:latin typeface="Century Gothic"/>
              </a:rPr>
              <a:t> </a:t>
            </a:r>
            <a:r>
              <a:rPr b="0" lang="es-CL" sz="1700" spc="-1" strike="noStrike">
                <a:solidFill>
                  <a:srgbClr val="000000"/>
                </a:solidFill>
                <a:latin typeface="Century Gothic"/>
              </a:rPr>
              <a:t>(art. 451 CT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70000"/>
              </a:lnSpc>
              <a:spcBef>
                <a:spcPts val="1063"/>
              </a:spcBef>
              <a:spcAft>
                <a:spcPts val="400"/>
              </a:spcAft>
              <a:buClr>
                <a:srgbClr val="00a28a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000000"/>
                </a:solidFill>
                <a:latin typeface="Century Gothic"/>
              </a:rPr>
              <a:t>Adoptará </a:t>
            </a:r>
            <a:r>
              <a:rPr b="0" i="1" lang="es-CL" sz="1700" spc="-1" strike="noStrike">
                <a:solidFill>
                  <a:srgbClr val="000000"/>
                </a:solidFill>
                <a:latin typeface="Century Gothic"/>
              </a:rPr>
              <a:t>“las medidas tendientes a evitar la paralización del proceso o su prolongación indebida y, en consecuencia, no será aplicable el abandono del procedimiento”</a:t>
            </a:r>
            <a:r>
              <a:rPr b="0" lang="es-CL" sz="1700" spc="-1" strike="noStrike">
                <a:solidFill>
                  <a:srgbClr val="000000"/>
                </a:solidFill>
                <a:latin typeface="Century Gothic"/>
              </a:rPr>
              <a:t> (art.429, inc. 2°, CT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70000"/>
              </a:lnSpc>
              <a:spcBef>
                <a:spcPts val="1063"/>
              </a:spcBef>
              <a:spcAft>
                <a:spcPts val="400"/>
              </a:spcAft>
              <a:buClr>
                <a:srgbClr val="00a28a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000000"/>
                </a:solidFill>
                <a:latin typeface="Century Gothic"/>
              </a:rPr>
              <a:t>“…</a:t>
            </a:r>
            <a:r>
              <a:rPr b="0" i="1" lang="es-CL" sz="1700" spc="-1" strike="noStrike">
                <a:solidFill>
                  <a:srgbClr val="000000"/>
                </a:solidFill>
                <a:latin typeface="Century Gothic"/>
              </a:rPr>
              <a:t>corregirá de oficio los errores que observe en la tramitación del juicio y adoptará las medidas que tiendan a evitar la nulidad del procedimiento”</a:t>
            </a:r>
            <a:r>
              <a:rPr b="0" lang="es-CL" sz="1700" spc="-1" strike="noStrike">
                <a:solidFill>
                  <a:srgbClr val="000000"/>
                </a:solidFill>
                <a:latin typeface="Century Gothic"/>
              </a:rPr>
              <a:t> (art. 429, inc. 3°, CT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70000"/>
              </a:lnSpc>
              <a:spcBef>
                <a:spcPts val="1063"/>
              </a:spcBef>
              <a:spcAft>
                <a:spcPts val="400"/>
              </a:spcAft>
              <a:buClr>
                <a:srgbClr val="00a28a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000000"/>
                </a:solidFill>
                <a:latin typeface="Century Gothic"/>
              </a:rPr>
              <a:t>Dispondrá la forma en que se practicará una determinada actuación cuando no se pueda aplicar supletoriamente los Libros I y II del CPC, por ser sus normas contrarias a los principios del procedimiento laboral (art. 432 CT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70000"/>
              </a:lnSpc>
              <a:spcBef>
                <a:spcPts val="1063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3 Marcador de pie de página"/>
          <p:cNvSpPr/>
          <p:nvPr/>
        </p:nvSpPr>
        <p:spPr>
          <a:xfrm>
            <a:off x="4419720" y="5867280"/>
            <a:ext cx="441936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Gothic"/>
              </a:rPr>
              <a:t>Profesor: Claudio Palavecin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65120" y="404640"/>
            <a:ext cx="8199360" cy="508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Century Gothic"/>
              </a:rPr>
              <a:t>1.- Limitación al derecho a  una defensa jurídica eficaz… (continuación)</a:t>
            </a:r>
            <a:endParaRPr b="1" lang="en-US" sz="3200" spc="-1" strike="noStrike">
              <a:solidFill>
                <a:srgbClr val="00a28a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312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lnSpc>
                <a:spcPct val="90000"/>
              </a:lnSpc>
              <a:spcBef>
                <a:spcPts val="1624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 u="sng">
                <a:solidFill>
                  <a:srgbClr val="000000"/>
                </a:solidFill>
                <a:uFillTx/>
                <a:latin typeface="Century Gothic"/>
              </a:rPr>
              <a:t>Potestades materiales del nuevo juez laboral</a:t>
            </a:r>
            <a:r>
              <a:rPr b="0" lang="es-CL" sz="2600" spc="-1" strike="noStrike">
                <a:solidFill>
                  <a:srgbClr val="000000"/>
                </a:solidFill>
                <a:latin typeface="Century Gothic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624"/>
              </a:spcBef>
              <a:spcAft>
                <a:spcPts val="400"/>
              </a:spcAft>
              <a:buClr>
                <a:srgbClr val="00a28a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entury Gothic"/>
              </a:rPr>
              <a:t>La apertura del periodo probatori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624"/>
              </a:spcBef>
              <a:spcAft>
                <a:spcPts val="400"/>
              </a:spcAft>
              <a:buClr>
                <a:srgbClr val="00a28a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entury Gothic"/>
              </a:rPr>
              <a:t>El objeto de la prueba (los hechos)  y su incorporación al proces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624"/>
              </a:spcBef>
              <a:spcAft>
                <a:spcPts val="400"/>
              </a:spcAft>
              <a:buClr>
                <a:srgbClr val="00a28a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entury Gothic"/>
              </a:rPr>
              <a:t>La admisión de los medios de prueb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624"/>
              </a:spcBef>
              <a:spcAft>
                <a:spcPts val="400"/>
              </a:spcAft>
              <a:buClr>
                <a:srgbClr val="00a28a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entury Gothic"/>
              </a:rPr>
              <a:t>La práctica de los medios de prueb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624"/>
              </a:spcBef>
              <a:spcAft>
                <a:spcPts val="400"/>
              </a:spcAft>
              <a:buClr>
                <a:srgbClr val="00a28a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entury Gothic"/>
              </a:rPr>
              <a:t>Prueba de ofici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62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3 Marcador de pie de página"/>
          <p:cNvSpPr/>
          <p:nvPr/>
        </p:nvSpPr>
        <p:spPr>
          <a:xfrm>
            <a:off x="4419720" y="5867280"/>
            <a:ext cx="441936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Gothic"/>
              </a:rPr>
              <a:t>Profesor: Claudio Palavecin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65120" y="404640"/>
            <a:ext cx="8199360" cy="508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Century Gothic"/>
              </a:rPr>
              <a:t>1.- Limitación al derecho a  una defensa jurídica eficaz… (continuación)</a:t>
            </a:r>
            <a:endParaRPr b="1" lang="en-US" sz="3200" spc="-1" strike="noStrike">
              <a:solidFill>
                <a:srgbClr val="00a28a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3600" y="1774440"/>
            <a:ext cx="822348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80000"/>
              </a:lnSpc>
              <a:spcBef>
                <a:spcPts val="1312"/>
              </a:spcBef>
              <a:spcAft>
                <a:spcPts val="400"/>
              </a:spcAft>
              <a:buClr>
                <a:srgbClr val="00a28a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Gothic"/>
              </a:rPr>
              <a:t>Configuración de un sistema inquisitivo de juzgamiento = lesión de la garantía del justo y racional procedimiento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1312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 u="sng">
                <a:solidFill>
                  <a:srgbClr val="000000"/>
                </a:solidFill>
                <a:uFillTx/>
                <a:latin typeface="Century Gothic"/>
              </a:rPr>
              <a:t>Incompatibilidad de funciones procesales entre instrucción y juzgamiento (</a:t>
            </a:r>
            <a:r>
              <a:rPr b="1" i="1" lang="es-CL" sz="2100" spc="-1" strike="noStrike" u="sng">
                <a:solidFill>
                  <a:srgbClr val="000000"/>
                </a:solidFill>
                <a:uFillTx/>
                <a:latin typeface="Century Gothic"/>
              </a:rPr>
              <a:t>impartialidad</a:t>
            </a:r>
            <a:r>
              <a:rPr b="1" lang="es-CL" sz="2100" spc="-1" strike="noStrike" u="sng">
                <a:solidFill>
                  <a:srgbClr val="000000"/>
                </a:solidFill>
                <a:uFillTx/>
                <a:latin typeface="Century Gothic"/>
              </a:rPr>
              <a:t> del juzgador)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1312"/>
              </a:spcBef>
              <a:spcAft>
                <a:spcPts val="400"/>
              </a:spcAft>
              <a:buClr>
                <a:srgbClr val="00a28a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Gothic"/>
              </a:rPr>
              <a:t>“</a:t>
            </a:r>
            <a:r>
              <a:rPr b="0" lang="es-CL" sz="2100" spc="-1" strike="noStrike">
                <a:solidFill>
                  <a:srgbClr val="000000"/>
                </a:solidFill>
                <a:latin typeface="Century Gothic"/>
              </a:rPr>
              <a:t>Si el juez no puede asumir el papel de parte […], es obvio que no puede ni debe hacer las cosas propias de las partes procesales y que hacen a la esencia de esas calidades. Y así, no ha de afirmar pretensiones, ni introducir hechos, ni probar hechos que han afirmado otros…” (ALVARADO VELLOSO)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1312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3 Marcador de pie de página"/>
          <p:cNvSpPr/>
          <p:nvPr/>
        </p:nvSpPr>
        <p:spPr>
          <a:xfrm>
            <a:off x="4419720" y="5867280"/>
            <a:ext cx="441936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Gothic"/>
              </a:rPr>
              <a:t>Profesor: Claudio Palavecin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65120" y="404640"/>
            <a:ext cx="8199360" cy="508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Century Gothic"/>
              </a:rPr>
              <a:t>1.- Limitación al derecho a  una defensa jurídica eficaz… (continuación)</a:t>
            </a:r>
            <a:endParaRPr b="1" lang="en-US" sz="3200" spc="-1" strike="noStrike">
              <a:solidFill>
                <a:srgbClr val="00a28a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312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80000"/>
              </a:lnSpc>
              <a:spcBef>
                <a:spcPts val="1312"/>
              </a:spcBef>
              <a:spcAft>
                <a:spcPts val="400"/>
              </a:spcAft>
              <a:buClr>
                <a:srgbClr val="00a28a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Gothic"/>
              </a:rPr>
              <a:t>Configuración de un sistema inquisitivo de juzgamiento = lesión de la garantía del justo y racional procedimiento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1312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 u="sng">
                <a:solidFill>
                  <a:srgbClr val="000000"/>
                </a:solidFill>
                <a:uFillTx/>
                <a:latin typeface="Century Gothic"/>
              </a:rPr>
              <a:t> </a:t>
            </a:r>
            <a:r>
              <a:rPr b="1" lang="es-CL" sz="2100" spc="-1" strike="noStrike" u="sng">
                <a:solidFill>
                  <a:srgbClr val="000000"/>
                </a:solidFill>
                <a:uFillTx/>
                <a:latin typeface="Century Gothic"/>
              </a:rPr>
              <a:t>Ausencia de interés subjetivo en la solución del litigio (</a:t>
            </a:r>
            <a:r>
              <a:rPr b="1" i="1" lang="es-CL" sz="2100" spc="-1" strike="noStrike" u="sng">
                <a:solidFill>
                  <a:srgbClr val="000000"/>
                </a:solidFill>
                <a:uFillTx/>
                <a:latin typeface="Century Gothic"/>
              </a:rPr>
              <a:t>imparcialidad</a:t>
            </a:r>
            <a:r>
              <a:rPr b="1" lang="es-CL" sz="2100" spc="-1" strike="noStrike" u="sng">
                <a:solidFill>
                  <a:srgbClr val="000000"/>
                </a:solidFill>
                <a:uFillTx/>
                <a:latin typeface="Century Gothic"/>
              </a:rPr>
              <a:t> del juzgador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1312"/>
              </a:spcBef>
              <a:spcAft>
                <a:spcPts val="400"/>
              </a:spcAft>
              <a:buClr>
                <a:srgbClr val="00a28a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Gothic"/>
              </a:rPr>
              <a:t>“</a:t>
            </a:r>
            <a:r>
              <a:rPr b="0" lang="es-CL" sz="2100" spc="-1" strike="noStrike" u="sng">
                <a:solidFill>
                  <a:srgbClr val="000000"/>
                </a:solidFill>
                <a:uFillTx/>
                <a:latin typeface="Century Gothic"/>
              </a:rPr>
              <a:t>La actividad instructora</a:t>
            </a:r>
            <a:r>
              <a:rPr b="0" lang="es-CL" sz="2100" spc="-1" strike="noStrike">
                <a:solidFill>
                  <a:srgbClr val="000000"/>
                </a:solidFill>
                <a:latin typeface="Century Gothic"/>
              </a:rPr>
              <a:t>, en cuanto para el que la lleva a cabo supone entrar en contacto directo con el acusado y con los hechos y datos que deben servir para averiguar el delito y sus posibles responsables, </a:t>
            </a:r>
            <a:r>
              <a:rPr b="0" lang="es-CL" sz="2100" spc="-1" strike="noStrike" u="sng">
                <a:solidFill>
                  <a:srgbClr val="000000"/>
                </a:solidFill>
                <a:uFillTx/>
                <a:latin typeface="Century Gothic"/>
              </a:rPr>
              <a:t>puede provocar en el ánimo del instructor prejuicios e impresiones a favor o en contra del acusado que influyan a la hora de sentenciar.</a:t>
            </a:r>
            <a:r>
              <a:rPr b="0" lang="es-CL" sz="2100" spc="-1" strike="noStrike">
                <a:solidFill>
                  <a:srgbClr val="000000"/>
                </a:solidFill>
                <a:latin typeface="Century Gothic"/>
              </a:rPr>
              <a:t> Y aunque aquello no suceda es difícil evitar la impresión de que el juez no acomete la función de juzgar sin la plena imparcialidad que le es exigible” (STC español 145/1988 de 12 de julio).</a:t>
            </a:r>
            <a:r>
              <a:rPr b="1" lang="es-CL" sz="2100" spc="-1" strike="noStrike" u="sng">
                <a:solidFill>
                  <a:srgbClr val="000000"/>
                </a:solidFill>
                <a:uFillTx/>
                <a:latin typeface="Century Gothic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1312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1312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3 Marcador de pie de página"/>
          <p:cNvSpPr/>
          <p:nvPr/>
        </p:nvSpPr>
        <p:spPr>
          <a:xfrm>
            <a:off x="4419720" y="5867280"/>
            <a:ext cx="441936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Gothic"/>
              </a:rPr>
              <a:t>Profesor: Claudio Palavecin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5120" y="404640"/>
            <a:ext cx="8199360" cy="508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Century Gothic"/>
              </a:rPr>
              <a:t>1.- Limitación al derecho a  una defensa jurídica eficaz… (continuación)</a:t>
            </a:r>
            <a:endParaRPr b="1" lang="en-US" sz="3200" spc="-1" strike="noStrike">
              <a:solidFill>
                <a:srgbClr val="00a28a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312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90000"/>
              </a:lnSpc>
              <a:spcBef>
                <a:spcPts val="1624"/>
              </a:spcBef>
              <a:spcAft>
                <a:spcPts val="400"/>
              </a:spcAft>
              <a:buClr>
                <a:srgbClr val="00a28a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 u="sng">
                <a:solidFill>
                  <a:srgbClr val="000000"/>
                </a:solidFill>
                <a:uFillTx/>
                <a:latin typeface="Century Gothic"/>
              </a:rPr>
              <a:t>“</a:t>
            </a:r>
            <a:r>
              <a:rPr b="1" lang="es-CL" sz="2600" spc="-1" strike="noStrike" u="sng">
                <a:solidFill>
                  <a:srgbClr val="000000"/>
                </a:solidFill>
                <a:uFillTx/>
                <a:latin typeface="Century Gothic"/>
              </a:rPr>
              <a:t>Cargas probatorias dinámicas”</a:t>
            </a:r>
            <a:r>
              <a:rPr b="0" lang="es-CL" sz="2600" spc="-1" strike="noStrike">
                <a:solidFill>
                  <a:srgbClr val="000000"/>
                </a:solidFill>
                <a:latin typeface="Century Gothic"/>
              </a:rPr>
              <a:t> (art. 453 N°1, incs. 7° y 8°, art. 495 CT) 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624"/>
              </a:spcBef>
              <a:spcAft>
                <a:spcPts val="400"/>
              </a:spcAft>
              <a:buClr>
                <a:srgbClr val="00a28a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entury Gothic"/>
              </a:rPr>
              <a:t>Exclusión del art. 1.698 C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624"/>
              </a:spcBef>
              <a:spcAft>
                <a:spcPts val="400"/>
              </a:spcAft>
              <a:buClr>
                <a:srgbClr val="00a28a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entury Gothic"/>
              </a:rPr>
              <a:t>El juez y no la ley determina la carga de la prueba</a:t>
            </a:r>
            <a:r>
              <a:rPr b="0" i="1" lang="es-CL" sz="2600" spc="-1" strike="noStrike">
                <a:solidFill>
                  <a:srgbClr val="000000"/>
                </a:solidFill>
                <a:latin typeface="Century Gothic"/>
              </a:rPr>
              <a:t>= </a:t>
            </a:r>
            <a:r>
              <a:rPr b="0" lang="es-CL" sz="2600" spc="-1" strike="noStrike">
                <a:solidFill>
                  <a:srgbClr val="000000"/>
                </a:solidFill>
                <a:latin typeface="Century Gothic"/>
              </a:rPr>
              <a:t>Incertidumbre y amplio margen al decisionismo judicial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624"/>
              </a:spcBef>
              <a:spcAft>
                <a:spcPts val="400"/>
              </a:spcAft>
              <a:buClr>
                <a:srgbClr val="00a28a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entury Gothic"/>
              </a:rPr>
              <a:t>Las reglas de incumbencia probatoria operan en la etapa de dictación de sentenci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62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3 Marcador de pie de página"/>
          <p:cNvSpPr/>
          <p:nvPr/>
        </p:nvSpPr>
        <p:spPr>
          <a:xfrm>
            <a:off x="4419720" y="5867280"/>
            <a:ext cx="441936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Gothic"/>
              </a:rPr>
              <a:t>Profesor: Claudio Palavecin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65120" y="404640"/>
            <a:ext cx="8199360" cy="508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Century Gothic"/>
              </a:rPr>
              <a:t>1.- Limitación al derecho a  una defensa jurídica eficaz… (continuación)</a:t>
            </a:r>
            <a:endParaRPr b="1" lang="en-US" sz="3200" spc="-1" strike="noStrike">
              <a:solidFill>
                <a:srgbClr val="00a28a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312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 algn="just">
              <a:lnSpc>
                <a:spcPct val="80000"/>
              </a:lnSpc>
              <a:spcBef>
                <a:spcPts val="1312"/>
              </a:spcBef>
              <a:spcAft>
                <a:spcPts val="400"/>
              </a:spcAft>
              <a:buClr>
                <a:srgbClr val="00a28a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 u="sng">
                <a:solidFill>
                  <a:srgbClr val="000000"/>
                </a:solidFill>
                <a:uFillTx/>
                <a:latin typeface="Century Gothic"/>
              </a:rPr>
              <a:t>Limitación a la posibilidad de impugnar las resoluciones:</a:t>
            </a:r>
            <a:r>
              <a:rPr b="0" lang="es-CL" sz="21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8720" algn="just">
              <a:lnSpc>
                <a:spcPct val="80000"/>
              </a:lnSpc>
              <a:spcBef>
                <a:spcPts val="451"/>
              </a:spcBef>
              <a:buClr>
                <a:srgbClr val="00a28a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entury Gothic"/>
              </a:rPr>
              <a:t>En la audiencia la reposición se resuelve de inmediato, sin ulterior recurs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8720" algn="just">
              <a:lnSpc>
                <a:spcPct val="80000"/>
              </a:lnSpc>
              <a:spcBef>
                <a:spcPts val="451"/>
              </a:spcBef>
              <a:buClr>
                <a:srgbClr val="00a28a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entury Gothic"/>
              </a:rPr>
              <a:t>La sentencia definitiva no es apela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8720" algn="just">
              <a:lnSpc>
                <a:spcPct val="80000"/>
              </a:lnSpc>
              <a:spcBef>
                <a:spcPts val="451"/>
              </a:spcBef>
              <a:buClr>
                <a:srgbClr val="00a28a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entury Gothic"/>
              </a:rPr>
              <a:t>Los hechos quedan fijados irrevocablemente por el juez de primera instancia, Corte de Apelaciones sólo revisa la aplicación del Derecho: </a:t>
            </a:r>
            <a:r>
              <a:rPr b="1" lang="es-CL" sz="1800" spc="-1" strike="noStrike">
                <a:solidFill>
                  <a:srgbClr val="000000"/>
                </a:solidFill>
                <a:latin typeface="Century Gothic"/>
              </a:rPr>
              <a:t>Recurso de Nulidad:</a:t>
            </a:r>
            <a:r>
              <a:rPr b="0" lang="es-CL" sz="18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74880" indent="-228600" algn="just">
              <a:lnSpc>
                <a:spcPct val="80000"/>
              </a:lnSpc>
              <a:spcBef>
                <a:spcPts val="451"/>
              </a:spcBef>
              <a:buClr>
                <a:srgbClr val="00a28a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entury Gothic"/>
              </a:rPr>
              <a:t>Infracción sustancial de derechos o garantías constituciona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74880" indent="-228600" algn="just">
              <a:lnSpc>
                <a:spcPct val="80000"/>
              </a:lnSpc>
              <a:spcBef>
                <a:spcPts val="451"/>
              </a:spcBef>
              <a:buClr>
                <a:srgbClr val="00a28a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entury Gothic"/>
              </a:rPr>
              <a:t>Infracción de ley que influya sustancialmente en lo dispositivo del fall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74880" indent="-228600" algn="just">
              <a:lnSpc>
                <a:spcPct val="80000"/>
              </a:lnSpc>
              <a:spcBef>
                <a:spcPts val="451"/>
              </a:spcBef>
              <a:buClr>
                <a:srgbClr val="00a28a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entury Gothic"/>
              </a:rPr>
              <a:t>Incompetencia, infracción a normas de apreciación de la prueba, violación de la inmediación, entre ot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748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entury Gothic"/>
              </a:rPr>
              <a:t>Debe prepararse el recurso (agotar instancias previas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74880" indent="-228600" algn="just">
              <a:lnSpc>
                <a:spcPct val="80000"/>
              </a:lnSpc>
              <a:spcBef>
                <a:spcPts val="451"/>
              </a:spcBef>
              <a:buClr>
                <a:srgbClr val="00a28a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entury Gothic"/>
              </a:rPr>
              <a:t>Plazo: 10 dí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74880" indent="-228600" algn="just">
              <a:lnSpc>
                <a:spcPct val="80000"/>
              </a:lnSpc>
              <a:spcBef>
                <a:spcPts val="451"/>
              </a:spcBef>
              <a:buClr>
                <a:srgbClr val="00a28a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entury Gothic"/>
              </a:rPr>
              <a:t>Efecto suspensiv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1125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3 Marcador de pie de página"/>
          <p:cNvSpPr/>
          <p:nvPr/>
        </p:nvSpPr>
        <p:spPr>
          <a:xfrm>
            <a:off x="4419720" y="5867280"/>
            <a:ext cx="441936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Gothic"/>
              </a:rPr>
              <a:t>Profesor: Claudio Palavecin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65120" y="404640"/>
            <a:ext cx="8199360" cy="508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Century Gothic"/>
              </a:rPr>
              <a:t>1.- Limitación al derecho a  una defensa jurídica eficaz… (continuación)</a:t>
            </a:r>
            <a:endParaRPr b="1" lang="en-US" sz="3200" spc="-1" strike="noStrike">
              <a:solidFill>
                <a:srgbClr val="00a28a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312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631800" indent="-288720" algn="just">
              <a:lnSpc>
                <a:spcPct val="90000"/>
              </a:lnSpc>
              <a:spcBef>
                <a:spcPts val="499"/>
              </a:spcBef>
              <a:buClr>
                <a:srgbClr val="00a28a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 u="sng">
                <a:solidFill>
                  <a:srgbClr val="000000"/>
                </a:solidFill>
                <a:uFillTx/>
                <a:latin typeface="Century Gothic"/>
              </a:rPr>
              <a:t>Limitado acceso a la Corte Suprema: </a:t>
            </a:r>
            <a:r>
              <a:rPr b="1" lang="es-CL" sz="2000" spc="-1" strike="noStrike" u="sng">
                <a:solidFill>
                  <a:srgbClr val="000000"/>
                </a:solidFill>
                <a:uFillTx/>
                <a:latin typeface="Century Gothic"/>
              </a:rPr>
              <a:t>Recurso de Unificación de Jurisprudenci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74880" indent="-228600" algn="just">
              <a:lnSpc>
                <a:spcPct val="110000"/>
              </a:lnSpc>
              <a:spcBef>
                <a:spcPts val="499"/>
              </a:spcBef>
              <a:buClr>
                <a:srgbClr val="00a28a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entury Gothic"/>
              </a:rPr>
              <a:t>Sólo si existen distintas interpretaciones, sobre la misma materia en fallos de Cortes de Apelaciones o Corte Suprem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74880" indent="-228600" algn="just">
              <a:lnSpc>
                <a:spcPct val="110000"/>
              </a:lnSpc>
              <a:spcBef>
                <a:spcPts val="499"/>
              </a:spcBef>
              <a:buClr>
                <a:srgbClr val="00a28a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entury Gothic"/>
              </a:rPr>
              <a:t>No procede en el procedimiento monitorio ni contra sentencias recaídas en reclamación  de infraccio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74880" indent="-228600" algn="just">
              <a:lnSpc>
                <a:spcPct val="110000"/>
              </a:lnSpc>
              <a:spcBef>
                <a:spcPts val="499"/>
              </a:spcBef>
              <a:buClr>
                <a:srgbClr val="00a28a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entury Gothic"/>
              </a:rPr>
              <a:t>Debe acompañarse copia de los fall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74880" indent="-228600" algn="just">
              <a:lnSpc>
                <a:spcPct val="110000"/>
              </a:lnSpc>
              <a:spcBef>
                <a:spcPts val="499"/>
              </a:spcBef>
              <a:buClr>
                <a:srgbClr val="00a28a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entury Gothic"/>
              </a:rPr>
              <a:t>Plazo: 15 días, ante la Corte de Apelacio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74880" indent="-228600" algn="just">
              <a:lnSpc>
                <a:spcPct val="110000"/>
              </a:lnSpc>
              <a:spcBef>
                <a:spcPts val="499"/>
              </a:spcBef>
              <a:buClr>
                <a:srgbClr val="00a28a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entury Gothic"/>
              </a:rPr>
              <a:t>No suspende la ejecución del fallo recurri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74880" indent="-228600" algn="just">
              <a:lnSpc>
                <a:spcPct val="110000"/>
              </a:lnSpc>
              <a:spcBef>
                <a:spcPts val="499"/>
              </a:spcBef>
              <a:buClr>
                <a:srgbClr val="00a28a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entury Gothic"/>
              </a:rPr>
              <a:t>Fallo produce efecto relativo, no afecta otras sentenci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3 Marcador de pie de página"/>
          <p:cNvSpPr/>
          <p:nvPr/>
        </p:nvSpPr>
        <p:spPr>
          <a:xfrm>
            <a:off x="4419720" y="5867280"/>
            <a:ext cx="441936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Gothic"/>
              </a:rPr>
              <a:t>Profesor: Claudio Palavecin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65120" y="404640"/>
            <a:ext cx="8199360" cy="508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Century Gothic"/>
              </a:rPr>
              <a:t>1.- Limitación al derecho a  una defensa jurídica eficaz… (continuación)</a:t>
            </a:r>
            <a:endParaRPr b="1" lang="en-US" sz="3200" spc="-1" strike="noStrike">
              <a:solidFill>
                <a:srgbClr val="00a28a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312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80000"/>
              </a:lnSpc>
              <a:spcBef>
                <a:spcPts val="1312"/>
              </a:spcBef>
              <a:spcAft>
                <a:spcPts val="400"/>
              </a:spcAft>
              <a:buClr>
                <a:srgbClr val="00a28a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 u="sng">
                <a:solidFill>
                  <a:srgbClr val="000000"/>
                </a:solidFill>
                <a:uFillTx/>
                <a:latin typeface="Century Gothic"/>
              </a:rPr>
              <a:t>El desequilibrio entre las partes de la relación de trabajo, se proyecta también sobre el proceso</a:t>
            </a:r>
            <a:r>
              <a:rPr b="0" lang="es-CL" sz="2100" spc="-1" strike="noStrike">
                <a:solidFill>
                  <a:srgbClr val="000000"/>
                </a:solidFill>
                <a:latin typeface="Century Gothic"/>
              </a:rPr>
              <a:t>. “El desequilibrio probatorio es el drama del trabajador litigante”</a:t>
            </a:r>
            <a:r>
              <a:rPr b="0" i="1" lang="es-CL" sz="21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s-CL" sz="2100" spc="-1" strike="noStrike">
                <a:solidFill>
                  <a:srgbClr val="000000"/>
                </a:solidFill>
                <a:latin typeface="Century Gothic"/>
              </a:rPr>
              <a:t>(SARTHOU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1312"/>
              </a:spcBef>
              <a:spcAft>
                <a:spcPts val="400"/>
              </a:spcAft>
              <a:buClr>
                <a:srgbClr val="00a28a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 u="sng">
                <a:solidFill>
                  <a:srgbClr val="000000"/>
                </a:solidFill>
                <a:uFillTx/>
                <a:latin typeface="Century Gothic"/>
              </a:rPr>
              <a:t>“</a:t>
            </a:r>
            <a:r>
              <a:rPr b="1" lang="es-CL" sz="2100" spc="-1" strike="noStrike" u="sng">
                <a:solidFill>
                  <a:srgbClr val="000000"/>
                </a:solidFill>
                <a:uFillTx/>
                <a:latin typeface="Century Gothic"/>
              </a:rPr>
              <a:t>Esa notable </a:t>
            </a:r>
            <a:r>
              <a:rPr b="1" i="1" lang="es-CL" sz="2100" spc="-1" strike="noStrike" u="sng">
                <a:solidFill>
                  <a:srgbClr val="000000"/>
                </a:solidFill>
                <a:uFillTx/>
                <a:latin typeface="Century Gothic"/>
              </a:rPr>
              <a:t>desigualdad real</a:t>
            </a:r>
            <a:r>
              <a:rPr b="1" lang="es-CL" sz="2100" spc="-1" strike="noStrike" u="sng">
                <a:solidFill>
                  <a:srgbClr val="000000"/>
                </a:solidFill>
                <a:uFillTx/>
                <a:latin typeface="Century Gothic"/>
              </a:rPr>
              <a:t> debe ser paliada. Pero no por el juez, encargado final de asegurar la </a:t>
            </a:r>
            <a:r>
              <a:rPr b="1" i="1" lang="es-CL" sz="2100" spc="-1" strike="noStrike" u="sng">
                <a:solidFill>
                  <a:srgbClr val="000000"/>
                </a:solidFill>
                <a:uFillTx/>
                <a:latin typeface="Century Gothic"/>
              </a:rPr>
              <a:t>igualdad jurídica</a:t>
            </a:r>
            <a:r>
              <a:rPr b="1" lang="es-CL" sz="2100" spc="-1" strike="noStrike" u="sng">
                <a:solidFill>
                  <a:srgbClr val="000000"/>
                </a:solidFill>
                <a:uFillTx/>
                <a:latin typeface="Century Gothic"/>
              </a:rPr>
              <a:t> de las partes procesales</a:t>
            </a:r>
            <a:r>
              <a:rPr b="0" lang="es-CL" sz="2100" spc="-1" strike="noStrike">
                <a:solidFill>
                  <a:srgbClr val="000000"/>
                </a:solidFill>
                <a:latin typeface="Century Gothic"/>
              </a:rPr>
              <a:t>. Antes bien podrá ser cuidada por defensores </a:t>
            </a:r>
            <a:r>
              <a:rPr b="0" i="1" lang="es-CL" sz="2100" spc="-1" strike="noStrike">
                <a:solidFill>
                  <a:srgbClr val="000000"/>
                </a:solidFill>
                <a:latin typeface="Century Gothic"/>
              </a:rPr>
              <a:t>ad hoc,</a:t>
            </a:r>
            <a:r>
              <a:rPr b="0" lang="es-CL" sz="2100" spc="-1" strike="noStrike">
                <a:solidFill>
                  <a:srgbClr val="000000"/>
                </a:solidFill>
                <a:latin typeface="Century Gothic"/>
              </a:rPr>
              <a:t> por asesores en el litigio […], por muchos y variados funcionarios […] quienes se dediquen con exclusividad a ello. Pero insisto: nunca por el juez pues, al desnivelar la igualdad jurídica para lograr una supuesta y nunca alcanzada igualdad real, logra sólo desequilibrar el fiel de la balanza de la Justicia y hacer ilegítima su sentencia” (ALVARADO VELLOSO)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1312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5120" y="404640"/>
            <a:ext cx="8199360" cy="508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00a28a"/>
                </a:solidFill>
                <a:latin typeface="Arial"/>
              </a:rPr>
              <a:t>Funcionamiento </a:t>
            </a:r>
            <a:endParaRPr b="1" lang="en-US" sz="4000" spc="-1" strike="noStrike">
              <a:solidFill>
                <a:srgbClr val="00a28a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142640"/>
            <a:ext cx="822312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221400" indent="-22140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Clr>
                <a:srgbClr val="00a28a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Century Gothic"/>
              </a:rPr>
              <a:t>En la totalidad de las regiones (II, XII, IV, V y XIV) donde se ha implementado la nueva justicia Laboral se han presentado 5.805 casos.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21400" indent="-22140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Clr>
                <a:srgbClr val="00a28a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s-CL" sz="3000" spc="-1" strike="noStrike">
                <a:solidFill>
                  <a:srgbClr val="000000"/>
                </a:solidFill>
                <a:latin typeface="Century Gothic"/>
              </a:rPr>
              <a:t>Reg. V (1.849) y Reg. IV (1.343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21400" indent="-22140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Clr>
                <a:srgbClr val="00a28a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Century Gothic"/>
              </a:rPr>
              <a:t>Del total de 5.805 casos 1.264 fueron demandas presentadas ante las Oficinas de Defensa Laboral, las que ha logrado terminar un total de 674 (53,3%)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21400" indent="-22140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Clr>
                <a:srgbClr val="00a28a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3 Marcador de pie de página"/>
          <p:cNvSpPr/>
          <p:nvPr/>
        </p:nvSpPr>
        <p:spPr>
          <a:xfrm>
            <a:off x="4419720" y="5867280"/>
            <a:ext cx="441936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Gothic"/>
              </a:rPr>
              <a:t>Profesor: Claudio Palavecin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3 Marcador de pie de página"/>
          <p:cNvSpPr/>
          <p:nvPr/>
        </p:nvSpPr>
        <p:spPr>
          <a:xfrm>
            <a:off x="4419720" y="5867280"/>
            <a:ext cx="441936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Gothic"/>
              </a:rPr>
              <a:t>Profesor: Claudio Palavecin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65120" y="404640"/>
            <a:ext cx="8199360" cy="508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00a28a"/>
                </a:solidFill>
                <a:latin typeface="Century Gothic"/>
              </a:rPr>
              <a:t>IMPACTO SOBRE LA EMPRESA</a:t>
            </a:r>
            <a:endParaRPr b="1" lang="en-US" sz="4000" spc="-1" strike="noStrike">
              <a:solidFill>
                <a:srgbClr val="00a28a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3600" y="1143000"/>
            <a:ext cx="82234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lnSpc>
                <a:spcPct val="70000"/>
              </a:lnSpc>
              <a:spcBef>
                <a:spcPts val="1375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 u="sng">
                <a:solidFill>
                  <a:srgbClr val="000000"/>
                </a:solidFill>
                <a:uFillTx/>
                <a:latin typeface="Century Gothic"/>
              </a:rPr>
              <a:t>2.- Limitación severa a las facultades de dirección y organización del empresario a través del procedimiento de tulela de los derechos fundamentales</a:t>
            </a:r>
            <a:r>
              <a:rPr b="1" lang="es-CL" sz="2200" spc="-1" strike="noStrike">
                <a:solidFill>
                  <a:srgbClr val="000000"/>
                </a:solidFill>
                <a:latin typeface="Century Gothic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70000"/>
              </a:lnSpc>
              <a:spcBef>
                <a:spcPts val="1125"/>
              </a:spcBef>
              <a:spcAft>
                <a:spcPts val="400"/>
              </a:spcAft>
              <a:buClr>
                <a:srgbClr val="00a28a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entury Gothic"/>
              </a:rPr>
              <a:t>Limita la gestión y administración de los RRH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70000"/>
              </a:lnSpc>
              <a:spcBef>
                <a:spcPts val="1125"/>
              </a:spcBef>
              <a:spcAft>
                <a:spcPts val="400"/>
              </a:spcAft>
              <a:buClr>
                <a:srgbClr val="00a28a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entury Gothic"/>
              </a:rPr>
              <a:t>Cualquier medida que adopte la empresa debe aprobar el </a:t>
            </a:r>
            <a:r>
              <a:rPr b="0" i="1" lang="es-CL" sz="1800" spc="-1" strike="noStrike">
                <a:solidFill>
                  <a:srgbClr val="000000"/>
                </a:solidFill>
                <a:latin typeface="Century Gothic"/>
              </a:rPr>
              <a:t>test </a:t>
            </a:r>
            <a:r>
              <a:rPr b="0" lang="es-CL" sz="1800" spc="-1" strike="noStrike">
                <a:solidFill>
                  <a:srgbClr val="000000"/>
                </a:solidFill>
                <a:latin typeface="Century Gothic"/>
              </a:rPr>
              <a:t>de los derechos constituciona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70000"/>
              </a:lnSpc>
              <a:spcBef>
                <a:spcPts val="1125"/>
              </a:spcBef>
              <a:spcAft>
                <a:spcPts val="400"/>
              </a:spcAft>
              <a:buClr>
                <a:srgbClr val="00a28a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entury Gothic"/>
              </a:rPr>
              <a:t>La denuncia la puede hacer el trabajador afectado, el sindicato o la Inspección del Trabajo, salvo en las causas por despid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70000"/>
              </a:lnSpc>
              <a:spcBef>
                <a:spcPts val="1125"/>
              </a:spcBef>
              <a:spcAft>
                <a:spcPts val="400"/>
              </a:spcAft>
              <a:buClr>
                <a:srgbClr val="00a28a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entury Gothic"/>
              </a:rPr>
              <a:t>El juez puede suspender la medida del empleador que afecta los derechos constitucionales del trabajador desde que se presente la denunc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70000"/>
              </a:lnSpc>
              <a:spcBef>
                <a:spcPts val="1125"/>
              </a:spcBef>
              <a:spcAft>
                <a:spcPts val="400"/>
              </a:spcAft>
              <a:buClr>
                <a:srgbClr val="00a28a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entury Gothic"/>
              </a:rPr>
              <a:t>Indemnización adicional por lesión de derechos fundamentales y por daño moral / nulidad de despid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70000"/>
              </a:lnSpc>
              <a:spcBef>
                <a:spcPts val="1125"/>
              </a:spcBef>
              <a:spcAft>
                <a:spcPts val="400"/>
              </a:spcAft>
              <a:buClr>
                <a:srgbClr val="00a28a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entury Gothic"/>
              </a:rPr>
              <a:t>Necesidad de aprobación judicial de los acuerdos que pongan término al juici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70000"/>
              </a:lnSpc>
              <a:spcBef>
                <a:spcPts val="1125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70000"/>
              </a:lnSpc>
              <a:spcBef>
                <a:spcPts val="1125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3 Marcador de pie de página"/>
          <p:cNvSpPr/>
          <p:nvPr/>
        </p:nvSpPr>
        <p:spPr>
          <a:xfrm>
            <a:off x="4419720" y="5867280"/>
            <a:ext cx="441936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Gothic"/>
              </a:rPr>
              <a:t>Profesor: Claudio Palavecin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65120" y="404640"/>
            <a:ext cx="8199360" cy="508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Century Gothic"/>
              </a:rPr>
              <a:t>2.- Limitación de la libertad de empresa a través del procedimiento de tutela laboral</a:t>
            </a:r>
            <a:endParaRPr b="1" lang="en-US" sz="2800" spc="-1" strike="noStrike">
              <a:solidFill>
                <a:srgbClr val="00a28a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3600" y="1828800"/>
            <a:ext cx="8223480" cy="440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lnSpc>
                <a:spcPct val="70000"/>
              </a:lnSpc>
              <a:spcBef>
                <a:spcPts val="938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 u="sng">
                <a:solidFill>
                  <a:srgbClr val="000000"/>
                </a:solidFill>
                <a:uFillTx/>
                <a:latin typeface="Century Gothic"/>
              </a:rPr>
              <a:t>Numerosas hipótesis de conflicto de intereses con ocasión de los derechos protegidos</a:t>
            </a:r>
            <a:r>
              <a:rPr b="0" lang="es-CL" sz="1500" spc="-1" strike="noStrike" u="sng">
                <a:solidFill>
                  <a:srgbClr val="000000"/>
                </a:solidFill>
                <a:uFillTx/>
                <a:latin typeface="Century Gothic"/>
              </a:rPr>
              <a:t>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70000"/>
              </a:lnSpc>
              <a:spcBef>
                <a:spcPts val="1125"/>
              </a:spcBef>
              <a:spcAft>
                <a:spcPts val="400"/>
              </a:spcAft>
              <a:buClr>
                <a:srgbClr val="00a28a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entury Gothic"/>
              </a:rPr>
              <a:t>El derecho a la vida y a la integridad física y psíquica de la perso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70000"/>
              </a:lnSpc>
              <a:spcBef>
                <a:spcPts val="1125"/>
              </a:spcBef>
              <a:spcAft>
                <a:spcPts val="400"/>
              </a:spcAft>
              <a:buClr>
                <a:srgbClr val="00a28a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entury Gothic"/>
              </a:rPr>
              <a:t>El respeto y protección a la vida privada y a la honra de la persona y de su famili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70000"/>
              </a:lnSpc>
              <a:spcBef>
                <a:spcPts val="1125"/>
              </a:spcBef>
              <a:spcAft>
                <a:spcPts val="400"/>
              </a:spcAft>
              <a:buClr>
                <a:srgbClr val="00a28a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entury Gothic"/>
              </a:rPr>
              <a:t>La inviolabilidad de toda forma de comunicación privad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70000"/>
              </a:lnSpc>
              <a:spcBef>
                <a:spcPts val="1125"/>
              </a:spcBef>
              <a:spcAft>
                <a:spcPts val="400"/>
              </a:spcAft>
              <a:buClr>
                <a:srgbClr val="00a28a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entury Gothic"/>
              </a:rPr>
              <a:t>La libertad de conciencia, la manifestación de todas las creencias y el ejercicio libre de todos los culto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70000"/>
              </a:lnSpc>
              <a:spcBef>
                <a:spcPts val="1125"/>
              </a:spcBef>
              <a:spcAft>
                <a:spcPts val="400"/>
              </a:spcAft>
              <a:buClr>
                <a:srgbClr val="00a28a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entury Gothic"/>
              </a:rPr>
              <a:t>La libertad de emitir opinión y la de inform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70000"/>
              </a:lnSpc>
              <a:spcBef>
                <a:spcPts val="1125"/>
              </a:spcBef>
              <a:spcAft>
                <a:spcPts val="400"/>
              </a:spcAft>
              <a:buClr>
                <a:srgbClr val="00a28a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entury Gothic"/>
              </a:rPr>
              <a:t>La libertad de trabajo y el derecho a su libre elecció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70000"/>
              </a:lnSpc>
              <a:spcBef>
                <a:spcPts val="1125"/>
              </a:spcBef>
              <a:spcAft>
                <a:spcPts val="400"/>
              </a:spcAft>
              <a:buClr>
                <a:srgbClr val="00a28a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entury Gothic"/>
              </a:rPr>
              <a:t>Actos discriminatorios (fundados en la raza, color, sexo, edad, estado civil, sindicación, religión, opinión política, nacionalidad, ascendencia nacional u origen social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70000"/>
              </a:lnSpc>
              <a:spcBef>
                <a:spcPts val="1125"/>
              </a:spcBef>
              <a:spcAft>
                <a:spcPts val="400"/>
              </a:spcAft>
              <a:buClr>
                <a:srgbClr val="00a28a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entury Gothic"/>
              </a:rPr>
              <a:t>Libertad sindi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3 Marcador de pie de página"/>
          <p:cNvSpPr/>
          <p:nvPr/>
        </p:nvSpPr>
        <p:spPr>
          <a:xfrm>
            <a:off x="4419720" y="5867280"/>
            <a:ext cx="441936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Gothic"/>
              </a:rPr>
              <a:t>Profesor: Claudio Palavecin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65120" y="404640"/>
            <a:ext cx="8199360" cy="508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 u="sng">
                <a:solidFill>
                  <a:srgbClr val="00a28a"/>
                </a:solidFill>
                <a:uFillTx/>
                <a:latin typeface="Arial"/>
              </a:rPr>
              <a:t>Con todo, los derechos fundamentales no son absolutos</a:t>
            </a:r>
            <a:endParaRPr b="1" lang="en-US" sz="3200" spc="-1" strike="noStrike">
              <a:solidFill>
                <a:srgbClr val="00a28a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312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Clr>
                <a:srgbClr val="00a28a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Century Gothic"/>
              </a:rPr>
              <a:t>Se entiende que el ejercicio de las facultades que la ley le reconoce al empleador lesiona las garantías constitucionales del trabajador</a:t>
            </a:r>
            <a:r>
              <a:rPr b="0" i="1" lang="es-CL" sz="3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s-CL" sz="3000" spc="-1" strike="noStrike">
                <a:solidFill>
                  <a:srgbClr val="000000"/>
                </a:solidFill>
                <a:latin typeface="Century Gothic"/>
              </a:rPr>
              <a:t>cuando:</a:t>
            </a:r>
            <a:r>
              <a:rPr b="0" i="1" lang="es-CL" sz="3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i="1" lang="es-CL" sz="3000" spc="-1" strike="noStrike" u="sng">
                <a:solidFill>
                  <a:srgbClr val="000000"/>
                </a:solidFill>
                <a:uFillTx/>
                <a:latin typeface="Century Gothic"/>
              </a:rPr>
              <a:t>limita el pleno ejercicio de aquéllas sin justificación suficiente, en forma arbitraria o desproporcionada, o sin respeto a su contenido esencial”.</a:t>
            </a:r>
            <a:r>
              <a:rPr b="0" i="1" lang="es-CL" sz="30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3 Marcador de pie de página"/>
          <p:cNvSpPr/>
          <p:nvPr/>
        </p:nvSpPr>
        <p:spPr>
          <a:xfrm>
            <a:off x="4419720" y="5867280"/>
            <a:ext cx="441936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Gothic"/>
              </a:rPr>
              <a:t>Profesor: Claudio Palavecin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65120" y="404640"/>
            <a:ext cx="8199360" cy="508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00a28a"/>
                </a:solidFill>
                <a:latin typeface="Century Gothic"/>
              </a:rPr>
              <a:t>IMPACTO SOBRE LA EMPRESA</a:t>
            </a:r>
            <a:endParaRPr b="1" lang="en-US" sz="4000" spc="-1" strike="noStrike">
              <a:solidFill>
                <a:srgbClr val="00a28a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312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 algn="just">
              <a:lnSpc>
                <a:spcPct val="70000"/>
              </a:lnSpc>
              <a:spcBef>
                <a:spcPts val="1375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 u="sng">
                <a:solidFill>
                  <a:srgbClr val="000000"/>
                </a:solidFill>
                <a:uFillTx/>
                <a:latin typeface="Century Gothic"/>
              </a:rPr>
              <a:t>3.- Rigidización de despid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8720" algn="just">
              <a:lnSpc>
                <a:spcPct val="110000"/>
              </a:lnSpc>
              <a:spcBef>
                <a:spcPts val="476"/>
              </a:spcBef>
              <a:buClr>
                <a:srgbClr val="00a28a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Century Gothic"/>
              </a:rPr>
              <a:t>El aviso de despido fija de manera inmutable los hechos que puede alegar el empleador en juicio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8720" algn="just">
              <a:lnSpc>
                <a:spcPct val="110000"/>
              </a:lnSpc>
              <a:spcBef>
                <a:spcPts val="476"/>
              </a:spcBef>
              <a:buClr>
                <a:srgbClr val="00a28a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Century Gothic"/>
              </a:rPr>
              <a:t>Carta de aviso de terminación inc. 1° Art. 161: nuevo título ejecutivo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8720" algn="just">
              <a:lnSpc>
                <a:spcPct val="110000"/>
              </a:lnSpc>
              <a:spcBef>
                <a:spcPts val="476"/>
              </a:spcBef>
              <a:buClr>
                <a:srgbClr val="00a28a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Century Gothic"/>
              </a:rPr>
              <a:t>La causal necesidades de la empresa se vuelve más riesgosa si no es comprobable. Necesidad de planificar alternativas de terminación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974880" indent="-228600" algn="just">
              <a:lnSpc>
                <a:spcPct val="110000"/>
              </a:lnSpc>
              <a:spcBef>
                <a:spcPts val="476"/>
              </a:spcBef>
              <a:buClr>
                <a:srgbClr val="00a28a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Century Gothic"/>
              </a:rPr>
              <a:t>Planes de retiro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8720" algn="just">
              <a:lnSpc>
                <a:spcPct val="110000"/>
              </a:lnSpc>
              <a:spcBef>
                <a:spcPts val="476"/>
              </a:spcBef>
              <a:buClr>
                <a:srgbClr val="00a28a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Century Gothic"/>
              </a:rPr>
              <a:t>Indemnización adicional de 6-11 meses por despido con lesión de garantías constitucionales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8720" algn="just">
              <a:lnSpc>
                <a:spcPct val="110000"/>
              </a:lnSpc>
              <a:spcBef>
                <a:spcPts val="476"/>
              </a:spcBef>
              <a:buClr>
                <a:srgbClr val="00a28a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Century Gothic"/>
              </a:rPr>
              <a:t>Nulidad del despido discriminatorio. Reincorporación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70000"/>
              </a:lnSpc>
              <a:spcBef>
                <a:spcPts val="1188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3 Marcador de pie de página"/>
          <p:cNvSpPr/>
          <p:nvPr/>
        </p:nvSpPr>
        <p:spPr>
          <a:xfrm>
            <a:off x="4419720" y="5867280"/>
            <a:ext cx="441936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Gothic"/>
              </a:rPr>
              <a:t>Profesor: Claudio Palavecin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65120" y="404640"/>
            <a:ext cx="8199360" cy="508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00a28a"/>
                </a:solidFill>
                <a:latin typeface="Century Gothic"/>
              </a:rPr>
              <a:t>Recomendaciones</a:t>
            </a:r>
            <a:endParaRPr b="1" lang="en-US" sz="4000" spc="-1" strike="noStrike">
              <a:solidFill>
                <a:srgbClr val="00a28a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312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 algn="just">
              <a:lnSpc>
                <a:spcPct val="80000"/>
              </a:lnSpc>
              <a:spcBef>
                <a:spcPts val="1312"/>
              </a:spcBef>
              <a:spcAft>
                <a:spcPts val="400"/>
              </a:spcAft>
              <a:buClr>
                <a:srgbClr val="00a28a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Gothic"/>
              </a:rPr>
              <a:t>Adecuada selección de personas. Una  vez contratadas …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80000"/>
              </a:lnSpc>
              <a:spcBef>
                <a:spcPts val="1312"/>
              </a:spcBef>
              <a:spcAft>
                <a:spcPts val="400"/>
              </a:spcAft>
              <a:buClr>
                <a:srgbClr val="00a28a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Gothic"/>
              </a:rPr>
              <a:t>Definición de políticas claras, conocidas y … constitucionales (importancia del RIOHS):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8720" algn="just">
              <a:lnSpc>
                <a:spcPct val="80000"/>
              </a:lnSpc>
              <a:spcBef>
                <a:spcPts val="476"/>
              </a:spcBef>
              <a:buClr>
                <a:srgbClr val="00a28a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Century Gothic"/>
              </a:rPr>
              <a:t>Selección, promoción y desvinculación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8720" algn="just">
              <a:lnSpc>
                <a:spcPct val="80000"/>
              </a:lnSpc>
              <a:spcBef>
                <a:spcPts val="476"/>
              </a:spcBef>
              <a:buClr>
                <a:srgbClr val="00a28a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Century Gothic"/>
              </a:rPr>
              <a:t>Políticas de inclusión, diversidad y no discriminación. 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8720" algn="just">
              <a:lnSpc>
                <a:spcPct val="80000"/>
              </a:lnSpc>
              <a:spcBef>
                <a:spcPts val="476"/>
              </a:spcBef>
              <a:buClr>
                <a:srgbClr val="00a28a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Century Gothic"/>
              </a:rPr>
              <a:t>Políticas de relaciones laborales y comunicaciones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8720" algn="just">
              <a:lnSpc>
                <a:spcPct val="80000"/>
              </a:lnSpc>
              <a:spcBef>
                <a:spcPts val="476"/>
              </a:spcBef>
              <a:buClr>
                <a:srgbClr val="00a28a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Century Gothic"/>
              </a:rPr>
              <a:t>Políticas de seguridad e informática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80000"/>
              </a:lnSpc>
              <a:spcBef>
                <a:spcPts val="1312"/>
              </a:spcBef>
              <a:spcAft>
                <a:spcPts val="400"/>
              </a:spcAft>
              <a:buClr>
                <a:srgbClr val="00a28a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Gothic"/>
              </a:rPr>
              <a:t>En caso de conflicto: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8720" algn="just">
              <a:lnSpc>
                <a:spcPct val="80000"/>
              </a:lnSpc>
              <a:spcBef>
                <a:spcPts val="476"/>
              </a:spcBef>
              <a:buClr>
                <a:srgbClr val="00a28a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Century Gothic"/>
              </a:rPr>
              <a:t>Empresa v/s trabajador + defensor laboral + Inspección del Trabajo + Juez + Sindicato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8720" algn="just">
              <a:lnSpc>
                <a:spcPct val="80000"/>
              </a:lnSpc>
              <a:spcBef>
                <a:spcPts val="476"/>
              </a:spcBef>
              <a:buClr>
                <a:srgbClr val="00a28a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Century Gothic"/>
              </a:rPr>
              <a:t>Desequilibrio en PYMEs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80000"/>
              </a:lnSpc>
              <a:spcBef>
                <a:spcPts val="1312"/>
              </a:spcBef>
              <a:spcAft>
                <a:spcPts val="400"/>
              </a:spcAft>
              <a:buClr>
                <a:srgbClr val="00a28a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Gothic"/>
              </a:rPr>
              <a:t>Registro y administración de documentació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1312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5120" y="404640"/>
            <a:ext cx="8199360" cy="508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00a28a"/>
                </a:solidFill>
                <a:latin typeface="Arial"/>
              </a:rPr>
              <a:t>Funcionamiento </a:t>
            </a:r>
            <a:endParaRPr b="1" lang="en-US" sz="4000" spc="-1" strike="noStrike">
              <a:solidFill>
                <a:srgbClr val="00a28a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76160"/>
            <a:ext cx="822312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marL="214560" indent="-21456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Clr>
                <a:srgbClr val="00a28a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Century Gothic"/>
              </a:rPr>
              <a:t>El tiempo promedio desde que una demanda es presentada ante tribunales y hasta que se ha dictado sentencia es de 40 días aproximadamente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14560" indent="-21456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Clr>
                <a:srgbClr val="00a28a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Century Gothic"/>
              </a:rPr>
              <a:t>De las demandas representadas por las Oficinas de Defensa Laboral, las materias más recurrentes son: nulidades de despido (451); despidos injustificados (365); cobro de prestaciones (269); auto despidos (15); y Desafueros (45)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14560" indent="-21456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Clr>
                <a:srgbClr val="00a28a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3 Marcador de pie de página"/>
          <p:cNvSpPr/>
          <p:nvPr/>
        </p:nvSpPr>
        <p:spPr>
          <a:xfrm>
            <a:off x="4419720" y="5867280"/>
            <a:ext cx="441936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Gothic"/>
              </a:rPr>
              <a:t>Profesor: Claudio Palavecin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5120" y="404640"/>
            <a:ext cx="8199360" cy="508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00a28a"/>
                </a:solidFill>
                <a:latin typeface="Arial"/>
              </a:rPr>
              <a:t>Funcionamiento </a:t>
            </a:r>
            <a:endParaRPr b="1" lang="en-US" sz="4000" spc="-1" strike="noStrike">
              <a:solidFill>
                <a:srgbClr val="00a28a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76160"/>
            <a:ext cx="822312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90000"/>
              </a:lnSpc>
              <a:spcBef>
                <a:spcPts val="2001"/>
              </a:spcBef>
              <a:spcAft>
                <a:spcPts val="400"/>
              </a:spcAft>
              <a:buClr>
                <a:srgbClr val="00a28a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entury Gothic"/>
              </a:rPr>
              <a:t>Del total de causas terminadas por las Oficinas de Defensa laboral (1264); 361 (28,5%) han sido con sentencia favorable para los trabajadores; 13 (1%)han sido desfavorables, en 267 casos se ha llegado a conciliación o avenimiento (21%); y en otros 33 casos, los representados han presentado su renuncia al patrocinio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2001"/>
              </a:spcBef>
              <a:spcAft>
                <a:spcPts val="400"/>
              </a:spcAft>
              <a:buClr>
                <a:srgbClr val="00a28a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3 Marcador de pie de página"/>
          <p:cNvSpPr/>
          <p:nvPr/>
        </p:nvSpPr>
        <p:spPr>
          <a:xfrm>
            <a:off x="4419720" y="5867280"/>
            <a:ext cx="441936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Gothic"/>
              </a:rPr>
              <a:t>Profesor: Claudio Palavecin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3 Marcador de pie de página"/>
          <p:cNvSpPr/>
          <p:nvPr/>
        </p:nvSpPr>
        <p:spPr>
          <a:xfrm>
            <a:off x="4419720" y="5867280"/>
            <a:ext cx="441936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Gothic"/>
              </a:rPr>
              <a:t>Profesor: Claudio Palavecin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5120" y="404640"/>
            <a:ext cx="8199360" cy="508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a28a"/>
                </a:solidFill>
                <a:latin typeface="Century Gothic"/>
              </a:rPr>
              <a:t>Reforma integral a la Justicia Laboral</a:t>
            </a:r>
            <a:r>
              <a:rPr b="1" lang="es-ES_tradnl" sz="4000" spc="-1" strike="noStrike">
                <a:solidFill>
                  <a:srgbClr val="00a28a"/>
                </a:solidFill>
                <a:latin typeface="Arial"/>
              </a:rPr>
              <a:t>  </a:t>
            </a:r>
            <a:endParaRPr b="1" lang="en-US" sz="4000" spc="-1" strike="noStrike">
              <a:solidFill>
                <a:srgbClr val="00a28a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14400" y="1676520"/>
            <a:ext cx="7848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80000"/>
              </a:lnSpc>
              <a:spcBef>
                <a:spcPts val="1562"/>
              </a:spcBef>
              <a:spcAft>
                <a:spcPts val="400"/>
              </a:spcAft>
              <a:buClr>
                <a:srgbClr val="00a2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500" spc="-1" strike="noStrike" u="sng">
                <a:solidFill>
                  <a:srgbClr val="000000"/>
                </a:solidFill>
                <a:uFillTx/>
                <a:latin typeface="Arial"/>
              </a:rPr>
              <a:t>Orgánica</a:t>
            </a:r>
            <a:r>
              <a:rPr b="1" lang="es-ES_tradnl" sz="2500" spc="-1" strike="noStrike">
                <a:solidFill>
                  <a:srgbClr val="000000"/>
                </a:solidFill>
                <a:latin typeface="Arial"/>
              </a:rPr>
              <a:t> (nuevos tribunales especializados, nueva estructura interna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1562"/>
              </a:spcBef>
              <a:spcAft>
                <a:spcPts val="400"/>
              </a:spcAft>
              <a:buClr>
                <a:srgbClr val="00a2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500" spc="-1" strike="noStrike" u="sng">
                <a:solidFill>
                  <a:srgbClr val="000000"/>
                </a:solidFill>
                <a:uFillTx/>
                <a:latin typeface="Arial"/>
              </a:rPr>
              <a:t>Nuevos Procedimentos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1562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500" spc="-1" strike="noStrike">
                <a:solidFill>
                  <a:srgbClr val="000000"/>
                </a:solidFill>
                <a:latin typeface="Arial"/>
              </a:rPr>
              <a:t>-Aplicación general</a:t>
            </a:r>
            <a:r>
              <a:rPr b="1" lang="es-ES_tradnl" sz="25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1562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500" spc="-1" strike="noStrike">
                <a:solidFill>
                  <a:srgbClr val="000000"/>
                </a:solidFill>
                <a:latin typeface="Arial"/>
              </a:rPr>
              <a:t>-Tutela laboral</a:t>
            </a:r>
            <a:r>
              <a:rPr b="1" lang="es-ES_tradnl" sz="25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1562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500" spc="-1" strike="noStrike">
                <a:solidFill>
                  <a:srgbClr val="000000"/>
                </a:solidFill>
                <a:latin typeface="Arial"/>
              </a:rPr>
              <a:t>-Monitorio </a:t>
            </a:r>
            <a:r>
              <a:rPr b="1" lang="es-ES_tradnl" sz="2500" spc="-1" strike="noStrike">
                <a:solidFill>
                  <a:srgbClr val="000000"/>
                </a:solidFill>
                <a:latin typeface="Arial"/>
              </a:rPr>
              <a:t>laboral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1562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500" spc="-1" strike="noStrike">
                <a:solidFill>
                  <a:srgbClr val="000000"/>
                </a:solidFill>
                <a:latin typeface="Arial"/>
              </a:rPr>
              <a:t>-C</a:t>
            </a:r>
            <a:r>
              <a:rPr b="1" i="1" lang="es-ES_tradnl" sz="2500" spc="-1" strike="noStrike">
                <a:solidFill>
                  <a:srgbClr val="000000"/>
                </a:solidFill>
                <a:latin typeface="Arial"/>
              </a:rPr>
              <a:t>obranza laboral y previsional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5" descr="Justicia en coma"/>
          <p:cNvPicPr/>
          <p:nvPr/>
        </p:nvPicPr>
        <p:blipFill>
          <a:blip r:embed="rId1"/>
          <a:stretch/>
        </p:blipFill>
        <p:spPr>
          <a:xfrm>
            <a:off x="5867280" y="2209680"/>
            <a:ext cx="32004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5120" y="404640"/>
            <a:ext cx="8199360" cy="508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00a28a"/>
                </a:solidFill>
                <a:latin typeface="Arial"/>
              </a:rPr>
              <a:t>Cronograma</a:t>
            </a:r>
            <a:endParaRPr b="1" lang="en-US" sz="4000" spc="-1" strike="noStrike">
              <a:solidFill>
                <a:srgbClr val="00a28a"/>
              </a:solidFill>
              <a:latin typeface="Arial"/>
            </a:endParaRPr>
          </a:p>
        </p:txBody>
      </p:sp>
      <p:sp>
        <p:nvSpPr>
          <p:cNvPr id="106" name="3 Marcador de pie de página"/>
          <p:cNvSpPr/>
          <p:nvPr/>
        </p:nvSpPr>
        <p:spPr>
          <a:xfrm>
            <a:off x="4419720" y="5867280"/>
            <a:ext cx="441936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Gothic"/>
              </a:rPr>
              <a:t>Profesor: Claudio Palavecin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7" name="4 Marcador de contenido" descr="http://www.minjusticia.cl/laboral/final/cronograma_clip_image002.gif"/>
          <p:cNvPicPr/>
          <p:nvPr/>
        </p:nvPicPr>
        <p:blipFill>
          <a:blip r:embed="rId1"/>
          <a:stretch/>
        </p:blipFill>
        <p:spPr>
          <a:xfrm>
            <a:off x="685800" y="1523880"/>
            <a:ext cx="75438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5 Marcador de contenido" descr="Flujograma Proc gral.jpg"/>
          <p:cNvPicPr/>
          <p:nvPr/>
        </p:nvPicPr>
        <p:blipFill>
          <a:blip r:embed="rId1"/>
          <a:stretch/>
        </p:blipFill>
        <p:spPr>
          <a:xfrm>
            <a:off x="2266920" y="457200"/>
            <a:ext cx="4514760" cy="5753160"/>
          </a:xfrm>
          <a:prstGeom prst="rect">
            <a:avLst/>
          </a:prstGeom>
          <a:ln w="0">
            <a:noFill/>
          </a:ln>
        </p:spPr>
      </p:pic>
      <p:sp>
        <p:nvSpPr>
          <p:cNvPr id="109" name="3 Marcador de pie de página"/>
          <p:cNvSpPr/>
          <p:nvPr/>
        </p:nvSpPr>
        <p:spPr>
          <a:xfrm>
            <a:off x="4419720" y="5867280"/>
            <a:ext cx="441936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Gothic"/>
              </a:rPr>
              <a:t>Profesor: Claudio Palavecin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3 Marcador de pie de página"/>
          <p:cNvSpPr/>
          <p:nvPr/>
        </p:nvSpPr>
        <p:spPr>
          <a:xfrm>
            <a:off x="4419720" y="5867280"/>
            <a:ext cx="441936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Gothic"/>
              </a:rPr>
              <a:t>Profesor: Claudio Palavecin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3 Marcador de pie de página"/>
          <p:cNvSpPr/>
          <p:nvPr/>
        </p:nvSpPr>
        <p:spPr>
          <a:xfrm>
            <a:off x="4419720" y="5867280"/>
            <a:ext cx="441936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Gothic"/>
              </a:rPr>
              <a:t>Profesor: Claudio Palavecin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AutoShape 49"/>
          <p:cNvSpPr/>
          <p:nvPr/>
        </p:nvSpPr>
        <p:spPr>
          <a:xfrm>
            <a:off x="1849320" y="115920"/>
            <a:ext cx="1656000" cy="647640"/>
          </a:xfrm>
          <a:prstGeom prst="flowChartAlternateProcess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AutoShape 50"/>
          <p:cNvSpPr/>
          <p:nvPr/>
        </p:nvSpPr>
        <p:spPr>
          <a:xfrm>
            <a:off x="1849320" y="2895480"/>
            <a:ext cx="1656000" cy="649440"/>
          </a:xfrm>
          <a:prstGeom prst="flowChartAlternateProcess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Text Box 51"/>
          <p:cNvSpPr/>
          <p:nvPr/>
        </p:nvSpPr>
        <p:spPr>
          <a:xfrm>
            <a:off x="1908000" y="189000"/>
            <a:ext cx="1656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entury Gothic"/>
              </a:rPr>
              <a:t>Demada (general)/ denuncia (tutela)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Text Box 52"/>
          <p:cNvSpPr/>
          <p:nvPr/>
        </p:nvSpPr>
        <p:spPr>
          <a:xfrm>
            <a:off x="1849320" y="2971800"/>
            <a:ext cx="1656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entury Gothic"/>
              </a:rPr>
              <a:t>Audiencia (1) preparatori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AutoShape 53"/>
          <p:cNvSpPr/>
          <p:nvPr/>
        </p:nvSpPr>
        <p:spPr>
          <a:xfrm>
            <a:off x="2362320" y="765000"/>
            <a:ext cx="533160" cy="381240"/>
          </a:xfrm>
          <a:prstGeom prst="downArrow">
            <a:avLst>
              <a:gd name="adj1" fmla="val 50000"/>
              <a:gd name="adj2" fmla="val 25000"/>
            </a:avLst>
          </a:prstGeom>
          <a:noFill/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AutoShape 54"/>
          <p:cNvSpPr/>
          <p:nvPr/>
        </p:nvSpPr>
        <p:spPr>
          <a:xfrm>
            <a:off x="2340000" y="3505320"/>
            <a:ext cx="533520" cy="720720"/>
          </a:xfrm>
          <a:prstGeom prst="downArrow">
            <a:avLst>
              <a:gd name="adj1" fmla="val 50000"/>
              <a:gd name="adj2" fmla="val 33772"/>
            </a:avLst>
          </a:prstGeom>
          <a:noFill/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Text Box 55"/>
          <p:cNvSpPr/>
          <p:nvPr/>
        </p:nvSpPr>
        <p:spPr>
          <a:xfrm>
            <a:off x="1925640" y="4648320"/>
            <a:ext cx="1655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entury Gothic"/>
              </a:rPr>
              <a:t>Audiencia (2) de juici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AutoShape 56"/>
          <p:cNvSpPr/>
          <p:nvPr/>
        </p:nvSpPr>
        <p:spPr>
          <a:xfrm>
            <a:off x="1849320" y="4572000"/>
            <a:ext cx="1656000" cy="649440"/>
          </a:xfrm>
          <a:prstGeom prst="flowChartAlternateProcess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AutoShape 57"/>
          <p:cNvSpPr/>
          <p:nvPr/>
        </p:nvSpPr>
        <p:spPr>
          <a:xfrm>
            <a:off x="1849320" y="5791320"/>
            <a:ext cx="1656000" cy="649080"/>
          </a:xfrm>
          <a:prstGeom prst="flowChartAlternateProcess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Text Box 58"/>
          <p:cNvSpPr/>
          <p:nvPr/>
        </p:nvSpPr>
        <p:spPr>
          <a:xfrm>
            <a:off x="1676520" y="5892840"/>
            <a:ext cx="198108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entury Gothic"/>
              </a:rPr>
              <a:t>Sentencia Audiencia: 15/10 día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entury Gothic"/>
              </a:rPr>
              <a:t>(3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AutoShape 59"/>
          <p:cNvSpPr/>
          <p:nvPr/>
        </p:nvSpPr>
        <p:spPr>
          <a:xfrm>
            <a:off x="2362320" y="5181480"/>
            <a:ext cx="533160" cy="505080"/>
          </a:xfrm>
          <a:prstGeom prst="downArrow">
            <a:avLst>
              <a:gd name="adj1" fmla="val 50000"/>
              <a:gd name="adj2" fmla="val 25000"/>
            </a:avLst>
          </a:prstGeom>
          <a:noFill/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Text Box 66"/>
          <p:cNvSpPr/>
          <p:nvPr/>
        </p:nvSpPr>
        <p:spPr>
          <a:xfrm>
            <a:off x="4114800" y="4724280"/>
            <a:ext cx="29718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entury Gothic"/>
              </a:rPr>
              <a:t>Rendición de la prueb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entury Gothic"/>
              </a:rPr>
              <a:t>Sentencia (opcional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AutoShape 71"/>
          <p:cNvSpPr/>
          <p:nvPr/>
        </p:nvSpPr>
        <p:spPr>
          <a:xfrm>
            <a:off x="1849320" y="1268280"/>
            <a:ext cx="1656000" cy="648000"/>
          </a:xfrm>
          <a:prstGeom prst="flowChartAlternateProcess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AutoShape 72"/>
          <p:cNvSpPr/>
          <p:nvPr/>
        </p:nvSpPr>
        <p:spPr>
          <a:xfrm>
            <a:off x="2340000" y="1905120"/>
            <a:ext cx="533520" cy="863640"/>
          </a:xfrm>
          <a:prstGeom prst="downArrow">
            <a:avLst>
              <a:gd name="adj1" fmla="val 50000"/>
              <a:gd name="adj2" fmla="val 40469"/>
            </a:avLst>
          </a:prstGeom>
          <a:noFill/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Text Box 73"/>
          <p:cNvSpPr/>
          <p:nvPr/>
        </p:nvSpPr>
        <p:spPr>
          <a:xfrm>
            <a:off x="1839960" y="1197000"/>
            <a:ext cx="189396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entury Gothic"/>
              </a:rPr>
              <a:t>Contestació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s-ES_tradnl" sz="1200" spc="-1" strike="noStrike">
                <a:solidFill>
                  <a:srgbClr val="000000"/>
                </a:solidFill>
                <a:latin typeface="Century Gothic"/>
              </a:rPr>
              <a:t>5 días antes  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entury Gothic"/>
              </a:rPr>
              <a:t>AP (Notif. 15 día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AutoShape 86"/>
          <p:cNvSpPr/>
          <p:nvPr/>
        </p:nvSpPr>
        <p:spPr>
          <a:xfrm>
            <a:off x="4114800" y="476280"/>
            <a:ext cx="2895480" cy="1297080"/>
          </a:xfrm>
          <a:prstGeom prst="flowChartAlternateProcess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entury Gothic"/>
              </a:rPr>
              <a:t>Citación a AP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entury Gothic"/>
              </a:rPr>
              <a:t>dentro de </a:t>
            </a:r>
            <a:r>
              <a:rPr b="1" lang="es-ES" sz="1600" spc="-1" strike="noStrike">
                <a:solidFill>
                  <a:srgbClr val="000000"/>
                </a:solidFill>
                <a:latin typeface="Century Gothic"/>
              </a:rPr>
              <a:t>35 dí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entury Gothic"/>
              </a:rPr>
              <a:t>Suspensión de la medida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entury Gothic"/>
              </a:rPr>
              <a:t>Reclamada (en p.tutela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Line 87"/>
          <p:cNvSpPr/>
          <p:nvPr/>
        </p:nvSpPr>
        <p:spPr>
          <a:xfrm>
            <a:off x="2771640" y="765000"/>
            <a:ext cx="12956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Text Box 92"/>
          <p:cNvSpPr/>
          <p:nvPr/>
        </p:nvSpPr>
        <p:spPr>
          <a:xfrm>
            <a:off x="4419720" y="2459160"/>
            <a:ext cx="3240000" cy="240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entury Gothic"/>
              </a:rPr>
              <a:t>Relación sumaria / Traslados excepciones / reconvención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entury Gothic"/>
              </a:rPr>
              <a:t>Conciliació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entury Gothic"/>
              </a:rPr>
              <a:t>causa a prueb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entury Gothic"/>
              </a:rPr>
              <a:t>Oferta de prueb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entury Gothic"/>
              </a:rPr>
              <a:t>Admisión de prueb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entury Gothic"/>
              </a:rPr>
              <a:t>Citación a AJ – </a:t>
            </a:r>
            <a:r>
              <a:rPr b="1" lang="es-ES" sz="1600" spc="-1" strike="noStrike">
                <a:solidFill>
                  <a:srgbClr val="000000"/>
                </a:solidFill>
                <a:latin typeface="Century Gothic"/>
              </a:rPr>
              <a:t>30 dí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AutoShape 93"/>
          <p:cNvSpPr/>
          <p:nvPr/>
        </p:nvSpPr>
        <p:spPr>
          <a:xfrm>
            <a:off x="3924360" y="2421000"/>
            <a:ext cx="503280" cy="2016000"/>
          </a:xfrm>
          <a:custGeom>
            <a:avLst/>
            <a:gdLst>
              <a:gd name="textAreaLeft" fmla="*/ 321480 w 503280"/>
              <a:gd name="textAreaRight" fmla="*/ 503640 w 503280"/>
              <a:gd name="textAreaTop" fmla="*/ 52560 h 2016000"/>
              <a:gd name="textAreaBottom" fmla="*/ 1963440 h 201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AutoShape 94"/>
          <p:cNvSpPr/>
          <p:nvPr/>
        </p:nvSpPr>
        <p:spPr>
          <a:xfrm>
            <a:off x="3851280" y="4653000"/>
            <a:ext cx="649440" cy="914400"/>
          </a:xfrm>
          <a:custGeom>
            <a:avLst/>
            <a:gdLst>
              <a:gd name="textAreaLeft" fmla="*/ 415080 w 649440"/>
              <a:gd name="textAreaRight" fmla="*/ 649800 w 64944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3 Marcador de pie de página"/>
          <p:cNvSpPr/>
          <p:nvPr/>
        </p:nvSpPr>
        <p:spPr>
          <a:xfrm>
            <a:off x="4419720" y="5867280"/>
            <a:ext cx="441936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Gothic"/>
              </a:rPr>
              <a:t>Profesor: Claudio Palavecin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2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Profesor Claudio Palavecin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76320" y="2771640"/>
            <a:ext cx="1655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Century Gothic"/>
              </a:rPr>
              <a:t>Denuncia ante Inspección del Trabaj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AutoShape 5"/>
          <p:cNvSpPr/>
          <p:nvPr/>
        </p:nvSpPr>
        <p:spPr>
          <a:xfrm>
            <a:off x="152280" y="2514600"/>
            <a:ext cx="1656000" cy="1676520"/>
          </a:xfrm>
          <a:prstGeom prst="flowChartAlternateProcess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395280" y="404640"/>
            <a:ext cx="8199360" cy="5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600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a28a"/>
                </a:solidFill>
                <a:latin typeface="Century Gothic"/>
              </a:rPr>
              <a:t>Procedimiento Monitori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AutoShape 7"/>
          <p:cNvSpPr/>
          <p:nvPr/>
        </p:nvSpPr>
        <p:spPr>
          <a:xfrm>
            <a:off x="2209680" y="2514600"/>
            <a:ext cx="1656000" cy="1676520"/>
          </a:xfrm>
          <a:prstGeom prst="flowChartAlternateProcess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AutoShape 8"/>
          <p:cNvSpPr/>
          <p:nvPr/>
        </p:nvSpPr>
        <p:spPr>
          <a:xfrm>
            <a:off x="4267080" y="2514600"/>
            <a:ext cx="1656000" cy="1676520"/>
          </a:xfrm>
          <a:prstGeom prst="flowChartAlternateProcess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AutoShape 9"/>
          <p:cNvSpPr/>
          <p:nvPr/>
        </p:nvSpPr>
        <p:spPr>
          <a:xfrm>
            <a:off x="6345360" y="2209680"/>
            <a:ext cx="1655640" cy="1676520"/>
          </a:xfrm>
          <a:prstGeom prst="flowChartAlternateProcess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Text Box 10"/>
          <p:cNvSpPr/>
          <p:nvPr/>
        </p:nvSpPr>
        <p:spPr>
          <a:xfrm>
            <a:off x="2209680" y="2666880"/>
            <a:ext cx="165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entury Gothic"/>
              </a:rPr>
              <a:t>Comparendo de conciliació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entury Gothic"/>
              </a:rPr>
              <a:t>Inspecció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Line 11"/>
          <p:cNvSpPr/>
          <p:nvPr/>
        </p:nvSpPr>
        <p:spPr>
          <a:xfrm>
            <a:off x="1828800" y="335268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Text Box 12"/>
          <p:cNvSpPr/>
          <p:nvPr/>
        </p:nvSpPr>
        <p:spPr>
          <a:xfrm>
            <a:off x="4191120" y="2666880"/>
            <a:ext cx="1655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Century Gothic"/>
              </a:rPr>
              <a:t>Demanda ante  Tribunal del Trabaj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Line 13"/>
          <p:cNvSpPr/>
          <p:nvPr/>
        </p:nvSpPr>
        <p:spPr>
          <a:xfrm>
            <a:off x="5105520" y="4191120"/>
            <a:ext cx="0" cy="3045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AutoShape 14"/>
          <p:cNvSpPr/>
          <p:nvPr/>
        </p:nvSpPr>
        <p:spPr>
          <a:xfrm>
            <a:off x="4267080" y="4648320"/>
            <a:ext cx="1656000" cy="1066680"/>
          </a:xfrm>
          <a:prstGeom prst="flowChartAlternateProcess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Text Box 15"/>
          <p:cNvSpPr/>
          <p:nvPr/>
        </p:nvSpPr>
        <p:spPr>
          <a:xfrm>
            <a:off x="4114800" y="4600440"/>
            <a:ext cx="1905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Century Gothic"/>
              </a:rPr>
              <a:t>El juez dicta sentencia de inmediato.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Line 16"/>
          <p:cNvSpPr/>
          <p:nvPr/>
        </p:nvSpPr>
        <p:spPr>
          <a:xfrm>
            <a:off x="3886200" y="335268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Line 17"/>
          <p:cNvSpPr/>
          <p:nvPr/>
        </p:nvSpPr>
        <p:spPr>
          <a:xfrm>
            <a:off x="4038480" y="3352680"/>
            <a:ext cx="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AutoShape 18"/>
          <p:cNvSpPr/>
          <p:nvPr/>
        </p:nvSpPr>
        <p:spPr>
          <a:xfrm>
            <a:off x="3581280" y="1676520"/>
            <a:ext cx="914400" cy="914400"/>
          </a:xfrm>
          <a:prstGeom prst="downArrowCallout">
            <a:avLst>
              <a:gd name="adj1" fmla="val 25002"/>
              <a:gd name="adj2" fmla="val 25000"/>
              <a:gd name="adj3" fmla="val 16667"/>
              <a:gd name="adj4" fmla="val 66667"/>
            </a:avLst>
          </a:prstGeom>
          <a:noFill/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Text Box 19"/>
          <p:cNvSpPr/>
          <p:nvPr/>
        </p:nvSpPr>
        <p:spPr>
          <a:xfrm>
            <a:off x="3352680" y="1676520"/>
            <a:ext cx="1447920" cy="4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entury Gothic"/>
              </a:rPr>
              <a:t>6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100" spc="-1" strike="noStrike">
                <a:solidFill>
                  <a:srgbClr val="000000"/>
                </a:solidFill>
                <a:latin typeface="Century Gothic"/>
              </a:rPr>
              <a:t>días hábile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Text Box 20"/>
          <p:cNvSpPr/>
          <p:nvPr/>
        </p:nvSpPr>
        <p:spPr>
          <a:xfrm>
            <a:off x="6343200" y="5197320"/>
            <a:ext cx="1636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entury Gothic"/>
              </a:rPr>
              <a:t>10 días hábiles par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entury Gothic"/>
              </a:rPr>
              <a:t>Reclamar (único rec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AutoShape 21"/>
          <p:cNvSpPr/>
          <p:nvPr/>
        </p:nvSpPr>
        <p:spPr>
          <a:xfrm>
            <a:off x="6172200" y="4800600"/>
            <a:ext cx="2209680" cy="914400"/>
          </a:xfrm>
          <a:prstGeom prst="upArrowCallout">
            <a:avLst>
              <a:gd name="adj1" fmla="val 60419"/>
              <a:gd name="adj2" fmla="val 60413"/>
              <a:gd name="adj3" fmla="val 16667"/>
              <a:gd name="adj4" fmla="val 66660"/>
            </a:avLst>
          </a:prstGeom>
          <a:noFill/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Text Box 22"/>
          <p:cNvSpPr/>
          <p:nvPr/>
        </p:nvSpPr>
        <p:spPr>
          <a:xfrm>
            <a:off x="6345360" y="2438280"/>
            <a:ext cx="1655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Century Gothic"/>
              </a:rPr>
              <a:t>Audiencia única de conciliación, prueba y sentenci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AutoShape 23"/>
          <p:cNvSpPr/>
          <p:nvPr/>
        </p:nvSpPr>
        <p:spPr>
          <a:xfrm>
            <a:off x="6553080" y="3886200"/>
            <a:ext cx="1219320" cy="914400"/>
          </a:xfrm>
          <a:prstGeom prst="upArrowCallout">
            <a:avLst>
              <a:gd name="adj1" fmla="val 33340"/>
              <a:gd name="adj2" fmla="val 33337"/>
              <a:gd name="adj3" fmla="val 16667"/>
              <a:gd name="adj4" fmla="val 66660"/>
            </a:avLst>
          </a:prstGeom>
          <a:noFill/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Text Box 24"/>
          <p:cNvSpPr/>
          <p:nvPr/>
        </p:nvSpPr>
        <p:spPr>
          <a:xfrm>
            <a:off x="6615360" y="4146480"/>
            <a:ext cx="9061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s-CL" sz="1200" spc="-1" strike="noStrike">
                <a:solidFill>
                  <a:srgbClr val="000000"/>
                </a:solidFill>
                <a:latin typeface="Century Gothic"/>
              </a:rPr>
              <a:t>citación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entury Gothic"/>
              </a:rPr>
              <a:t>dentro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entury Gothic"/>
              </a:rPr>
              <a:t>de 15 día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Line 25"/>
          <p:cNvSpPr/>
          <p:nvPr/>
        </p:nvSpPr>
        <p:spPr>
          <a:xfrm>
            <a:off x="5943600" y="556272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Line 26"/>
          <p:cNvSpPr/>
          <p:nvPr/>
        </p:nvSpPr>
        <p:spPr>
          <a:xfrm>
            <a:off x="5943600" y="3200400"/>
            <a:ext cx="3808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Text Box 27"/>
          <p:cNvSpPr/>
          <p:nvPr/>
        </p:nvSpPr>
        <p:spPr>
          <a:xfrm>
            <a:off x="6553080" y="2819520"/>
            <a:ext cx="762120" cy="520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Century Gothic"/>
              </a:rPr>
              <a:t>15 día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5T21:33:03Z</dcterms:created>
  <dc:creator>Ana Piquer</dc:creator>
  <dc:description/>
  <dc:language>en-US</dc:language>
  <cp:lastModifiedBy>sony</cp:lastModifiedBy>
  <dcterms:modified xsi:type="dcterms:W3CDTF">2009-03-17T23:35:25Z</dcterms:modified>
  <cp:revision>83</cp:revision>
  <dc:subject/>
  <dc:title>SUBCONTRATACIÓ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MarkAsFinal">
    <vt:bool>1</vt:bool>
  </property>
</Properties>
</file>