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7A63BC-68EC-4852-849F-D95CC4F03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73FA9A-341A-49E9-8CF6-C373063FC6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3D089B-3DBF-418E-9603-EC64EC0CD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5F01B6-976E-4345-BDA0-DC47EB4396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720" y="5866920"/>
            <a:ext cx="441936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ofesor Claudio Palavecino Các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9" descr="pt"/>
          <p:cNvPicPr/>
          <p:nvPr/>
        </p:nvPicPr>
        <p:blipFill>
          <a:blip r:embed="rId2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t"/>
          <p:cNvPicPr/>
          <p:nvPr/>
        </p:nvPicPr>
        <p:blipFill>
          <a:blip r:embed="rId3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t"/>
          <p:cNvPicPr/>
          <p:nvPr/>
        </p:nvPicPr>
        <p:blipFill>
          <a:blip r:embed="rId4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t"/>
          <p:cNvPicPr/>
          <p:nvPr/>
        </p:nvPicPr>
        <p:blipFill>
          <a:blip r:embed="rId5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Century Gothic"/>
              </a:rPr>
              <a:t>NUEVA JUSTICIA LABOR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440" y="2746080"/>
            <a:ext cx="8201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Century Gothic"/>
              </a:rPr>
              <a:t>Su impacto sobr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Justicia en coma"/>
          <p:cNvPicPr/>
          <p:nvPr/>
        </p:nvPicPr>
        <p:blipFill>
          <a:blip r:embed="rId1"/>
          <a:stretch/>
        </p:blipFill>
        <p:spPr>
          <a:xfrm>
            <a:off x="1981080" y="4572000"/>
            <a:ext cx="5105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or Claudio Palave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60948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ocedimiento Monito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Contiendas de cuantía igual o inferior a 10 IMM (sin considerar increme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por despido de trabajadora con fuero maternal. No requiere reclamo previo ante Inspección del Trabaj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multas de cuantía igual o inferior a 10 I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resoluciones de la DT distintas de la multa administrativa o de la reconsid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Importancia de comparecencia ante la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1426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1.- Limitación severa al derecho a ejercer una defensa jurídica eficaz de sus intere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Mayores poderes formales y materiales del juez laboral (hasta configurar un sistema inquisitivo de “justicia” labor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Cargas probatorias dinám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Sistema de impugnaciones limi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Tribunal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estructural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y juez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ideológica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Century Gothic"/>
              </a:rPr>
              <a:t>Potestades formales o de dirección del nuevo juez laboral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En los procedimientos del trabajo primará el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impulso procesal de oficio”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5 CT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…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una vez reclamada su intervención actuará de oficio…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9 inc. 1° CT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Admitida la demanda a tramitación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[...] deberá,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de inmediato y sin más trámite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citar a las partes a una audiencia…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51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Adoptará 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las medidas tendientes a evitar la paralización del proceso o su prolongación indebida y, en consecuencia, no será aplicable el abandono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429, inc. 2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corregirá de oficio los errores que observe en la tramitación del juicio y adoptará las medidas que tiendan a evitar la nulidad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 429, inc. 3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Dispondrá la forma en que se practicará una determinada actuación cuando no se pueda aplicar supletoriamente los Libros I y II del CPC, por ser sus normas contrarias a los principios del procedimiento laboral (art. 432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Potestades materiales del nuevo juez labor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pertura del periodo proba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objeto de la prueba (los hechos)  y su incorporación al proce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dmisión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práctica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Prueba de ofi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ncompatibilidad de funciones procesales entre instrucción y juzgamient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t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Si el juez no puede asumir el papel de parte […], es obvio que no puede ni debe hacer las cosas propias de las partes procesales y que hacen a la esencia de esas calidades. Y así, no ha de afirmar pretensiones, ni introducir hechos, ni probar hechos que han afirmado otros…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Ausencia de interés subjetivo en la solución del litigi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c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a actividad instructora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, en cuanto para el que la lleva a cabo supone entrar en contacto directo con el acusado y con los hechos y datos que deben servir para averiguar el delito y sus posibles responsables,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puede provocar en el ánimo del instructor prejuicios e impresiones a favor o en contra del acusado que influyan a la hora de sentenciar.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Y aunque aquello no suceda es difícil evitar la impresión de que el juez no acomete la función de juzgar sin la plena imparcialidad que le es exigible” (STC español 145/1988 de 12 de julio).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Cargas probatorias dinámicas”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(art. 453 N°1, incs. 7° y 8°, art. 495 CT)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xclusión del art. 1.698 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juez y no la ley determina la carga de la prueba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Incertidumbre y amplio margen al decisionismo judici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s reglas de incumbencia probatoria operan en la etapa de dictación de sen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imitación a la posibilidad de impugnar las resoluciones: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n la audiencia la reposición se resuelve de inmediato, sin ulterior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sentencia definitiva no es ape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os hechos quedan fijados irrevocablemente por el juez de primera instancia, Corte de Apelaciones sólo revisa la aplicación del Derecho: 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Recurso de Nulidad: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sustancial de derechos o garantía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de ley que influya sustancialmente en lo dispositivo del f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competencia, infracción a normas de apreciación de la prueba, violación de la inmediación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be prepararse el recurso (agotar instancias previa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Plazo: 10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fec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288720" algn="just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Limitado acceso a la Corte Suprema: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Recurso de Unificación de Jurispru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Sólo si existen distintas interpretaciones, sobre la misma materia en fallos de Cortes de Apelaciones o Corte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procede en el procedimiento monitorio ni contra sentencias recaídas en reclamación  de infr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Debe acompañarse copia de los fa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Plazo: 15 días, ante la Corte de Ap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suspende la ejecución del fallo recur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Fallo produce efecto relativo, no afecta otras sen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l desequilibrio entre las partes de la relación de trabajo, se proyecta también sobre el proceso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“El desequilibrio probatorio es el drama del trabajador litigante”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(SARTHO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sa notable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desigualdad real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be ser paliada. Pero no por el juez, encargado final de asegurar la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gualdad jurídica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 las partes procesales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Antes bien podrá ser cuidada por defensores 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ad hoc,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por asesores en el litigio […], por muchos y variados funcionarios […] quienes se dediquen con exclusividad a ello. Pero insisto: nunca por el juez pues, al desnivelar la igualdad jurídica para lograr una supuesta y nunca alcanzada igualdad real, logra sólo desequilibrar el fiel de la balanza de la Justicia y hacer ilegítima su sentencia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n la totalidad de las regiones (II, XII, IV, V y XIV) donde se ha implementado la nueva justicia Laboral se han presentado 5.805 caso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Reg. V (1.849) y Reg. IV (1.34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l total de 5.805 casos 1.264 fueron demandas presentadas ante las Oficinas de Defensa Laboral, las que ha logrado terminar un total de 674 (53,3%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1430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2.- Limitación severa a las facultades de dirección y organización del empresario a través del procedimiento de tulela de los derechos fundamentales</a:t>
            </a:r>
            <a:r>
              <a:rPr b="1" lang="es-C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imita la gestión y administración de los RRH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Cualquier medida que adopte la empresa debe aprobar el </a:t>
            </a:r>
            <a:r>
              <a:rPr b="0" i="1" lang="es-CL" sz="1800" spc="-1" strike="noStrike">
                <a:solidFill>
                  <a:srgbClr val="000000"/>
                </a:solidFill>
                <a:latin typeface="Century Gothic"/>
              </a:rPr>
              <a:t>test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denuncia la puede hacer el trabajador afectado, el sindicato o la Inspección del Trabajo, salvo en las causas por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juez puede suspender la medida del empleador que afecta los derechos constitucionales del trabajador desde que se presente la denu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demnización adicional por lesión de derechos fundamentales y por daño moral / nulidad de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ecesidad de aprobación judicial de los acuerdos que pongan término al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entury Gothic"/>
              </a:rPr>
              <a:t>2.- Limitación de la libertad de empresa a través del procedimiento de tutela laboral</a:t>
            </a:r>
            <a:endParaRPr b="1" lang="en-US" sz="28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3600" y="1828800"/>
            <a:ext cx="82234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938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 u="sng">
                <a:solidFill>
                  <a:srgbClr val="000000"/>
                </a:solidFill>
                <a:uFillTx/>
                <a:latin typeface="Century Gothic"/>
              </a:rPr>
              <a:t>Numerosas hipótesis de conflicto de intereses con ocasión de los derechos protegidos</a:t>
            </a:r>
            <a:r>
              <a:rPr b="0" lang="es-CL" sz="15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derecho a la vida y a la integridad física y psíquica de l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respeto y protección a la vida privada y a la honra de la persona y de su fami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inviolabilidad de toda forma de comunicación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conciencia, la manifestación de todas las creencias y el ejercicio libre de todos los cul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emitir opinión y la de infor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trabajo y el derecho a su libre ele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Actos discriminatorios (fundados en la raza, color, sexo, edad, estado civil, sindicación, religión, opinión política, nacionalidad, ascendencia nacional u origen soci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ibertad 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Con todo, los derechos fundamentales no son absolut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Se entiende que el ejercicio de las facultades que la ley le reconoce al empleador lesiona las garantías constitucionales del trabajador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cuando: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limita el pleno ejercicio de aquéllas sin justificación suficiente, en forma arbitraria o desproporcionada, o sin respeto a su contenido esencial”.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3.- Rigidización de desp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l aviso de despido fija de manera inmutable los hechos que puede alegar el empleador en juic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Carta de aviso de terminación inc. 1° Art. 161: nuevo título ejecu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La causal necesidades de la empresa se vuelve más riesgosa si no es comprobable. Necesidad de planificar alternativas de termin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lanes de reti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Indemnización adicional de 6-11 meses por despido con lesión de garantías constituci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Nulidad del despido discriminatorio. Reincorpo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Recomenda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Adecuada selección de personas. Una  vez contratadas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Definición de políticas claras, conocidas y … constitucionales (importancia del RIOHS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Selección, promoción y desvincul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inclusión, diversidad y no discriminación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relaciones laborales y comunic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seguridad e informát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En caso de conflic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mpresa v/s trabajador + defensor laboral + Inspección del Trabajo + Juez + Sindica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Desequilibrio en PY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Registro y administración de documen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l tiempo promedio desde que una demanda es presentada ante tribunales y hasta que se ha dictado sentencia es de 40 días aproximadam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 las demandas representadas por las Oficinas de Defensa Laboral, las materias más recurrentes son: nulidades de despido (451); despidos injustificados (365); cobro de prestaciones (269); auto despidos (15); y Desafueros (45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Del total de causas terminadas por las Oficinas de Defensa laboral (1264); 361 (28,5%) han sido con sentencia favorable para los trabajadores; 13 (1%)han sido desfavorables, en 267 casos se ha llegado a conciliación o avenimiento (21%); y en otros 33 casos, los representados han presentado su renuncia al patrocin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a28a"/>
                </a:solidFill>
                <a:latin typeface="Century Gothic"/>
              </a:rPr>
              <a:t>Reforma integral a la Justicia Laboral</a:t>
            </a:r>
            <a:r>
              <a:rPr b="1" lang="es-ES_tradnl" sz="4000" spc="-1" strike="noStrike">
                <a:solidFill>
                  <a:srgbClr val="00a28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Orgánica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(nuevos tribunales especializados, nueva estructura inter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Nuevos Procediment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Aplicación gene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Tutela labo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Monitorio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bor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obranza laboral y previ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usticia en coma"/>
          <p:cNvPicPr/>
          <p:nvPr/>
        </p:nvPicPr>
        <p:blipFill>
          <a:blip r:embed="rId1"/>
          <a:stretch/>
        </p:blipFill>
        <p:spPr>
          <a:xfrm>
            <a:off x="58672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ronogram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4 Marcador de contenido" descr="http://www.minjusticia.cl/laboral/final/cronograma_clip_image002.gif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 Marcador de contenido" descr="Flujograma Proc gral.jpg"/>
          <p:cNvPicPr/>
          <p:nvPr/>
        </p:nvPicPr>
        <p:blipFill>
          <a:blip r:embed="rId1"/>
          <a:stretch/>
        </p:blipFill>
        <p:spPr>
          <a:xfrm>
            <a:off x="2266920" y="457200"/>
            <a:ext cx="4514760" cy="5753160"/>
          </a:xfrm>
          <a:prstGeom prst="rect">
            <a:avLst/>
          </a:prstGeom>
          <a:ln w="0">
            <a:noFill/>
          </a:ln>
        </p:spPr>
      </p:pic>
      <p:sp>
        <p:nvSpPr>
          <p:cNvPr id="10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1849320" y="115920"/>
            <a:ext cx="1656000" cy="6476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849320" y="289548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1908000" y="18900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emada (general)/ denuncia (tutela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2"/>
          <p:cNvSpPr/>
          <p:nvPr/>
        </p:nvSpPr>
        <p:spPr>
          <a:xfrm>
            <a:off x="1849320" y="2971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1) prepa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3"/>
          <p:cNvSpPr/>
          <p:nvPr/>
        </p:nvSpPr>
        <p:spPr>
          <a:xfrm>
            <a:off x="2362320" y="765000"/>
            <a:ext cx="53316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54"/>
          <p:cNvSpPr/>
          <p:nvPr/>
        </p:nvSpPr>
        <p:spPr>
          <a:xfrm>
            <a:off x="2340000" y="3505320"/>
            <a:ext cx="533520" cy="720720"/>
          </a:xfrm>
          <a:prstGeom prst="downArrow">
            <a:avLst>
              <a:gd name="adj1" fmla="val 50000"/>
              <a:gd name="adj2" fmla="val 33772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5"/>
          <p:cNvSpPr/>
          <p:nvPr/>
        </p:nvSpPr>
        <p:spPr>
          <a:xfrm>
            <a:off x="1925640" y="46483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2) de ju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6"/>
          <p:cNvSpPr/>
          <p:nvPr/>
        </p:nvSpPr>
        <p:spPr>
          <a:xfrm>
            <a:off x="1849320" y="457200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1849320" y="5791320"/>
            <a:ext cx="1656000" cy="649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676520" y="5892840"/>
            <a:ext cx="198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ntencia Audiencia: 15/10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9"/>
          <p:cNvSpPr/>
          <p:nvPr/>
        </p:nvSpPr>
        <p:spPr>
          <a:xfrm>
            <a:off x="2362320" y="5181480"/>
            <a:ext cx="533160" cy="50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4114800" y="4724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ndi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entencia (op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1"/>
          <p:cNvSpPr/>
          <p:nvPr/>
        </p:nvSpPr>
        <p:spPr>
          <a:xfrm>
            <a:off x="1849320" y="1268280"/>
            <a:ext cx="1656000" cy="6480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72"/>
          <p:cNvSpPr/>
          <p:nvPr/>
        </p:nvSpPr>
        <p:spPr>
          <a:xfrm>
            <a:off x="2340000" y="1905120"/>
            <a:ext cx="533520" cy="863640"/>
          </a:xfrm>
          <a:prstGeom prst="downArrow">
            <a:avLst>
              <a:gd name="adj1" fmla="val 50000"/>
              <a:gd name="adj2" fmla="val 404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3"/>
          <p:cNvSpPr/>
          <p:nvPr/>
        </p:nvSpPr>
        <p:spPr>
          <a:xfrm>
            <a:off x="1839960" y="1197000"/>
            <a:ext cx="189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nt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5 días antes 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P (Notif. 15 día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6"/>
          <p:cNvSpPr/>
          <p:nvPr/>
        </p:nvSpPr>
        <p:spPr>
          <a:xfrm>
            <a:off x="4114800" y="476280"/>
            <a:ext cx="2895480" cy="1297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ntro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5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uspensión de la me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clamada (en p.tute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7"/>
          <p:cNvSpPr/>
          <p:nvPr/>
        </p:nvSpPr>
        <p:spPr>
          <a:xfrm>
            <a:off x="2771640" y="765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19720" y="2459160"/>
            <a:ext cx="32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lación sumaria / Traslados excepciones / reconv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ausa a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Oferta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dmisión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J –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0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93"/>
          <p:cNvSpPr/>
          <p:nvPr/>
        </p:nvSpPr>
        <p:spPr>
          <a:xfrm>
            <a:off x="3924360" y="2421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4"/>
          <p:cNvSpPr/>
          <p:nvPr/>
        </p:nvSpPr>
        <p:spPr>
          <a:xfrm>
            <a:off x="3851280" y="4653000"/>
            <a:ext cx="649440" cy="914400"/>
          </a:xfrm>
          <a:custGeom>
            <a:avLst/>
            <a:gdLst>
              <a:gd name="textAreaLeft" fmla="*/ 415080 w 649440"/>
              <a:gd name="textAreaRight" fmla="*/ 649800 w 649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320" y="2771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nuncia ante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22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528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Century Gothic"/>
              </a:rPr>
              <a:t>Procedimiento Moni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2096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2670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345360" y="2209680"/>
            <a:ext cx="165564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09680" y="26668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mparendo de 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Insp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191120" y="2666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manda ante  Tribunal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67080" y="4648320"/>
            <a:ext cx="1656000" cy="10666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14800" y="460044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l juez dicta sentencia de inmediato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581280" y="167652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352680" y="1676520"/>
            <a:ext cx="1447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Century Gothic"/>
              </a:rPr>
              <a:t>días háb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343200" y="519732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10 días hábile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Reclamar (único re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172200" y="4800600"/>
            <a:ext cx="2209680" cy="914400"/>
          </a:xfrm>
          <a:prstGeom prst="upArrowCallout">
            <a:avLst>
              <a:gd name="adj1" fmla="val 60419"/>
              <a:gd name="adj2" fmla="val 60413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345360" y="243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diencia única de conciliación, prueba y sen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553080" y="3886200"/>
            <a:ext cx="1219320" cy="914400"/>
          </a:xfrm>
          <a:prstGeom prst="upArrowCallout">
            <a:avLst>
              <a:gd name="adj1" fmla="val 33340"/>
              <a:gd name="adj2" fmla="val 33337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615360" y="4146480"/>
            <a:ext cx="90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cit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 15 dí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59436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553080" y="2819520"/>
            <a:ext cx="7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entury Gothic"/>
              </a:rPr>
              <a:t>15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1:33:03Z</dcterms:created>
  <dc:creator>Ana Piquer</dc:creator>
  <dc:description/>
  <dc:language>en-US</dc:language>
  <cp:lastModifiedBy>sony</cp:lastModifiedBy>
  <dcterms:modified xsi:type="dcterms:W3CDTF">2009-03-17T23:35:25Z</dcterms:modified>
  <cp:revision>83</cp:revision>
  <dc:subject/>
  <dc:title>SUBCONTRA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