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1359181-7358-41BB-A6ED-FCE5E258D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71161B-8E51-4A1F-B472-30A86E4B1C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9D31783-FC82-4FD5-8BAE-3A86EABA95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1B9F02-D2B3-4DC0-A58F-76DC797F6E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48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167616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48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3843720"/>
            <a:ext cx="264744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640" y="384372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640" y="1676160"/>
            <a:ext cx="401256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3720"/>
            <a:ext cx="82231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19720" y="5866920"/>
            <a:ext cx="4419360" cy="6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2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Profesor Claudio Palavecino Cáce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0" name="Picture 9" descr="pt"/>
          <p:cNvPicPr/>
          <p:nvPr/>
        </p:nvPicPr>
        <p:blipFill>
          <a:blip r:embed="rId2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pt"/>
          <p:cNvPicPr/>
          <p:nvPr/>
        </p:nvPicPr>
        <p:blipFill>
          <a:blip r:embed="rId3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3" descr="pt"/>
          <p:cNvPicPr/>
          <p:nvPr/>
        </p:nvPicPr>
        <p:blipFill>
          <a:blip r:embed="rId4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pt"/>
          <p:cNvPicPr/>
          <p:nvPr/>
        </p:nvPicPr>
        <p:blipFill>
          <a:blip r:embed="rId5"/>
          <a:stretch/>
        </p:blipFill>
        <p:spPr>
          <a:xfrm>
            <a:off x="3381480" y="2881440"/>
            <a:ext cx="2381040" cy="109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Century Gothic"/>
              </a:rPr>
              <a:t>NUEVA JUSTICIA LABOR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9440" y="2746080"/>
            <a:ext cx="8201160" cy="16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ffff"/>
                </a:solidFill>
                <a:latin typeface="Century Gothic"/>
              </a:rPr>
              <a:t>Su impacto sobre la 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Justicia en coma"/>
          <p:cNvPicPr/>
          <p:nvPr/>
        </p:nvPicPr>
        <p:blipFill>
          <a:blip r:embed="rId1"/>
          <a:stretch/>
        </p:blipFill>
        <p:spPr>
          <a:xfrm>
            <a:off x="1981080" y="4572000"/>
            <a:ext cx="51055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fesor Claudio Palaveci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3520" y="60948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ocedimiento Monitor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914400" y="1905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Contiendas de cuantía igual o inferior a 10 IMM (sin considerar increment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por despido de trabajadora con fuero maternal. No requiere reclamo previo ante Inspección del Trabajo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multas de cuantía igual o inferior a 10 IM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Reclamación judicial de resoluciones de la DT distintas de la multa administrativa o de la reconsider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Importancia de comparecencia ante la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3600" y="1142640"/>
            <a:ext cx="869004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1.- Limitación severa al derecho a ejercer una defensa jurídica eficaz de sus interes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Mayores poderes formales y materiales del juez laboral (hasta configurar un sistema inquisitivo de “justicia” labora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Cargas probatorias dinámic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Sistema de impugnaciones limi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Tribunal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estructural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y juez 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ideológicamente parci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2126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Century Gothic"/>
              </a:rPr>
              <a:t>Potestades formales o de dirección del nuevo juez laboral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En los procedimientos del trabajo primará el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impulso procesal de oficio”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5 CT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“…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una vez reclamada su intervención actuará de oficio…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29 inc. 1° CT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Admitida la demanda a tramitación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[...] deberá,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de inmediato y sin más trámite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, citar a las partes a una audiencia…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(art. 451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Adoptará 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“las medidas tendientes a evitar la paralización del proceso o su prolongación indebida y, en consecuencia, no será aplicable el abandono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429, inc. 2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“…</a:t>
            </a:r>
            <a:r>
              <a:rPr b="0" i="1" lang="es-CL" sz="1700" spc="-1" strike="noStrike">
                <a:solidFill>
                  <a:srgbClr val="000000"/>
                </a:solidFill>
                <a:latin typeface="Century Gothic"/>
              </a:rPr>
              <a:t>corregirá de oficio los errores que observe en la tramitación del juicio y adoptará las medidas que tiendan a evitar la nulidad del procedimiento”</a:t>
            </a: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 (art. 429, inc. 3°,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entury Gothic"/>
              </a:rPr>
              <a:t>Dispondrá la forma en que se practicará una determinada actuación cuando no se pueda aplicar supletoriamente los Libros I y II del CPC, por ser sus normas contrarias a los principios del procedimiento laboral (art. 432 CT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063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Potestades materiales del nuevo juez laboral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pertura del periodo probator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objeto de la prueba (los hechos)  y su incorporación al proce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admisión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 práctica de los medios de prueb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Prueba de ofi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ncompatibilidad de funciones procesales entre instrucción y juzgamient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t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Si el juez no puede asumir el papel de parte […], es obvio que no puede ni debe hacer las cosas propias de las partes procesales y que hacen a la esencia de esas calidades. Y así, no ha de afirmar pretensiones, ni introducir hechos, ni probar hechos que han afirmado otros…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Configuración de un sistema inquisitivo de juzgamiento = lesión de la garantía del justo y racional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Ausencia de interés subjetivo en la solución del litigio (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mparcialidad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l juzgador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a actividad instructora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, en cuanto para el que la lleva a cabo supone entrar en contacto directo con el acusado y con los hechos y datos que deben servir para averiguar el delito y sus posibles responsables, 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puede provocar en el ánimo del instructor prejuicios e impresiones a favor o en contra del acusado que influyan a la hora de sentenciar.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Y aunque aquello no suceda es difícil evitar la impresión de que el juez no acomete la función de juzgar sin la plena imparcialidad que le es exigible” (STC español 145/1988 de 12 de julio).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Century Gothic"/>
              </a:rPr>
              <a:t>Cargas probatorias dinámicas”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 (art. 453 N°1, incs. 7° y 8°, art. 495 CT) 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xclusión del art. 1.698 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El juez y no la ley determina la carga de la prueba</a:t>
            </a:r>
            <a:r>
              <a:rPr b="0" i="1" lang="es-CL" sz="2600" spc="-1" strike="noStrike">
                <a:solidFill>
                  <a:srgbClr val="000000"/>
                </a:solidFill>
                <a:latin typeface="Century Gothic"/>
              </a:rPr>
              <a:t>= </a:t>
            </a: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Incertidumbre y amplio margen al decisionismo judicial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entury Gothic"/>
              </a:rPr>
              <a:t>Las reglas de incumbencia probatoria operan en la etapa de dictación de sen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Limitación a la posibilidad de impugnar las resoluciones: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n la audiencia la reposición se resuelve de inmediato, sin ulterior recur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sentencia definitiva no es ape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os hechos quedan fijados irrevocablemente por el juez de primera instancia, Corte de Apelaciones sólo revisa la aplicación del Derecho: </a:t>
            </a:r>
            <a:r>
              <a:rPr b="1" lang="es-CL" sz="1800" spc="-1" strike="noStrike">
                <a:solidFill>
                  <a:srgbClr val="000000"/>
                </a:solidFill>
                <a:latin typeface="Century Gothic"/>
              </a:rPr>
              <a:t>Recurso de Nulidad: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sustancial de derechos o garantía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fracción de ley que influya sustancialmente en lo dispositivo del fa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competencia, infracción a normas de apreciación de la prueba, violación de la inmediación, entr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be prepararse el recurso (agotar instancias previa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Plazo: 10 dí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fecto suspens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631800" indent="-288720" algn="just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Limitado acceso a la Corte Suprema: </a:t>
            </a:r>
            <a:r>
              <a:rPr b="1" lang="es-CL" sz="2000" spc="-1" strike="noStrike" u="sng">
                <a:solidFill>
                  <a:srgbClr val="000000"/>
                </a:solidFill>
                <a:uFillTx/>
                <a:latin typeface="Century Gothic"/>
              </a:rPr>
              <a:t>Recurso de Unificación de Jurisprud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Sólo si existen distintas interpretaciones, sobre la misma materia en fallos de Cortes de Apelaciones o Corte Supr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procede en el procedimiento monitorio ni contra sentencias recaídas en reclamación  de infrac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Debe acompañarse copia de los fall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Plazo: 15 días, ante la Corte de Ap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No suspende la ejecución del fallo recur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99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Gothic"/>
              </a:rPr>
              <a:t>Fallo produce efecto relativo, no afecta otras sentenc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Century Gothic"/>
              </a:rPr>
              <a:t>1.- Limitación al derecho a  una defensa jurídica eficaz… (continuación)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l desequilibrio entre las partes de la relación de trabajo, se proyecta también sobre el proceso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“El desequilibrio probatorio es el drama del trabajador litigante”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(SARTHOU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“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Esa notable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desigualdad real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be ser paliada. Pero no por el juez, encargado final de asegurar la </a:t>
            </a:r>
            <a:r>
              <a:rPr b="1" i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igualdad jurídica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Century Gothic"/>
              </a:rPr>
              <a:t> de las partes procesales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. Antes bien podrá ser cuidada por defensores </a:t>
            </a:r>
            <a:r>
              <a:rPr b="0" i="1" lang="es-CL" sz="2100" spc="-1" strike="noStrike">
                <a:solidFill>
                  <a:srgbClr val="000000"/>
                </a:solidFill>
                <a:latin typeface="Century Gothic"/>
              </a:rPr>
              <a:t>ad hoc,</a:t>
            </a: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 por asesores en el litigio […], por muchos y variados funcionarios […] quienes se dediquen con exclusividad a ello. Pero insisto: nunca por el juez pues, al desnivelar la igualdad jurídica para lograr una supuesta y nunca alcanzada igualdad real, logra sólo desequilibrar el fiel de la balanza de la Justicia y hacer ilegítima su sentencia” (ALVARADO VELLOSO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14264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n la totalidad de las regiones (II, XII, IV, V y XIV) donde se ha implementado la nueva justicia Laboral se han presentado 5.805 casos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Reg. V (1.849) y Reg. IV (1.343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l total de 5.805 casos 1.264 fueron demandas presentadas ante las Oficinas de Defensa Laboral, las que ha logrado terminar un total de 674 (53,3%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143000"/>
            <a:ext cx="8223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2.- Limitación severa a las facultades de dirección y organización del empresario a través del procedimiento de tulela de los derechos fundamentales</a:t>
            </a:r>
            <a:r>
              <a:rPr b="1" lang="es-CL" sz="2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imita la gestión y administración de los RRH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Cualquier medida que adopte la empresa debe aprobar el </a:t>
            </a:r>
            <a:r>
              <a:rPr b="0" i="1" lang="es-CL" sz="1800" spc="-1" strike="noStrike">
                <a:solidFill>
                  <a:srgbClr val="000000"/>
                </a:solidFill>
                <a:latin typeface="Century Gothic"/>
              </a:rPr>
              <a:t>test </a:t>
            </a: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de los derechos constitu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denuncia la puede hacer el trabajador afectado, el sindicato o la Inspección del Trabajo, salvo en las causas por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juez puede suspender la medida del empleador que afecta los derechos constitucionales del trabajador desde que se presente la denu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Indemnización adicional por lesión de derechos fundamentales y por daño moral / nulidad de desp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ecesidad de aprobación judicial de los acuerdos que pongan término al juic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Century Gothic"/>
              </a:rPr>
              <a:t>2.- Limitación de la libertad de empresa a través del procedimiento de tutela laboral</a:t>
            </a:r>
            <a:endParaRPr b="1" lang="en-US" sz="28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3600" y="1828800"/>
            <a:ext cx="822348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70000"/>
              </a:lnSpc>
              <a:spcBef>
                <a:spcPts val="938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 u="sng">
                <a:solidFill>
                  <a:srgbClr val="000000"/>
                </a:solidFill>
                <a:uFillTx/>
                <a:latin typeface="Century Gothic"/>
              </a:rPr>
              <a:t>Numerosas hipótesis de conflicto de intereses con ocasión de los derechos protegidos</a:t>
            </a:r>
            <a:r>
              <a:rPr b="0" lang="es-CL" sz="1500" spc="-1" strike="noStrike" u="sng">
                <a:solidFill>
                  <a:srgbClr val="000000"/>
                </a:solidFill>
                <a:uFillTx/>
                <a:latin typeface="Century Gothic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derecho a la vida y a la integridad física y psíquica de l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El respeto y protección a la vida privada y a la honra de la persona y de su famil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inviolabilidad de toda forma de comunicación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conciencia, la manifestación de todas las creencias y el ejercicio libre de todos los cul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emitir opinión y la de infor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La libertad de trabajo y el derecho a su libre elec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Actos discriminatorios (fundados en la raza, color, sexo, edad, estado civil, sindicación, religión, opinión política, nacionalidad, ascendencia nacional u origen socia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25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Libertad 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Con todo, los derechos fundamentales no son absolut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Se entiende que el ejercicio de las facultades que la ley le reconoce al empleador lesiona las garantías constitucionales del trabajador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cuando: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i="1" lang="es-CL" sz="3000" spc="-1" strike="noStrike" u="sng">
                <a:solidFill>
                  <a:srgbClr val="000000"/>
                </a:solidFill>
                <a:uFillTx/>
                <a:latin typeface="Century Gothic"/>
              </a:rPr>
              <a:t>limita el pleno ejercicio de aquéllas sin justificación suficiente, en forma arbitraria o desproporcionada, o sin respeto a su contenido esencial”.</a:t>
            </a:r>
            <a:r>
              <a:rPr b="0" i="1" lang="es-CL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IMPACTO SOBRE LA EMPRES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 algn="just">
              <a:lnSpc>
                <a:spcPct val="70000"/>
              </a:lnSpc>
              <a:spcBef>
                <a:spcPts val="1375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 u="sng">
                <a:solidFill>
                  <a:srgbClr val="000000"/>
                </a:solidFill>
                <a:uFillTx/>
                <a:latin typeface="Century Gothic"/>
              </a:rPr>
              <a:t>3.- Rigidización de despi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l aviso de despido fija de manera inmutable los hechos que puede alegar el empleador en juici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Carta de aviso de terminación inc. 1° Art. 161: nuevo título ejecutiv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La causal necesidades de la empresa se vuelve más riesgosa si no es comprobable. Necesidad de planificar alternativas de termin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lanes de retir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Indemnización adicional de 6-11 meses por despido con lesión de garantías constitucional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11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Nulidad del despido discriminatorio. Reincorpor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Century Gothic"/>
              </a:rPr>
              <a:t>Recomenda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Adecuada selección de personas. Una  vez contratadas 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Definición de políticas claras, conocidas y … constitucionales (importancia del RIOHS)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Selección, promoción y desvinculación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inclusión, diversidad y no discriminación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relaciones laborales y comunicacion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Políticas de seguridad e informátic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En caso de conflicto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Empresa v/s trabajador + defensor laboral + Inspección del Trabajo + Juez + Sindica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76"/>
              </a:spcBef>
              <a:buClr>
                <a:srgbClr val="00a28a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entury Gothic"/>
              </a:rPr>
              <a:t>Desequilibrio en PYM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Gothic"/>
              </a:rPr>
              <a:t>Registro y administración de documentació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El tiempo promedio desde que una demanda es presentada ante tribunales y hasta que se ha dictado sentencia es de 40 días aproximadament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Century Gothic"/>
              </a:rPr>
              <a:t>De las demandas representadas por las Oficinas de Defensa Laboral, las materias más recurrentes son: nulidades de despido (451); despidos injustificados (365); cobro de prestaciones (269); auto despidos (15); y Desafueros (45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Funcionamiento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761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Del total de causas terminadas por las Oficinas de Defensa laboral (1264); 361 (28,5%) han sido con sentencia favorable para los trabajadores; 13 (1%)han sido desfavorables, en 267 casos se ha llegado a conciliación o avenimiento (21%); y en otros 33 casos, los representados han presentado su renuncia al patrocinio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2001"/>
              </a:spcBef>
              <a:spcAft>
                <a:spcPts val="400"/>
              </a:spcAft>
              <a:buClr>
                <a:srgbClr val="00a28a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a28a"/>
                </a:solidFill>
                <a:latin typeface="Century Gothic"/>
              </a:rPr>
              <a:t>Reforma integral a la Justicia Laboral</a:t>
            </a:r>
            <a:r>
              <a:rPr b="1" lang="es-ES_tradnl" sz="4000" spc="-1" strike="noStrike">
                <a:solidFill>
                  <a:srgbClr val="00a28a"/>
                </a:solidFill>
                <a:latin typeface="Arial"/>
              </a:rPr>
              <a:t> 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848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Orgánica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 (nuevos tribunales especializados, nueva estructura intern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 u="sng">
                <a:solidFill>
                  <a:srgbClr val="000000"/>
                </a:solidFill>
                <a:uFillTx/>
                <a:latin typeface="Arial"/>
              </a:rPr>
              <a:t>Nuevos Procedimento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Aplicación gene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Tutela laboral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-Monitorio </a:t>
            </a: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labor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-C</a:t>
            </a:r>
            <a:r>
              <a:rPr b="1" i="1" lang="es-ES_tradnl" sz="2500" spc="-1" strike="noStrike">
                <a:solidFill>
                  <a:srgbClr val="000000"/>
                </a:solidFill>
                <a:latin typeface="Arial"/>
              </a:rPr>
              <a:t>obranza laboral y previsional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Justicia en coma"/>
          <p:cNvPicPr/>
          <p:nvPr/>
        </p:nvPicPr>
        <p:blipFill>
          <a:blip r:embed="rId1"/>
          <a:stretch/>
        </p:blipFill>
        <p:spPr>
          <a:xfrm>
            <a:off x="58672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ronograma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6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4 Marcador de contenido" descr="http://www.minjusticia.cl/laboral/final/cronograma_clip_image002.gif"/>
          <p:cNvPicPr/>
          <p:nvPr/>
        </p:nvPicPr>
        <p:blipFill>
          <a:blip r:embed="rId1"/>
          <a:stretch/>
        </p:blipFill>
        <p:spPr>
          <a:xfrm>
            <a:off x="685800" y="1523880"/>
            <a:ext cx="7543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5 Marcador de contenido" descr="Flujograma Proc gral.jpg"/>
          <p:cNvPicPr/>
          <p:nvPr/>
        </p:nvPicPr>
        <p:blipFill>
          <a:blip r:embed="rId1"/>
          <a:stretch/>
        </p:blipFill>
        <p:spPr>
          <a:xfrm>
            <a:off x="2266920" y="457200"/>
            <a:ext cx="4514760" cy="5753160"/>
          </a:xfrm>
          <a:prstGeom prst="rect">
            <a:avLst/>
          </a:prstGeom>
          <a:ln w="0">
            <a:noFill/>
          </a:ln>
        </p:spPr>
      </p:pic>
      <p:sp>
        <p:nvSpPr>
          <p:cNvPr id="109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49"/>
          <p:cNvSpPr/>
          <p:nvPr/>
        </p:nvSpPr>
        <p:spPr>
          <a:xfrm>
            <a:off x="1849320" y="115920"/>
            <a:ext cx="1656000" cy="6476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50"/>
          <p:cNvSpPr/>
          <p:nvPr/>
        </p:nvSpPr>
        <p:spPr>
          <a:xfrm>
            <a:off x="1849320" y="289548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1908000" y="189000"/>
            <a:ext cx="165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Demada (general)/ denuncia (tutela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2"/>
          <p:cNvSpPr/>
          <p:nvPr/>
        </p:nvSpPr>
        <p:spPr>
          <a:xfrm>
            <a:off x="1849320" y="2971800"/>
            <a:ext cx="16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1) preparat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AutoShape 53"/>
          <p:cNvSpPr/>
          <p:nvPr/>
        </p:nvSpPr>
        <p:spPr>
          <a:xfrm>
            <a:off x="2362320" y="765000"/>
            <a:ext cx="533160" cy="38124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AutoShape 54"/>
          <p:cNvSpPr/>
          <p:nvPr/>
        </p:nvSpPr>
        <p:spPr>
          <a:xfrm>
            <a:off x="2340000" y="3505320"/>
            <a:ext cx="533520" cy="720720"/>
          </a:xfrm>
          <a:prstGeom prst="downArrow">
            <a:avLst>
              <a:gd name="adj1" fmla="val 50000"/>
              <a:gd name="adj2" fmla="val 33772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55"/>
          <p:cNvSpPr/>
          <p:nvPr/>
        </p:nvSpPr>
        <p:spPr>
          <a:xfrm>
            <a:off x="1925640" y="4648320"/>
            <a:ext cx="165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Audiencia (2) de ju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AutoShape 56"/>
          <p:cNvSpPr/>
          <p:nvPr/>
        </p:nvSpPr>
        <p:spPr>
          <a:xfrm>
            <a:off x="1849320" y="4572000"/>
            <a:ext cx="1656000" cy="64944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57"/>
          <p:cNvSpPr/>
          <p:nvPr/>
        </p:nvSpPr>
        <p:spPr>
          <a:xfrm>
            <a:off x="1849320" y="5791320"/>
            <a:ext cx="1656000" cy="649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1676520" y="5892840"/>
            <a:ext cx="19810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ntencia Audiencia: 15/10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(3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AutoShape 59"/>
          <p:cNvSpPr/>
          <p:nvPr/>
        </p:nvSpPr>
        <p:spPr>
          <a:xfrm>
            <a:off x="2362320" y="5181480"/>
            <a:ext cx="533160" cy="50508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66"/>
          <p:cNvSpPr/>
          <p:nvPr/>
        </p:nvSpPr>
        <p:spPr>
          <a:xfrm>
            <a:off x="4114800" y="4724280"/>
            <a:ext cx="297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Rendi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entury Gothic"/>
              </a:rPr>
              <a:t>Sentencia (op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AutoShape 71"/>
          <p:cNvSpPr/>
          <p:nvPr/>
        </p:nvSpPr>
        <p:spPr>
          <a:xfrm>
            <a:off x="1849320" y="1268280"/>
            <a:ext cx="1656000" cy="64800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72"/>
          <p:cNvSpPr/>
          <p:nvPr/>
        </p:nvSpPr>
        <p:spPr>
          <a:xfrm>
            <a:off x="2340000" y="1905120"/>
            <a:ext cx="533520" cy="863640"/>
          </a:xfrm>
          <a:prstGeom prst="downArrow">
            <a:avLst>
              <a:gd name="adj1" fmla="val 50000"/>
              <a:gd name="adj2" fmla="val 40469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3"/>
          <p:cNvSpPr/>
          <p:nvPr/>
        </p:nvSpPr>
        <p:spPr>
          <a:xfrm>
            <a:off x="1839960" y="1197000"/>
            <a:ext cx="18939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ntes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5 días antes 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entury Gothic"/>
              </a:rPr>
              <a:t>AP (Notif. 15 día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AutoShape 86"/>
          <p:cNvSpPr/>
          <p:nvPr/>
        </p:nvSpPr>
        <p:spPr>
          <a:xfrm>
            <a:off x="4114800" y="476280"/>
            <a:ext cx="2895480" cy="12970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dentro de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5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Suspensión de la medid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clamada (en p.tute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87"/>
          <p:cNvSpPr/>
          <p:nvPr/>
        </p:nvSpPr>
        <p:spPr>
          <a:xfrm>
            <a:off x="2771640" y="765000"/>
            <a:ext cx="1295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2"/>
          <p:cNvSpPr/>
          <p:nvPr/>
        </p:nvSpPr>
        <p:spPr>
          <a:xfrm>
            <a:off x="4419720" y="2459160"/>
            <a:ext cx="324000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Relación sumaria / Traslados excepciones / reconv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ausa a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entury Gothic"/>
              </a:rPr>
              <a:t>Oferta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Admisión de prue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entury Gothic"/>
              </a:rPr>
              <a:t>Citación a AJ – </a:t>
            </a:r>
            <a:r>
              <a:rPr b="1" lang="es-ES" sz="1600" spc="-1" strike="noStrike">
                <a:solidFill>
                  <a:srgbClr val="000000"/>
                </a:solidFill>
                <a:latin typeface="Century Gothic"/>
              </a:rPr>
              <a:t>30 dí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AutoShape 93"/>
          <p:cNvSpPr/>
          <p:nvPr/>
        </p:nvSpPr>
        <p:spPr>
          <a:xfrm>
            <a:off x="3924360" y="2421000"/>
            <a:ext cx="503280" cy="2016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AutoShape 94"/>
          <p:cNvSpPr/>
          <p:nvPr/>
        </p:nvSpPr>
        <p:spPr>
          <a:xfrm>
            <a:off x="3851280" y="4653000"/>
            <a:ext cx="649440" cy="914400"/>
          </a:xfrm>
          <a:custGeom>
            <a:avLst/>
            <a:gdLst>
              <a:gd name="textAreaLeft" fmla="*/ 415080 w 649440"/>
              <a:gd name="textAreaRight" fmla="*/ 649800 w 6494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4419720" y="5867280"/>
            <a:ext cx="44193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Gothic"/>
              </a:rPr>
              <a:t>Profesor: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6320" y="277164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nuncia ante Inspección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22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9528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Century Gothic"/>
              </a:rPr>
              <a:t>Procedimiento Monito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AutoShape 7"/>
          <p:cNvSpPr/>
          <p:nvPr/>
        </p:nvSpPr>
        <p:spPr>
          <a:xfrm>
            <a:off x="22096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/>
          <p:cNvSpPr/>
          <p:nvPr/>
        </p:nvSpPr>
        <p:spPr>
          <a:xfrm>
            <a:off x="4267080" y="2514600"/>
            <a:ext cx="165600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6345360" y="2209680"/>
            <a:ext cx="1655640" cy="167652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209680" y="2666880"/>
            <a:ext cx="16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Comparendo de concili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entury Gothic"/>
              </a:rPr>
              <a:t>Inspec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Line 11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191120" y="2666880"/>
            <a:ext cx="165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Demanda ante  Tribunal del Trabaj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5105520" y="4191120"/>
            <a:ext cx="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4"/>
          <p:cNvSpPr/>
          <p:nvPr/>
        </p:nvSpPr>
        <p:spPr>
          <a:xfrm>
            <a:off x="4267080" y="4648320"/>
            <a:ext cx="1656000" cy="1066680"/>
          </a:xfrm>
          <a:prstGeom prst="flowChartAlternateProcess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5"/>
          <p:cNvSpPr/>
          <p:nvPr/>
        </p:nvSpPr>
        <p:spPr>
          <a:xfrm>
            <a:off x="4114800" y="460044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l juez dicta sentencia de inmediato.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3886200" y="33526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4038480" y="3352680"/>
            <a:ext cx="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8"/>
          <p:cNvSpPr/>
          <p:nvPr/>
        </p:nvSpPr>
        <p:spPr>
          <a:xfrm>
            <a:off x="3581280" y="1676520"/>
            <a:ext cx="914400" cy="91440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3352680" y="1676520"/>
            <a:ext cx="14479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6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100" spc="-1" strike="noStrike">
                <a:solidFill>
                  <a:srgbClr val="000000"/>
                </a:solidFill>
                <a:latin typeface="Century Gothic"/>
              </a:rPr>
              <a:t>días hábil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6343200" y="5197320"/>
            <a:ext cx="163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10 días hábiles p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Reclamar (único rec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1"/>
          <p:cNvSpPr/>
          <p:nvPr/>
        </p:nvSpPr>
        <p:spPr>
          <a:xfrm>
            <a:off x="6172200" y="4800600"/>
            <a:ext cx="2209680" cy="914400"/>
          </a:xfrm>
          <a:prstGeom prst="upArrowCallout">
            <a:avLst>
              <a:gd name="adj1" fmla="val 60419"/>
              <a:gd name="adj2" fmla="val 60413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345360" y="243828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Audiencia única de conciliación, prueba y sen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3"/>
          <p:cNvSpPr/>
          <p:nvPr/>
        </p:nvSpPr>
        <p:spPr>
          <a:xfrm>
            <a:off x="6553080" y="3886200"/>
            <a:ext cx="1219320" cy="914400"/>
          </a:xfrm>
          <a:prstGeom prst="upArrowCallout">
            <a:avLst>
              <a:gd name="adj1" fmla="val 33340"/>
              <a:gd name="adj2" fmla="val 33337"/>
              <a:gd name="adj3" fmla="val 16667"/>
              <a:gd name="adj4" fmla="val 66660"/>
            </a:avLst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615360" y="4146480"/>
            <a:ext cx="90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citació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ntr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Century Gothic"/>
              </a:rPr>
              <a:t>de 15 dí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Line 25"/>
          <p:cNvSpPr/>
          <p:nvPr/>
        </p:nvSpPr>
        <p:spPr>
          <a:xfrm>
            <a:off x="5943600" y="556272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6"/>
          <p:cNvSpPr/>
          <p:nvPr/>
        </p:nvSpPr>
        <p:spPr>
          <a:xfrm>
            <a:off x="5943600" y="320040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553080" y="2819520"/>
            <a:ext cx="762120" cy="52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Century Gothic"/>
              </a:rPr>
              <a:t>15 dí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5T21:33:03Z</dcterms:created>
  <dc:creator>Ana Piquer</dc:creator>
  <dc:description/>
  <dc:language>en-US</dc:language>
  <cp:lastModifiedBy>sony</cp:lastModifiedBy>
  <dcterms:modified xsi:type="dcterms:W3CDTF">2009-03-17T23:35:25Z</dcterms:modified>
  <cp:revision>83</cp:revision>
  <dc:subject/>
  <dc:title>SUBCONTRAT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