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6F013C-2D1D-4944-9B93-46FC22DB8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8C6005-9931-47F9-8BD9-3160211A1A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7CBB03-B8ED-489E-AAB9-E48F57085E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9B9A10-6F3F-422D-8EA6-D55DE090CF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748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776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748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776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419720" y="5866920"/>
            <a:ext cx="441936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0" y="6083280"/>
            <a:ext cx="9142560" cy="40176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ofesor Claudio Palavecino Cáce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" name="Picture 9" descr="pt"/>
          <p:cNvPicPr/>
          <p:nvPr/>
        </p:nvPicPr>
        <p:blipFill>
          <a:blip r:embed="rId2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pt"/>
          <p:cNvPicPr/>
          <p:nvPr/>
        </p:nvPicPr>
        <p:blipFill>
          <a:blip r:embed="rId3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pt"/>
          <p:cNvPicPr/>
          <p:nvPr/>
        </p:nvPicPr>
        <p:blipFill>
          <a:blip r:embed="rId4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5" descr="pt"/>
          <p:cNvPicPr/>
          <p:nvPr/>
        </p:nvPicPr>
        <p:blipFill>
          <a:blip r:embed="rId5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1761840"/>
            <a:ext cx="8207280" cy="17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Century Gothic"/>
              </a:rPr>
              <a:t>NUEVA JUSTICIA LABORAL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9440" y="2746080"/>
            <a:ext cx="820116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Century Gothic"/>
              </a:rPr>
              <a:t>Su impacto sobre la Empr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Justicia en coma"/>
          <p:cNvPicPr/>
          <p:nvPr/>
        </p:nvPicPr>
        <p:blipFill>
          <a:blip r:embed="rId1"/>
          <a:stretch/>
        </p:blipFill>
        <p:spPr>
          <a:xfrm>
            <a:off x="1981080" y="4572000"/>
            <a:ext cx="5105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esor Claudio Palaveci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609480"/>
            <a:ext cx="8199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Procedimiento Monitor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914400" y="19051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Contiendas de cuantía igual o inferior a 10 IMM (sin considerar increment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Reclamación por despido de trabajadora con fuero maternal. No requiere reclamo previo ante Inspección del Trabaj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Reclamación judicial de multas de cuantía igual o inferior a 10 IM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Reclamación judicial de resoluciones de la DT distintas de la multa administrativa o de la reconside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Importancia de comparecencia ante la Inspección del 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IMPACTO SOBRE LA EMPRES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3600" y="1142640"/>
            <a:ext cx="86900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000000"/>
                </a:solidFill>
                <a:uFillTx/>
                <a:latin typeface="Century Gothic"/>
              </a:rPr>
              <a:t>1.- Limitación severa al derecho a ejercer una defensa jurídica eficaz de sus interes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Mayores poderes formales y materiales del juez laboral (hasta configurar un sistema inquisitivo de “justicia” labora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Cargas probatorias dinám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Sistema de impugnaciones limit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Tribunal </a:t>
            </a:r>
            <a:r>
              <a:rPr b="0" i="1" lang="es-CL" sz="2600" spc="-1" strike="noStrike">
                <a:solidFill>
                  <a:srgbClr val="000000"/>
                </a:solidFill>
                <a:latin typeface="Century Gothic"/>
              </a:rPr>
              <a:t>estructuralmente parcial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 y juez </a:t>
            </a:r>
            <a:r>
              <a:rPr b="0" i="1" lang="es-CL" sz="2600" spc="-1" strike="noStrike">
                <a:solidFill>
                  <a:srgbClr val="000000"/>
                </a:solidFill>
                <a:latin typeface="Century Gothic"/>
              </a:rPr>
              <a:t>ideológicamente parcial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2126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2126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2126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Century Gothic"/>
              </a:rPr>
              <a:t>Potestades formales o de dirección del nuevo juez laboral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En los procedimientos del trabajo primará el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“impulso procesal de oficio” 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(art. 425 CT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“…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una vez reclamada su intervención actuará de oficio… 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(art. 429 inc. 1° CT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Admitida la demanda a tramitación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, [...] deberá,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de inmediato y sin más trámite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, citar a las partes a una audiencia…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(art. 451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Adoptará 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“las medidas tendientes a evitar la paralización del proceso o su prolongación indebida y, en consecuencia, no será aplicable el abandono del procedimiento”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 (art.429, inc. 2°,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“…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corregirá de oficio los errores que observe en la tramitación del juicio y adoptará las medidas que tiendan a evitar la nulidad del procedimiento”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 (art. 429, inc. 3°,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Dispondrá la forma en que se practicará una determinada actuación cuando no se pueda aplicar supletoriamente los Libros I y II del CPC, por ser sus normas contrarias a los principios del procedimiento laboral (art. 432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 u="sng">
                <a:solidFill>
                  <a:srgbClr val="000000"/>
                </a:solidFill>
                <a:uFillTx/>
                <a:latin typeface="Century Gothic"/>
              </a:rPr>
              <a:t>Potestades materiales del nuevo juez laboral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 apertura del periodo probator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El objeto de la prueba (los hechos)  y su incorporación al proces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 admisión de los medios de prue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 práctica de los medios de prue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Prueba de ofic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Configuración de un sistema inquisitivo de juzgamiento = lesión de la garantía del justo y racion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ncompatibilidad de funciones procesales entre instrucción y juzgamiento (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mpartialidad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l juzgador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Si el juez no puede asumir el papel de parte […], es obvio que no puede ni debe hacer las cosas propias de las partes procesales y que hacen a la esencia de esas calidades. Y así, no ha de afirmar pretensiones, ni introducir hechos, ni probar hechos que han afirmado otros…” (ALVARADO VELLOSO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Configuración de un sistema inquisitivo de juzgamiento = lesión de la garantía del justo y racion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Ausencia de interés subjetivo en la solución del litigio (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mparcialidad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l juzgad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La actividad instructora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, en cuanto para el que la lleva a cabo supone entrar en contacto directo con el acusado y con los hechos y datos que deben servir para averiguar el delito y sus posibles responsables,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puede provocar en el ánimo del instructor prejuicios e impresiones a favor o en contra del acusado que influyan a la hora de sentenciar.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 Y aunque aquello no suceda es difícil evitar la impresión de que el juez no acomete la función de juzgar sin la plena imparcialidad que le es exigible” (STC español 145/1988 de 12 de julio).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 u="sng">
                <a:solidFill>
                  <a:srgbClr val="000000"/>
                </a:solidFill>
                <a:uFillTx/>
                <a:latin typeface="Century Gothic"/>
              </a:rPr>
              <a:t>“</a:t>
            </a:r>
            <a:r>
              <a:rPr b="1" lang="es-CL" sz="2600" spc="-1" strike="noStrike" u="sng">
                <a:solidFill>
                  <a:srgbClr val="000000"/>
                </a:solidFill>
                <a:uFillTx/>
                <a:latin typeface="Century Gothic"/>
              </a:rPr>
              <a:t>Cargas probatorias dinámicas”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 (art. 453 N°1, incs. 7° y 8°, art. 495 CT)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Exclusión del art. 1.698 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El juez y no la ley determina la carga de la prueba</a:t>
            </a:r>
            <a:r>
              <a:rPr b="0" i="1" lang="es-CL" sz="26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Incertidumbre y amplio margen al decisionismo judicia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s reglas de incumbencia probatoria operan en la etapa de dictación de sent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Limitación a la posibilidad de impugnar las resoluciones: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n la audiencia la reposición se resuelve de inmediato, sin ulterior recu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sentencia definitiva no es ape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os hechos quedan fijados irrevocablemente por el juez de primera instancia, Corte de Apelaciones sólo revisa la aplicación del Derecho: </a:t>
            </a: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Recurso de Nulidad:</a:t>
            </a: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fracción sustancial de derechos o garantías constitu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fracción de ley que influya sustancialmente en lo dispositivo del fa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competencia, infracción a normas de apreciación de la prueba, violación de la inmediación, entre 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Debe prepararse el recurso (agotar instancias previa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Plazo: 10 dí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fecto suspens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125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31800" indent="-288720" algn="just">
              <a:lnSpc>
                <a:spcPct val="9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Century Gothic"/>
              </a:rPr>
              <a:t>Limitado acceso a la Corte Suprema: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Century Gothic"/>
              </a:rPr>
              <a:t>Recurso de Unificación de Jurisprud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Sólo si existen distintas interpretaciones, sobre la misma materia en fallos de Cortes de Apelaciones o Corte Supr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No procede en el procedimiento monitorio ni contra sentencias recaídas en reclamación  de infrac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Debe acompañarse copia de los fal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Plazo: 15 días, ante la Corte de Apel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No suspende la ejecución del fallo recurr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Fallo produce efecto relativo, no afecta otras sent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El desequilibrio entre las partes de la relación de trabajo, se proyecta también sobre el proceso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. “El desequilibrio probatorio es el drama del trabajador litigante”</a:t>
            </a:r>
            <a:r>
              <a:rPr b="0" i="1" lang="es-CL" sz="2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(SARTHOU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“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Esa notable 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desigualdad real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be ser paliada. Pero no por el juez, encargado final de asegurar la 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gualdad jurídica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 las partes procesales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. Antes bien podrá ser cuidada por defensores </a:t>
            </a:r>
            <a:r>
              <a:rPr b="0" i="1" lang="es-CL" sz="2100" spc="-1" strike="noStrike">
                <a:solidFill>
                  <a:srgbClr val="000000"/>
                </a:solidFill>
                <a:latin typeface="Century Gothic"/>
              </a:rPr>
              <a:t>ad hoc,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 por asesores en el litigio […], por muchos y variados funcionarios […] quienes se dediquen con exclusividad a ello. Pero insisto: nunca por el juez pues, al desnivelar la igualdad jurídica para lograr una supuesta y nunca alcanzada igualdad real, logra sólo desequilibrar el fiel de la balanza de la Justicia y hacer ilegítima su sentencia” (ALVARADO VELLOSO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Funcionamiento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264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En la totalidad de las regiones (II, XII, IV, V y XIV) donde se ha implementado la nueva justicia Laboral se han presentado 5.805 caso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Reg. V (1.849) y Reg. IV (1.34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Del total de 5.805 casos 1.264 fueron demandas presentadas ante las Oficinas de Defensa Laboral, las que ha logrado terminar un total de 674 (53,3%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IMPACTO SOBRE LA EMPRES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3600" y="1143000"/>
            <a:ext cx="8223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70000"/>
              </a:lnSpc>
              <a:spcBef>
                <a:spcPts val="1375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0000"/>
                </a:solidFill>
                <a:uFillTx/>
                <a:latin typeface="Century Gothic"/>
              </a:rPr>
              <a:t>2.- Limitación severa a las facultades de dirección y organización del empresario a través del procedimiento de tulela de los derechos fundamentales</a:t>
            </a:r>
            <a:r>
              <a:rPr b="1" lang="es-CL" sz="2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imita la gestión y administración de los RRH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Cualquier medida que adopte la empresa debe aprobar el </a:t>
            </a:r>
            <a:r>
              <a:rPr b="0" i="1" lang="es-CL" sz="1800" spc="-1" strike="noStrike">
                <a:solidFill>
                  <a:srgbClr val="000000"/>
                </a:solidFill>
                <a:latin typeface="Century Gothic"/>
              </a:rPr>
              <a:t>test </a:t>
            </a: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de los derechos constitu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denuncia la puede hacer el trabajador afectado, el sindicato o la Inspección del Trabajo, salvo en las causas por desp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l juez puede suspender la medida del empleador que afecta los derechos constitucionales del trabajador desde que se presente la denu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demnización adicional por lesión de derechos fundamentales y por daño moral / nulidad de desp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Necesidad de aprobación judicial de los acuerdos que pongan término al juic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entury Gothic"/>
              </a:rPr>
              <a:t>2.- Limitación de la libertad de empresa a través del procedimiento de tutela laboral</a:t>
            </a:r>
            <a:endParaRPr b="1" lang="en-US" sz="28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3600" y="1828800"/>
            <a:ext cx="822348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70000"/>
              </a:lnSpc>
              <a:spcBef>
                <a:spcPts val="938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 u="sng">
                <a:solidFill>
                  <a:srgbClr val="000000"/>
                </a:solidFill>
                <a:uFillTx/>
                <a:latin typeface="Century Gothic"/>
              </a:rPr>
              <a:t>Numerosas hipótesis de conflicto de intereses con ocasión de los derechos protegidos</a:t>
            </a:r>
            <a:r>
              <a:rPr b="0" lang="es-CL" sz="1500" spc="-1" strike="noStrike" u="sng">
                <a:solidFill>
                  <a:srgbClr val="000000"/>
                </a:solidFill>
                <a:uFillTx/>
                <a:latin typeface="Century Gothic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l derecho a la vida y a la integridad física y psíquica de l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l respeto y protección a la vida privada y a la honra de la persona y de su famil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inviolabilidad de toda forma de comunicación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libertad de conciencia, la manifestación de todas las creencias y el ejercicio libre de todos los cul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libertad de emitir opinión y la de infor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libertad de trabajo y el derecho a su libre elec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Actos discriminatorios (fundados en la raza, color, sexo, edad, estado civil, sindicación, religión, opinión política, nacionalidad, ascendencia nacional u origen soci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Libertad sin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 u="sng">
                <a:solidFill>
                  <a:srgbClr val="00a28a"/>
                </a:solidFill>
                <a:uFillTx/>
                <a:latin typeface="Arial"/>
              </a:rPr>
              <a:t>Con todo, los derechos fundamentales no son absolutos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Se entiende que el ejercicio de las facultades que la ley le reconoce al empleador lesiona las garantías constitucionales del trabajador</a:t>
            </a:r>
            <a:r>
              <a:rPr b="0" i="1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cuando:</a:t>
            </a:r>
            <a:r>
              <a:rPr b="0" i="1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s-CL" sz="3000" spc="-1" strike="noStrike" u="sng">
                <a:solidFill>
                  <a:srgbClr val="000000"/>
                </a:solidFill>
                <a:uFillTx/>
                <a:latin typeface="Century Gothic"/>
              </a:rPr>
              <a:t>limita el pleno ejercicio de aquéllas sin justificación suficiente, en forma arbitraria o desproporcionada, o sin respeto a su contenido esencial”.</a:t>
            </a:r>
            <a:r>
              <a:rPr b="0" i="1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IMPACTO SOBRE LA EMPRES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 algn="just">
              <a:lnSpc>
                <a:spcPct val="70000"/>
              </a:lnSpc>
              <a:spcBef>
                <a:spcPts val="1375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0000"/>
                </a:solidFill>
                <a:uFillTx/>
                <a:latin typeface="Century Gothic"/>
              </a:rPr>
              <a:t>3.- Rigidización de desp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El aviso de despido fija de manera inmutable los hechos que puede alegar el empleador en juic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Carta de aviso de terminación inc. 1° Art. 161: nuevo título ejecutiv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La causal necesidades de la empresa se vuelve más riesgosa si no es comprobable. Necesidad de planificar alternativas de termin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lanes de retir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Indemnización adicional de 6-11 meses por despido con lesión de garantías constitucion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Nulidad del despido discriminatorio. Reincorpor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Recomendaciones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Adecuada selección de personas. Una  vez contratadas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Definición de políticas claras, conocidas y … constitucionales (importancia del RIOHS)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Selección, promoción y desvinculació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olíticas de inclusión, diversidad y no discriminación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olíticas de relaciones laborales y comunicacion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olíticas de seguridad e informátic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En caso de conflicto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Empresa v/s trabajador + defensor laboral + Inspección del Trabajo + Juez + Sindica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Desequilibrio en PYM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Registro y administración de documen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Funcionamiento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El tiempo promedio desde que una demanda es presentada ante tribunales y hasta que se ha dictado sentencia es de 40 días aproximadament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De las demandas representadas por las Oficinas de Defensa Laboral, las materias más recurrentes son: nulidades de despido (451); despidos injustificados (365); cobro de prestaciones (269); auto despidos (15); y Desafueros (45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Funcionamiento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Del total de causas terminadas por las Oficinas de Defensa laboral (1264); 361 (28,5%) han sido con sentencia favorable para los trabajadores; 13 (1%)han sido desfavorables, en 267 casos se ha llegado a conciliación o avenimiento (21%); y en otros 33 casos, los representados han presentado su renuncia al patrocini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a28a"/>
                </a:solidFill>
                <a:latin typeface="Century Gothic"/>
              </a:rPr>
              <a:t>Reforma integral a la Justicia Laboral</a:t>
            </a:r>
            <a:r>
              <a:rPr b="1" lang="es-ES_tradnl" sz="4000" spc="-1" strike="noStrike">
                <a:solidFill>
                  <a:srgbClr val="00a28a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000000"/>
                </a:solidFill>
                <a:uFillTx/>
                <a:latin typeface="Arial"/>
              </a:rPr>
              <a:t>Orgánica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 (nuevos tribunales especializados, nueva estructura intern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000000"/>
                </a:solidFill>
                <a:uFillTx/>
                <a:latin typeface="Arial"/>
              </a:rPr>
              <a:t>Nuevos Procedimento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-Aplicación general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-Tutela laboral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-Monitorio 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abor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C</a:t>
            </a: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obranza laboral y prevision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Justicia en coma"/>
          <p:cNvPicPr/>
          <p:nvPr/>
        </p:nvPicPr>
        <p:blipFill>
          <a:blip r:embed="rId1"/>
          <a:stretch/>
        </p:blipFill>
        <p:spPr>
          <a:xfrm>
            <a:off x="586728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ronogram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06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4 Marcador de contenido" descr="http://www.minjusticia.cl/laboral/final/cronograma_clip_image002.gif"/>
          <p:cNvPicPr/>
          <p:nvPr/>
        </p:nvPicPr>
        <p:blipFill>
          <a:blip r:embed="rId1"/>
          <a:stretch/>
        </p:blipFill>
        <p:spPr>
          <a:xfrm>
            <a:off x="685800" y="1523880"/>
            <a:ext cx="7543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5 Marcador de contenido" descr="Flujograma Proc gral.jpg"/>
          <p:cNvPicPr/>
          <p:nvPr/>
        </p:nvPicPr>
        <p:blipFill>
          <a:blip r:embed="rId1"/>
          <a:stretch/>
        </p:blipFill>
        <p:spPr>
          <a:xfrm>
            <a:off x="2266920" y="457200"/>
            <a:ext cx="4514760" cy="5753160"/>
          </a:xfrm>
          <a:prstGeom prst="rect">
            <a:avLst/>
          </a:prstGeom>
          <a:ln w="0">
            <a:noFill/>
          </a:ln>
        </p:spPr>
      </p:pic>
      <p:sp>
        <p:nvSpPr>
          <p:cNvPr id="109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49"/>
          <p:cNvSpPr/>
          <p:nvPr/>
        </p:nvSpPr>
        <p:spPr>
          <a:xfrm>
            <a:off x="1849320" y="115920"/>
            <a:ext cx="1656000" cy="64764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50"/>
          <p:cNvSpPr/>
          <p:nvPr/>
        </p:nvSpPr>
        <p:spPr>
          <a:xfrm>
            <a:off x="1849320" y="2895480"/>
            <a:ext cx="1656000" cy="64944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1908000" y="189000"/>
            <a:ext cx="165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Demada (general)/ denuncia (tutela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2"/>
          <p:cNvSpPr/>
          <p:nvPr/>
        </p:nvSpPr>
        <p:spPr>
          <a:xfrm>
            <a:off x="1849320" y="297180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Audiencia (1) preparato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53"/>
          <p:cNvSpPr/>
          <p:nvPr/>
        </p:nvSpPr>
        <p:spPr>
          <a:xfrm>
            <a:off x="2362320" y="765000"/>
            <a:ext cx="53316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54"/>
          <p:cNvSpPr/>
          <p:nvPr/>
        </p:nvSpPr>
        <p:spPr>
          <a:xfrm>
            <a:off x="2340000" y="3505320"/>
            <a:ext cx="533520" cy="720720"/>
          </a:xfrm>
          <a:prstGeom prst="downArrow">
            <a:avLst>
              <a:gd name="adj1" fmla="val 50000"/>
              <a:gd name="adj2" fmla="val 33772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55"/>
          <p:cNvSpPr/>
          <p:nvPr/>
        </p:nvSpPr>
        <p:spPr>
          <a:xfrm>
            <a:off x="1925640" y="464832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Audiencia (2) de jui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56"/>
          <p:cNvSpPr/>
          <p:nvPr/>
        </p:nvSpPr>
        <p:spPr>
          <a:xfrm>
            <a:off x="1849320" y="4572000"/>
            <a:ext cx="1656000" cy="64944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57"/>
          <p:cNvSpPr/>
          <p:nvPr/>
        </p:nvSpPr>
        <p:spPr>
          <a:xfrm>
            <a:off x="1849320" y="5791320"/>
            <a:ext cx="1656000" cy="64908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8"/>
          <p:cNvSpPr/>
          <p:nvPr/>
        </p:nvSpPr>
        <p:spPr>
          <a:xfrm>
            <a:off x="1676520" y="5892840"/>
            <a:ext cx="19810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Sentencia Audiencia: 15/10 dí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(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59"/>
          <p:cNvSpPr/>
          <p:nvPr/>
        </p:nvSpPr>
        <p:spPr>
          <a:xfrm>
            <a:off x="2362320" y="5181480"/>
            <a:ext cx="533160" cy="50508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66"/>
          <p:cNvSpPr/>
          <p:nvPr/>
        </p:nvSpPr>
        <p:spPr>
          <a:xfrm>
            <a:off x="4114800" y="4724280"/>
            <a:ext cx="2971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Rendición de la pru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Sentencia (opcion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71"/>
          <p:cNvSpPr/>
          <p:nvPr/>
        </p:nvSpPr>
        <p:spPr>
          <a:xfrm>
            <a:off x="1849320" y="1268280"/>
            <a:ext cx="1656000" cy="64800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72"/>
          <p:cNvSpPr/>
          <p:nvPr/>
        </p:nvSpPr>
        <p:spPr>
          <a:xfrm>
            <a:off x="2340000" y="1905120"/>
            <a:ext cx="533520" cy="863640"/>
          </a:xfrm>
          <a:prstGeom prst="downArrow">
            <a:avLst>
              <a:gd name="adj1" fmla="val 50000"/>
              <a:gd name="adj2" fmla="val 404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3"/>
          <p:cNvSpPr/>
          <p:nvPr/>
        </p:nvSpPr>
        <p:spPr>
          <a:xfrm>
            <a:off x="1839960" y="1197000"/>
            <a:ext cx="1893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Contes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5 días antes 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AP (Notif. 15 día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86"/>
          <p:cNvSpPr/>
          <p:nvPr/>
        </p:nvSpPr>
        <p:spPr>
          <a:xfrm>
            <a:off x="4114800" y="476280"/>
            <a:ext cx="2895480" cy="129708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itación a 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dentro de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35 dí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Suspensión de la medid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Reclamada (en p.tutel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87"/>
          <p:cNvSpPr/>
          <p:nvPr/>
        </p:nvSpPr>
        <p:spPr>
          <a:xfrm>
            <a:off x="2771640" y="765000"/>
            <a:ext cx="129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92"/>
          <p:cNvSpPr/>
          <p:nvPr/>
        </p:nvSpPr>
        <p:spPr>
          <a:xfrm>
            <a:off x="4419720" y="2459160"/>
            <a:ext cx="324000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Relación sumaria / Traslados excepciones / reconven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oncili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ausa a prue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Oferta de prue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Admisión de prue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itación a AJ –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30 dí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93"/>
          <p:cNvSpPr/>
          <p:nvPr/>
        </p:nvSpPr>
        <p:spPr>
          <a:xfrm>
            <a:off x="3924360" y="2421000"/>
            <a:ext cx="503280" cy="2016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94"/>
          <p:cNvSpPr/>
          <p:nvPr/>
        </p:nvSpPr>
        <p:spPr>
          <a:xfrm>
            <a:off x="3851280" y="4653000"/>
            <a:ext cx="649440" cy="914400"/>
          </a:xfrm>
          <a:custGeom>
            <a:avLst/>
            <a:gdLst>
              <a:gd name="textAreaLeft" fmla="*/ 415080 w 649440"/>
              <a:gd name="textAreaRight" fmla="*/ 649800 w 6494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rofesor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320" y="2771640"/>
            <a:ext cx="165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Denuncia ante Inspección del 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52280" y="2514600"/>
            <a:ext cx="165600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9528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a28a"/>
                </a:solidFill>
                <a:latin typeface="Century Gothic"/>
              </a:rPr>
              <a:t>Procedimiento Monito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209680" y="2514600"/>
            <a:ext cx="165600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4267080" y="2514600"/>
            <a:ext cx="165600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6345360" y="2209680"/>
            <a:ext cx="165564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209680" y="266688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Comparendo de concili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Inspe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1828800" y="33526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4191120" y="2666880"/>
            <a:ext cx="165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Demanda ante  Tribunal del 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5105520" y="41911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4267080" y="4648320"/>
            <a:ext cx="1656000" cy="106668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4114800" y="460044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El juez dicta sentencia de inmediato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3886200" y="33526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4038480" y="335268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3581280" y="167652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3352680" y="1676520"/>
            <a:ext cx="144792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Century Gothic"/>
              </a:rPr>
              <a:t>días hábil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6343200" y="5197320"/>
            <a:ext cx="163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10 días hábiles p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Reclamar (único re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1"/>
          <p:cNvSpPr/>
          <p:nvPr/>
        </p:nvSpPr>
        <p:spPr>
          <a:xfrm>
            <a:off x="6172200" y="4800600"/>
            <a:ext cx="2209680" cy="914400"/>
          </a:xfrm>
          <a:prstGeom prst="upArrowCallout">
            <a:avLst>
              <a:gd name="adj1" fmla="val 60419"/>
              <a:gd name="adj2" fmla="val 60413"/>
              <a:gd name="adj3" fmla="val 16667"/>
              <a:gd name="adj4" fmla="val 6666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6345360" y="2438280"/>
            <a:ext cx="165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Audiencia única de conciliación, prueba y sent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3"/>
          <p:cNvSpPr/>
          <p:nvPr/>
        </p:nvSpPr>
        <p:spPr>
          <a:xfrm>
            <a:off x="6553080" y="3886200"/>
            <a:ext cx="1219320" cy="914400"/>
          </a:xfrm>
          <a:prstGeom prst="upArrowCallout">
            <a:avLst>
              <a:gd name="adj1" fmla="val 33340"/>
              <a:gd name="adj2" fmla="val 33337"/>
              <a:gd name="adj3" fmla="val 16667"/>
              <a:gd name="adj4" fmla="val 6666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6615360" y="4146480"/>
            <a:ext cx="906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citaci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dentr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de 15 dí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25"/>
          <p:cNvSpPr/>
          <p:nvPr/>
        </p:nvSpPr>
        <p:spPr>
          <a:xfrm>
            <a:off x="5943600" y="5562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5943600" y="32004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553080" y="2819520"/>
            <a:ext cx="7621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entury Gothic"/>
              </a:rPr>
              <a:t>15 dí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1:33:03Z</dcterms:created>
  <dc:creator>Ana Piquer</dc:creator>
  <dc:description/>
  <dc:language>en-US</dc:language>
  <cp:lastModifiedBy>sony</cp:lastModifiedBy>
  <dcterms:modified xsi:type="dcterms:W3CDTF">2009-03-17T23:35:25Z</dcterms:modified>
  <cp:revision>83</cp:revision>
  <dc:subject/>
  <dc:title>SUBCONTRAT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