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02F0-D68F-4A6E-8602-22422D91B54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90FB-9D3C-4A32-AFA1-5EFC80343DF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F8EB-DBE4-432A-B4AC-D9FFEFAEF28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F49D-0541-4EF6-822B-ADA31648472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3FAC-E5B3-4115-A52B-C633B7949B7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6B31-4A62-478A-AC07-EEB0D6A1C6A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CD46-464A-465F-926A-A489EC479E2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D7BF-DDFD-4758-B56A-682BE72742B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33E3-BCED-40E0-BF8E-53981731F8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04840" y="6764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0815-2CC9-4CDD-B0B7-797BCACABE1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A6B3-E4EC-4BD1-A98D-4E222B9D73C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7B06-4017-45DA-A996-159C093BEAD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544C-6E80-4777-A1AC-AFFB15FBD89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C67E-D20E-48E2-AF6A-A9EED77BF8B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04840" y="6764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1C32-EFD4-4057-A13F-F84602BCD1B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E52-C623-462E-9F47-65717D17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E75-5DC8-4F76-8A3F-8EB46566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59A-5761-4C3B-9D40-1F3E5DFF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510-ACE9-4228-AB63-5D496570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386E-9AC6-41CF-AFFD-70423066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F455-E46F-4A67-802B-E3541AE8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046E-6A53-4910-B737-8BDA2DEC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21D3-9E93-4118-A213-67E72E66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7C18-ABB4-41AD-B62F-8997E519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BF27-BB5F-4ACE-8721-8D13E39D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131D-5C2D-4C16-9ED1-63CE2821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D7C-B1F2-4C3D-853C-EDA7C6D0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6373-A727-4418-8E23-8319BD86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FB5B-0980-4FCC-80AB-BA1D45F2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A135-3970-476F-BBB5-2788B37B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ADA9-5BC1-4639-9795-73E19181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793A-F256-4E24-99FF-4E45F256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51F-D7B8-40DE-8E54-10A24675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702-750A-4BAA-BAA6-FA54A1CC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17D-E6B9-4227-9DF9-FA23749C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68DB-5E7F-42A2-9A0A-123DE674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9FE9-4143-4516-B4FF-679E4134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532-2A2F-47FB-8066-3D402208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66E-BCD6-442C-909A-5981EAD1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9FA8-F045-44F9-A9F3-1B62514357F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BC95-770E-4BB4-9791-9528E7B432D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1763640" y="69228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ANCIAMIENTO EN E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RCADO DE VAL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399960" y="3929040"/>
            <a:ext cx="301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29" descr="Facultad"/>
          <p:cNvPicPr/>
          <p:nvPr/>
        </p:nvPicPr>
        <p:blipFill>
          <a:blip r:embed="rId1"/>
          <a:stretch/>
        </p:blipFill>
        <p:spPr>
          <a:xfrm>
            <a:off x="6588000" y="5975280"/>
            <a:ext cx="2016360" cy="478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0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612000" y="62244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S FANTASMAS DE RÉGIMENES FIDUCI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¿REALIDAD O FICCIÓ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971640" y="1628640"/>
            <a:ext cx="784836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XISTENCIA DE LOS AC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BIDA TRANSFERENCIA AL SPV: True S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ERMANENCIA DE LOS ACTIVOS EN EL P. SEPARADO DURANTE TODA SU VIGENCIA. Cesación de efectos de contratos, sanciones absolutas (nulidades), relativas (condición resolutoria, inoponibilidades, quiebra remota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CTIVOS: Los flujos que ellos generen deben destinarse al pago de los títulos de deu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ASIVOS: No contaminación de los activos con más pasivos que la emisión de títulos de deu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509840" y="62064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HORA SI: ESTRUCTURA DE SECURITIZACIÓN DE ACTIVOS [Estructura Propietaria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09480" y="2362320"/>
            <a:ext cx="1082880" cy="142704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987640" y="1916280"/>
            <a:ext cx="1355760" cy="136836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curitizad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8" name="AutoShape 7"/>
          <p:cNvCxnSpPr>
            <a:endCxn id="197" idx="1"/>
          </p:cNvCxnSpPr>
          <p:nvPr/>
        </p:nvCxnSpPr>
        <p:spPr>
          <a:xfrm>
            <a:off x="1676520" y="2590920"/>
            <a:ext cx="13114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8"/>
          <p:cNvSpPr/>
          <p:nvPr/>
        </p:nvSpPr>
        <p:spPr>
          <a:xfrm>
            <a:off x="1600200" y="2200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CEDE ACTIVOS SECURITIZABL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Oval 23"/>
          <p:cNvSpPr/>
          <p:nvPr/>
        </p:nvSpPr>
        <p:spPr>
          <a:xfrm>
            <a:off x="5715000" y="2286000"/>
            <a:ext cx="990720" cy="6094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t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6"/>
          <p:cNvSpPr/>
          <p:nvPr/>
        </p:nvSpPr>
        <p:spPr>
          <a:xfrm>
            <a:off x="4343400" y="213372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SUME OBLIGACIÓN PAGO VALORES SECURITIZADOS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7020000" y="4187880"/>
            <a:ext cx="1655640" cy="60948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intendenc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Valores [SVS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30"/>
          <p:cNvSpPr/>
          <p:nvPr/>
        </p:nvSpPr>
        <p:spPr>
          <a:xfrm>
            <a:off x="43434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04" name="AutoShape 32"/>
          <p:cNvCxnSpPr/>
          <p:nvPr/>
        </p:nvCxnSpPr>
        <p:spPr>
          <a:xfrm>
            <a:off x="6705720" y="25905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33"/>
          <p:cNvCxnSpPr>
            <a:stCxn id="206" idx="0"/>
          </p:cNvCxnSpPr>
          <p:nvPr/>
        </p:nvCxnSpPr>
        <p:spPr>
          <a:xfrm flipH="1" flipV="1">
            <a:off x="4809600" y="5446800"/>
            <a:ext cx="6184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Oval 35"/>
          <p:cNvSpPr/>
          <p:nvPr/>
        </p:nvSpPr>
        <p:spPr>
          <a:xfrm>
            <a:off x="7821720" y="2963880"/>
            <a:ext cx="1143000" cy="6094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rtificado 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6442200" y="363996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900" spc="-1" strike="noStrike">
                <a:solidFill>
                  <a:srgbClr val="000000"/>
                </a:solidFill>
                <a:latin typeface="Arial"/>
              </a:rPr>
              <a:t>Solicitud de inscripció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900" spc="-1" strike="noStrike">
                <a:solidFill>
                  <a:srgbClr val="000000"/>
                </a:solidFill>
                <a:latin typeface="Arial"/>
              </a:rPr>
              <a:t>en registro de valo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Oval 39"/>
          <p:cNvSpPr/>
          <p:nvPr/>
        </p:nvSpPr>
        <p:spPr>
          <a:xfrm>
            <a:off x="7596360" y="5516640"/>
            <a:ext cx="990360" cy="53316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crip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Oval 40"/>
          <p:cNvSpPr/>
          <p:nvPr/>
        </p:nvSpPr>
        <p:spPr>
          <a:xfrm>
            <a:off x="4932360" y="5805360"/>
            <a:ext cx="990720" cy="60984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loca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Oval 42"/>
          <p:cNvSpPr/>
          <p:nvPr/>
        </p:nvSpPr>
        <p:spPr>
          <a:xfrm>
            <a:off x="1763640" y="6059520"/>
            <a:ext cx="1371600" cy="6094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caudación 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 colocació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1" name="AutoShape 54"/>
          <p:cNvCxnSpPr>
            <a:endCxn id="206" idx="6"/>
          </p:cNvCxnSpPr>
          <p:nvPr/>
        </p:nvCxnSpPr>
        <p:spPr>
          <a:xfrm flipH="1">
            <a:off x="5922720" y="61099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55"/>
          <p:cNvCxnSpPr/>
          <p:nvPr/>
        </p:nvCxnSpPr>
        <p:spPr>
          <a:xfrm rot="10800000">
            <a:off x="1042200" y="5589000"/>
            <a:ext cx="83916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Oval 57"/>
          <p:cNvSpPr/>
          <p:nvPr/>
        </p:nvSpPr>
        <p:spPr>
          <a:xfrm>
            <a:off x="2556000" y="4365720"/>
            <a:ext cx="1434960" cy="685800"/>
          </a:xfrm>
          <a:prstGeom prst="ellipse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arado (P.S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Oval 58"/>
          <p:cNvSpPr/>
          <p:nvPr/>
        </p:nvSpPr>
        <p:spPr>
          <a:xfrm>
            <a:off x="468360" y="4906800"/>
            <a:ext cx="1219320" cy="609840"/>
          </a:xfrm>
          <a:prstGeom prst="ellipse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ú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5" name="AutoShape 59"/>
          <p:cNvCxnSpPr/>
          <p:nvPr/>
        </p:nvCxnSpPr>
        <p:spPr>
          <a:xfrm flipH="1">
            <a:off x="4066920" y="3428640"/>
            <a:ext cx="21816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62"/>
          <p:cNvCxnSpPr>
            <a:stCxn id="207" idx="4"/>
            <a:endCxn id="202" idx="0"/>
          </p:cNvCxnSpPr>
          <p:nvPr/>
        </p:nvCxnSpPr>
        <p:spPr>
          <a:xfrm rot="5400000">
            <a:off x="7813080" y="3608280"/>
            <a:ext cx="615240" cy="545040"/>
          </a:xfrm>
          <a:prstGeom prst="bentConnector3">
            <a:avLst>
              <a:gd name="adj1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63"/>
          <p:cNvCxnSpPr/>
          <p:nvPr/>
        </p:nvCxnSpPr>
        <p:spPr>
          <a:xfrm rot="5400000">
            <a:off x="7906320" y="4846320"/>
            <a:ext cx="1394640" cy="14364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Rectangle 65"/>
          <p:cNvSpPr/>
          <p:nvPr/>
        </p:nvSpPr>
        <p:spPr>
          <a:xfrm>
            <a:off x="4573440" y="3139920"/>
            <a:ext cx="1727280" cy="43344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te. Tened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Bonos [RTB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66"/>
          <p:cNvSpPr/>
          <p:nvPr/>
        </p:nvSpPr>
        <p:spPr>
          <a:xfrm>
            <a:off x="6156360" y="5229360"/>
            <a:ext cx="1368360" cy="86364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cado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67"/>
          <p:cNvSpPr/>
          <p:nvPr/>
        </p:nvSpPr>
        <p:spPr>
          <a:xfrm>
            <a:off x="2908440" y="3855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PORTA ACTIVOS SECURITIZABL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68"/>
          <p:cNvSpPr/>
          <p:nvPr/>
        </p:nvSpPr>
        <p:spPr>
          <a:xfrm>
            <a:off x="-108000" y="429588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AGA PRECIO CESIO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DE ACTIVO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2" name="AutoShape 69"/>
          <p:cNvCxnSpPr>
            <a:stCxn id="214" idx="0"/>
            <a:endCxn id="196" idx="2"/>
          </p:cNvCxnSpPr>
          <p:nvPr/>
        </p:nvCxnSpPr>
        <p:spPr>
          <a:xfrm flipV="1">
            <a:off x="1077480" y="3789360"/>
            <a:ext cx="73800" cy="11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AutoShape 70"/>
          <p:cNvCxnSpPr/>
          <p:nvPr/>
        </p:nvCxnSpPr>
        <p:spPr>
          <a:xfrm flipH="1">
            <a:off x="1476000" y="3357720"/>
            <a:ext cx="1512000" cy="15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Oval 72"/>
          <p:cNvSpPr/>
          <p:nvPr/>
        </p:nvSpPr>
        <p:spPr>
          <a:xfrm>
            <a:off x="4500720" y="4292640"/>
            <a:ext cx="1223640" cy="60948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rtificad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ero activo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5" name="AutoShape 73"/>
          <p:cNvCxnSpPr>
            <a:endCxn id="224" idx="1"/>
          </p:cNvCxnSpPr>
          <p:nvPr/>
        </p:nvCxnSpPr>
        <p:spPr>
          <a:xfrm flipH="1">
            <a:off x="4679280" y="3645000"/>
            <a:ext cx="253080" cy="73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74"/>
          <p:cNvCxnSpPr>
            <a:stCxn id="224" idx="6"/>
          </p:cNvCxnSpPr>
          <p:nvPr/>
        </p:nvCxnSpPr>
        <p:spPr>
          <a:xfrm>
            <a:off x="5724360" y="4597200"/>
            <a:ext cx="2161080" cy="632520"/>
          </a:xfrm>
          <a:prstGeom prst="straightConnector1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</p:cxnSp>
      <p:cxnSp>
        <p:nvCxnSpPr>
          <p:cNvPr id="227" name="AutoShape 75"/>
          <p:cNvCxnSpPr>
            <a:stCxn id="224" idx="3"/>
          </p:cNvCxnSpPr>
          <p:nvPr/>
        </p:nvCxnSpPr>
        <p:spPr>
          <a:xfrm flipH="1">
            <a:off x="1331640" y="4812840"/>
            <a:ext cx="3348720" cy="1064520"/>
          </a:xfrm>
          <a:prstGeom prst="straightConnector1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228" name="Rectangle 76"/>
          <p:cNvSpPr/>
          <p:nvPr/>
        </p:nvSpPr>
        <p:spPr>
          <a:xfrm>
            <a:off x="7237440" y="2347920"/>
            <a:ext cx="1727280" cy="43344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ificadora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9" name="AutoShape 77"/>
          <p:cNvCxnSpPr>
            <a:stCxn id="228" idx="2"/>
            <a:endCxn id="207" idx="1"/>
          </p:cNvCxnSpPr>
          <p:nvPr/>
        </p:nvCxnSpPr>
        <p:spPr>
          <a:xfrm flipH="1">
            <a:off x="7987680" y="2781360"/>
            <a:ext cx="11340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78"/>
          <p:cNvCxnSpPr/>
          <p:nvPr/>
        </p:nvCxnSpPr>
        <p:spPr>
          <a:xfrm flipV="1">
            <a:off x="6372000" y="29235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Rectangle 80"/>
          <p:cNvSpPr/>
          <p:nvPr/>
        </p:nvSpPr>
        <p:spPr>
          <a:xfrm>
            <a:off x="3348000" y="5373720"/>
            <a:ext cx="1440000" cy="71928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2" name="AutoShape 81"/>
          <p:cNvCxnSpPr>
            <a:stCxn id="231" idx="1"/>
          </p:cNvCxnSpPr>
          <p:nvPr/>
        </p:nvCxnSpPr>
        <p:spPr>
          <a:xfrm flipH="1">
            <a:off x="2555640" y="5734080"/>
            <a:ext cx="7927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Text Box 82"/>
          <p:cNvSpPr/>
          <p:nvPr/>
        </p:nvSpPr>
        <p:spPr>
          <a:xfrm>
            <a:off x="2908440" y="6167520"/>
            <a:ext cx="144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AGAN PRECIO COLOCACIÓN VALO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463400" y="816120"/>
            <a:ext cx="66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ACTIVOS: ASPECTOS LEGALES DEL MAYOR INTER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844640"/>
            <a:ext cx="800100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TIPOS </a:t>
            </a: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DE ACTIVOS, </a:t>
            </a:r>
            <a:r>
              <a:rPr b="1" i="1" lang="es-MX" sz="1800" spc="-1" strike="noStrike">
                <a:solidFill>
                  <a:srgbClr val="000000"/>
                </a:solidFill>
                <a:latin typeface="Times New Roman"/>
              </a:rPr>
              <a:t>DESDE UN PUNTO DE VISTA LEG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SE INDEPENDIZAN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ONTRATOS RE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UNIDAD DEL CONTRATO Y SUS CAUCIO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NO SE INDEPENDIZAN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ESIONES DE CRÉDIT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QUE EMANAN DE CONTRATOS BILATERAL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DE EJECUCION DIFERIDA O TRACTO SUCESIV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EL PATRIMONIO SEPARADO Y SU CONTROL SOBRE LA EJECUCIÓN DE LAS OBLIGACIONES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REACION DE ACTIVOS ESPECIALES: FLUJOS FUTU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EGULACIÓN TEMÁTICA DE SU PROPIED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EL CONTROL DE LA EJECUCIÓN DE LAS OBLIGACIONES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SUJECIÓN AL EVENTO DE INSOLVENCIA DEL DEUDOR DE LOS FLUJOS FUTU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924120" y="571680"/>
            <a:ext cx="76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IPOS DE SECURITIZACIONES EN FUNCIÓN DE SUS AC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857160" y="1386000"/>
            <a:ext cx="81154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SE INDEPENDIZAN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LH – MH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REDITOS AUTOMOTRICES, DE CONSUM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NO SE INDEPENDIZAN DEL ORIGINADOR, A PESAR DE SER ACTUALES Y CEDIBLES Y QUE NO NECESARIAMENTE SUPONEN UN CRÉDITO ACTU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FACTU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AS OPERACIONES REVOLV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NTRATOS DE ARRENDAMIENTO, TAKE OR P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ACTIVOS QUE NO SE INDEPENDIZAN DEL ORIGINADOR, NO SON ACTUALES Y CEDIBLES, AL MENOS EN TEORÍ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FLUJOS FUTU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IESGO OPERACIONAL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¿CESION FUTURA DE LOS CREDITO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FRENTE A LA INSOLVENCIA DEL DEUDOR DE LOS FLUJOS FUTUROS, PARTICIPACIÓN DE TODOS LOS ACREED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95280" y="2131920"/>
            <a:ext cx="433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dente de activos securitiz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to de cesión: entrega activo y percibe prec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 ser titular de valores junior (sobrecolatera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parte: Securitizad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84720" y="21337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4784760" y="502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4861080" y="47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1965240" y="95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2727360" y="1230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259920" y="765000"/>
            <a:ext cx="84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PERSPECTIVAS DE LAS PARTES INVOLUCR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179280" y="4292640"/>
            <a:ext cx="8964720" cy="71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961920" y="1700280"/>
            <a:ext cx="38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D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179280" y="3932280"/>
            <a:ext cx="382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dministrador primario de activos securitiz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179280" y="3416400"/>
            <a:ext cx="433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el activo, puede tener que asumir obligaciones que aseguren la existencia y solvencia del activ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849920" y="1700280"/>
            <a:ext cx="38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IZADOR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4427640" y="1989000"/>
            <a:ext cx="47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esionaria de activos securitiz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ntrato de cesión: recibe activo y paga prec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ujeto activo de obligaciones que asume 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ntraparte: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4427640" y="2852640"/>
            <a:ext cx="47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misora de Val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rato de Emisión: recibe producto de la colocación y se obliga al pago de los bonos en el tiemp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4427640" y="3573360"/>
            <a:ext cx="47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orma patrimonio separa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orta los activos y otras obligaciones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orta la obligación de pago de los val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5003640" y="441972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ntiene su patrimonio común para su gi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5003640" y="42210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ministrador maest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108000" y="44928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T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92160" y="4797360"/>
            <a:ext cx="4335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presenta a los inversionistas en el ctto. de emis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s “contraparte” de la Securitizadora en el ctto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 emisión, exige cumplimiento de sus obligacio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ertifica el debido entero del activo del patrimonio separa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ibera los fondos de la recaud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4500720" y="486900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ERSIONIST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32"/>
          <p:cNvSpPr/>
          <p:nvPr/>
        </p:nvSpPr>
        <p:spPr>
          <a:xfrm>
            <a:off x="4484520" y="5157720"/>
            <a:ext cx="433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mpran valores, pagan prec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erciben pago de los valores en el tiemp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on [casi] los únicos acreedores del patrimonio separado [éste no tiene patrimonio neto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on la verdadera contraparte de la Securitizador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814760" y="622440"/>
            <a:ext cx="58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OBJETIVO DE LA ESTRUCTURA LEG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EN LA 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747720" y="177336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1600" spc="-1" strike="noStrike">
                <a:solidFill>
                  <a:srgbClr val="000000"/>
                </a:solidFill>
                <a:latin typeface="Times New Roman"/>
              </a:rPr>
              <a:t>BLINDAR UN PATRIMONIO: SUS ACTIVOS, SUS FLUJOS Y SUS PAS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633760" y="2205000"/>
            <a:ext cx="61862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dos y determinados desde un comienzo (¿sustituciones?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edad del patrimonio separado (venta verdadera / acciones pauliana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es de graváme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conozcan derechos en favor de terceros (venta verdader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flujos sólo se perciban por el patrimonio separad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inversión de los excedentes de caj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ejoramientos creditic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V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idos y avaluados desde un comienz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s por servic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emitidos (preferentes / subordinado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ción de otros pasivos de otros patrimonios separado de la mis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izadora y de su patrimonio comú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es legales, contractuales y extracontractu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ctos tributari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erte del Originador no repercuta en patrimonio separado  (ej.: su quiebr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15" descr="j0240695"/>
          <p:cNvPicPr/>
          <p:nvPr/>
        </p:nvPicPr>
        <p:blipFill>
          <a:blip r:embed="rId1"/>
          <a:stretch/>
        </p:blipFill>
        <p:spPr>
          <a:xfrm>
            <a:off x="684360" y="2349360"/>
            <a:ext cx="18255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28800" y="47592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Times New Roman"/>
              </a:rPr>
              <a:t>ACTIVOS: FLUJOS QUE GENEREN DEBEN DESTINARSE AL PAGO DE LOS TITULOS DE DEUDA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13920" y="1413000"/>
            <a:ext cx="7704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Activos entran al patrimonio separado libres de graváme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Facultades RTB para liberar de gravámenes, pagar precio de adquisición de activos, antes de entregar monto colocación titulos al emisor (certificado del representante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Deben permanecer libres de gravámenes salvo autorización R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Ley señala taxativamente quiénes son acreedores del patrimonio separado. Nadie más puede percibir sus fluj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Sólo después de pagados títulos de deuda, los activos y pasivos remanentes entran al patrimonio comú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La estructura no previene actos dolo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466640" y="816120"/>
            <a:ext cx="66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ACTIVOS: ASPECTOS LEGALES DEL MAYOR INTER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892080" y="1916280"/>
            <a:ext cx="800100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CESIONES DE ACTIVOS AL PATRIMONIO SEPAR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ÉGIMEN SIMPLIFICADO DE CES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entraliza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Costos y plaz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OPONIBLE AL DEUDOR Y SUS ACREED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Activos se restan de la prenda general de los acreedores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ÉGIMEN EXTENSIBLE A DERECHOS, CRÉDITOS Y TÍTULOS </a:t>
            </a:r>
            <a:r>
              <a:rPr b="1" i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OMINATIV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Aplicación del endoso de los títulos de crédito como métod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A CLÁUSULA ANTI – CESIÓN, OBLIGACIÓN DE NO HAC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Un entorpecimiento general a la circulación de los créditos de contratos comercia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A SECRECÍA DEL CLIENTE DE LOS CRÉDIT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La fricción entre la publicidad de los valores y la secrecía de los activos securitiza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9" descr="j0216858"/>
          <p:cNvPicPr/>
          <p:nvPr/>
        </p:nvPicPr>
        <p:blipFill>
          <a:blip r:embed="rId1"/>
          <a:stretch/>
        </p:blipFill>
        <p:spPr>
          <a:xfrm>
            <a:off x="4716360" y="2131920"/>
            <a:ext cx="381636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8440" y="4042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PASIVOS: NO CONTAMINACIÓN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201680" y="1779480"/>
            <a:ext cx="7942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 u="sng">
                <a:solidFill>
                  <a:srgbClr val="000000"/>
                </a:solidFill>
                <a:uFillTx/>
                <a:latin typeface="Times New Roman"/>
              </a:rPr>
              <a:t>Pasivos determinados sobre el patrimonio separ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Intereses y capital títulos deuda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Gastos relacionados a emis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Gastos relacionados a administración (honorarios, impuesto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Contrato de emisión debe determinar costos imputables al patrimonio separado, incluyendo pagos actuales y máxim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Recursos necesarios para pagar tributos o sanciones originadas en esos activ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Gastos relacionados a la liquidación del patrimonio separado, salvo que sea por quiebra de sociedad securitizador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Traspaso de bienes excedentes sobre márgenes estipulados, al patrimonio comú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85880" y="1571760"/>
            <a:ext cx="8153280" cy="45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IMITACIÓN DERECHO GENERAL DE PRENDA PARA PASIVOS DE LA SOCIEDAD SECURITIZADORA: PATRIMONIO COMU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QUIEBRA DEL ADMINISTRADOR: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OMINGLING RISK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, RENDICIÓN PERIOD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¿OTROS PASIVOS CONTING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ISCALES / TRIBUTARIOS: OBLIGACION DE CONTRIBUCION AL  PATRIMONIO COMUN; NO ES OBLIGACION CON EL F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ABORALES / PREVISIONALES: AL PATRIMONIO COMUN (PATRIMONIO SEPARADO NO TIENE EMPLEADO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CIVILES / INDEMNIZACIONES: AL PATRIMONIO COMUN (ALLI ESTA LA GESTION Y POR ENDE EL RIESGO DE  ILÍCITO O INCUMPLIMIENTO CIVI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LIQUIDACION DE UN PATRIMONIO SEPARADO NO PRODUCE EFECTO SOBRE OTROS PATRIMONIOS SEPARADOS NI SOBRE PATRIMONIO COMU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971640" y="11592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PASIVOS: NO CONTA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69840" y="1839960"/>
            <a:ext cx="2087640" cy="457200"/>
          </a:xfrm>
          <a:prstGeom prst="rect">
            <a:avLst/>
          </a:prstGeom>
          <a:solidFill>
            <a:srgbClr val="f4f4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a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778200" y="1785960"/>
            <a:ext cx="2016000" cy="457200"/>
          </a:xfrm>
          <a:prstGeom prst="rect">
            <a:avLst/>
          </a:prstGeom>
          <a:solidFill>
            <a:srgbClr val="f4f4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659640" y="1857240"/>
            <a:ext cx="2016000" cy="39888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109600" y="571680"/>
            <a:ext cx="4818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¿Dónde encuentran el capital las empres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3273480" y="20559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3417840" y="1911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27 Flecha izquierda y derecha"/>
          <p:cNvSpPr/>
          <p:nvPr/>
        </p:nvSpPr>
        <p:spPr>
          <a:xfrm>
            <a:off x="6000840" y="1857240"/>
            <a:ext cx="500040" cy="41292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8064a2"/>
          </a:solidFill>
          <a:ln w="1908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28 Rectángulo redondeado"/>
          <p:cNvSpPr/>
          <p:nvPr/>
        </p:nvSpPr>
        <p:spPr>
          <a:xfrm>
            <a:off x="5072040" y="4071960"/>
            <a:ext cx="207180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30 Rectángulo redondeado"/>
          <p:cNvSpPr/>
          <p:nvPr/>
        </p:nvSpPr>
        <p:spPr>
          <a:xfrm>
            <a:off x="5214960" y="3000240"/>
            <a:ext cx="171432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Banc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31 Rectángulo redondeado"/>
          <p:cNvSpPr/>
          <p:nvPr/>
        </p:nvSpPr>
        <p:spPr>
          <a:xfrm>
            <a:off x="6715080" y="5072040"/>
            <a:ext cx="192888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Accionis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32 Rectángulo redondeado"/>
          <p:cNvSpPr/>
          <p:nvPr/>
        </p:nvSpPr>
        <p:spPr>
          <a:xfrm>
            <a:off x="7358040" y="4014720"/>
            <a:ext cx="128592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AF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33 Rectángulo redondeado"/>
          <p:cNvSpPr/>
          <p:nvPr/>
        </p:nvSpPr>
        <p:spPr>
          <a:xfrm>
            <a:off x="214200" y="5000760"/>
            <a:ext cx="2643480" cy="11430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PERSO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34 Rectángulo redondeado"/>
          <p:cNvSpPr/>
          <p:nvPr/>
        </p:nvSpPr>
        <p:spPr>
          <a:xfrm>
            <a:off x="7072200" y="2928960"/>
            <a:ext cx="157176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Fon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35 Flecha arriba"/>
          <p:cNvSpPr/>
          <p:nvPr/>
        </p:nvSpPr>
        <p:spPr>
          <a:xfrm>
            <a:off x="7143840" y="2500200"/>
            <a:ext cx="785880" cy="357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8064a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36 Rectángulo redondeado"/>
          <p:cNvSpPr/>
          <p:nvPr/>
        </p:nvSpPr>
        <p:spPr>
          <a:xfrm>
            <a:off x="3929040" y="5300640"/>
            <a:ext cx="2643120" cy="7002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Cías. de Seguros de V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000160" y="2500200"/>
            <a:ext cx="2659320" cy="457200"/>
          </a:xfrm>
          <a:prstGeom prst="rect">
            <a:avLst/>
          </a:prstGeom>
          <a:solidFill>
            <a:srgbClr val="f4f412"/>
          </a:solidFill>
          <a:ln w="93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38 Nube"/>
          <p:cNvSpPr/>
          <p:nvPr/>
        </p:nvSpPr>
        <p:spPr>
          <a:xfrm>
            <a:off x="214200" y="3214800"/>
            <a:ext cx="4643640" cy="148572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erc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40 Flecha derecha"/>
          <p:cNvSpPr/>
          <p:nvPr/>
        </p:nvSpPr>
        <p:spPr>
          <a:xfrm>
            <a:off x="3143160" y="5429160"/>
            <a:ext cx="57168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064a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21 Rectángulo redondeado"/>
          <p:cNvSpPr/>
          <p:nvPr/>
        </p:nvSpPr>
        <p:spPr>
          <a:xfrm>
            <a:off x="5224320" y="6143760"/>
            <a:ext cx="3348360" cy="5713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w Cen MT"/>
              </a:rPr>
              <a:t>Securitizad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1763640" y="69228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ANCIAMIENTO EN E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RCADO DE VAL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100"/>
            </a:b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19280" y="2448000"/>
            <a:ext cx="84247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SA sujeta a normas de sociedades abiert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Estatuto tipo de Sociedades Anónimas, salv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Objeto exclusivo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Adquirir Activos para aporte a Patrimonio Separado. Emisión títulos deuda corto/largo plaz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Capital Pagado no inferior a 10.000 UF (</a:t>
            </a:r>
            <a:r>
              <a:rPr b="0" lang="es-CL" sz="17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USD 260,000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ueden ser filiales bancari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Restricción adquisición de activos de bancos relacionados: 35% de activos de Patrimonio Separado como máxim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Gobierno corporativo:  - Directorio (5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- Ger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- Auditoria Extern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- No comité directores (salvo patrimonio bursátil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          mayor a  1.500.000 UF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1187280" y="1828800"/>
            <a:ext cx="273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ECURITIZAD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6443640" y="1828800"/>
            <a:ext cx="9367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V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9"/>
          <p:cNvSpPr/>
          <p:nvPr/>
        </p:nvSpPr>
        <p:spPr>
          <a:xfrm flipH="1">
            <a:off x="4066920" y="1844640"/>
            <a:ext cx="216036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1671840" y="7398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SECURITIZADORAS, NORMAS ORGÁN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9800" y="43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LIQUIDACIÓN DEL PATRIMONIO SEPARADO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55800" y="16441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ATRIMONIO SEPARADO NO QUIEBRA, SE LIQU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ERMINOS DE LA LIQUIDAC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LEXIBILIDAD PARA LLEVAR ADELANTE PROCEDIMIENTOS DE LIQUIDACION EFICIENTE: MAYORIA PUEDE CAMBIAR CONDICIONES DE EM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TENCION DE MANTENER Y LIQUIDAR COMO UNIDAD PATRIMONIAL:¿SÓLO CUANDO SE ORIGINA EN QUIEBRA DEL SPV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IQUIDADOR: REPRESENTANTE TENEDORES O DESIGNADO POR TEN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IQUIDACION NO PONE TERMINO A CONTRATOS DE ADMINISTRACION Y CUSTODIA DE A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VENTUAL CONCURRENCIA DE ACREEDORES PATRIMONIO SEPARADO AL PATRIMONIO COMUN (CLAUSULA OPTATIVA EN LA EMISION) ¿DEUDA SUBSIDIAR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116000" y="1828800"/>
            <a:ext cx="1676520" cy="45720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258920" y="1843200"/>
            <a:ext cx="1368360" cy="337320"/>
          </a:xfrm>
          <a:prstGeom prst="rect">
            <a:avLst/>
          </a:prstGeom>
          <a:solidFill>
            <a:srgbClr val="e6ea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6613560" y="1852560"/>
            <a:ext cx="2279520" cy="45720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144440" y="4518000"/>
            <a:ext cx="1368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Ga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3708360" y="3684600"/>
            <a:ext cx="1511280" cy="33732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6726240" y="3436920"/>
            <a:ext cx="100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6726240" y="4013280"/>
            <a:ext cx="2022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apitaliz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144440" y="2860560"/>
            <a:ext cx="172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1144440" y="3726000"/>
            <a:ext cx="1368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6689880" y="2860560"/>
            <a:ext cx="1044360" cy="33732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Pag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1665360" y="357120"/>
            <a:ext cx="5566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OTIVACIÓN: EL FINANCIAMIE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E LA EMPRES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¿Para qué necesitan capital las empresa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Line 14"/>
          <p:cNvSpPr/>
          <p:nvPr/>
        </p:nvSpPr>
        <p:spPr>
          <a:xfrm flipH="1">
            <a:off x="2944440" y="2060640"/>
            <a:ext cx="342756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3348000" y="4853160"/>
            <a:ext cx="244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reación del val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17"/>
          <p:cNvSpPr/>
          <p:nvPr/>
        </p:nvSpPr>
        <p:spPr>
          <a:xfrm>
            <a:off x="2009880" y="228600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2009880" y="32209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19"/>
          <p:cNvSpPr/>
          <p:nvPr/>
        </p:nvSpPr>
        <p:spPr>
          <a:xfrm>
            <a:off x="2009880" y="4086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20"/>
          <p:cNvSpPr/>
          <p:nvPr/>
        </p:nvSpPr>
        <p:spPr>
          <a:xfrm flipH="1" flipV="1">
            <a:off x="6372360" y="3068640"/>
            <a:ext cx="1440" cy="20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1"/>
          <p:cNvSpPr/>
          <p:nvPr/>
        </p:nvSpPr>
        <p:spPr>
          <a:xfrm>
            <a:off x="6644160" y="46101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(Pérdida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22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solidFill>
            <a:srgbClr val="e6ea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23"/>
          <p:cNvSpPr/>
          <p:nvPr/>
        </p:nvSpPr>
        <p:spPr>
          <a:xfrm>
            <a:off x="2916360" y="3052800"/>
            <a:ext cx="792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24"/>
          <p:cNvSpPr/>
          <p:nvPr/>
        </p:nvSpPr>
        <p:spPr>
          <a:xfrm flipV="1">
            <a:off x="2557440" y="3916440"/>
            <a:ext cx="11509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Line 25"/>
          <p:cNvSpPr/>
          <p:nvPr/>
        </p:nvSpPr>
        <p:spPr>
          <a:xfrm flipV="1">
            <a:off x="4500720" y="40604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Line 26"/>
          <p:cNvSpPr/>
          <p:nvPr/>
        </p:nvSpPr>
        <p:spPr>
          <a:xfrm>
            <a:off x="5869080" y="5068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 Box 27"/>
          <p:cNvSpPr/>
          <p:nvPr/>
        </p:nvSpPr>
        <p:spPr>
          <a:xfrm>
            <a:off x="2987640" y="2260440"/>
            <a:ext cx="3456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iferencia Ingresos y co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Máximo valor presen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969840" y="183996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apital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3778200" y="183996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stam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6659640" y="1911240"/>
            <a:ext cx="201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Financ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012400" y="571680"/>
            <a:ext cx="4798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¿Quiénes aportan el capital a las empres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1978200" y="23446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8"/>
          <p:cNvSpPr/>
          <p:nvPr/>
        </p:nvSpPr>
        <p:spPr>
          <a:xfrm>
            <a:off x="3273480" y="20559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Line 9"/>
          <p:cNvSpPr/>
          <p:nvPr/>
        </p:nvSpPr>
        <p:spPr>
          <a:xfrm>
            <a:off x="3417840" y="1911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6081840" y="20559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6081840" y="22003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7738920" y="23432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184040" y="287820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pie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14"/>
          <p:cNvSpPr/>
          <p:nvPr/>
        </p:nvSpPr>
        <p:spPr>
          <a:xfrm>
            <a:off x="1187280" y="36799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1185840" y="328464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1185480" y="4076640"/>
            <a:ext cx="14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iesgo 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1185120" y="47512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185120" y="5154480"/>
            <a:ext cx="159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ree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ting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exigi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900960" y="2844720"/>
            <a:ext cx="20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tuantes, etc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3921840" y="331164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cree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3919320" y="374328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igibles, efec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920040" y="4606920"/>
            <a:ext cx="184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 financie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Proveed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23"/>
          <p:cNvSpPr/>
          <p:nvPr/>
        </p:nvSpPr>
        <p:spPr>
          <a:xfrm>
            <a:off x="3848760" y="5254560"/>
            <a:ext cx="249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italistas (cuent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soci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24"/>
          <p:cNvSpPr/>
          <p:nvPr/>
        </p:nvSpPr>
        <p:spPr>
          <a:xfrm>
            <a:off x="6924240" y="2932200"/>
            <a:ext cx="1707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porcion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la Empres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ustentan 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25"/>
          <p:cNvSpPr/>
          <p:nvPr/>
        </p:nvSpPr>
        <p:spPr>
          <a:xfrm>
            <a:off x="3921480" y="41752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e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Line 26"/>
          <p:cNvSpPr/>
          <p:nvPr/>
        </p:nvSpPr>
        <p:spPr>
          <a:xfrm>
            <a:off x="4786200" y="23432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470480" y="1908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4"/>
          <p:cNvSpPr/>
          <p:nvPr/>
        </p:nvSpPr>
        <p:spPr>
          <a:xfrm>
            <a:off x="21286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128680" y="2230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6"/>
          <p:cNvSpPr/>
          <p:nvPr/>
        </p:nvSpPr>
        <p:spPr>
          <a:xfrm>
            <a:off x="21286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2128680" y="2664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21286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2128680" y="30243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928800" y="2643120"/>
            <a:ext cx="7215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ítulo puede derivar de operaciones de crédito de dinero (financie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uministro de bienes y servicios con saldo de precio / ejecución diferida (proveed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Los habrá preferentes o valis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referencias dicen relación con la totalidad del activo o con ciertos bienes del ac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Los habrá senior o juni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2247840" y="700200"/>
            <a:ext cx="5507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ECANISMOS DE FINANC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¿Qué productos buscan las empres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1809000" y="2028960"/>
            <a:ext cx="31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Acreedores de la empre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4470480" y="1908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Line 4"/>
          <p:cNvSpPr/>
          <p:nvPr/>
        </p:nvSpPr>
        <p:spPr>
          <a:xfrm>
            <a:off x="21286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2128680" y="2230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Line 6"/>
          <p:cNvSpPr/>
          <p:nvPr/>
        </p:nvSpPr>
        <p:spPr>
          <a:xfrm>
            <a:off x="21286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128680" y="2664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Line 8"/>
          <p:cNvSpPr/>
          <p:nvPr/>
        </p:nvSpPr>
        <p:spPr>
          <a:xfrm>
            <a:off x="21286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2128680" y="30243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1986840" y="785880"/>
            <a:ext cx="59277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ECANISMOS DE FINANC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Qué características de los productos de financi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buscan las 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1496880" y="1928880"/>
            <a:ext cx="66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ministración empresarial y gestión financi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804960" y="2678040"/>
            <a:ext cx="8068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lce de plazos - liquide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Largo plazo &gt; 1 añ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rto plazo &lt; 1 año o porción corta del lar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lce de monedas : ingresos vs. pasivos exigibles, cross currency swa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o financiamiento en misma mone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lce de tasas: típicamente para quienes giran en el negocio de prestar, activ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inancieros vs. pasivos financieros – hedge de tas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ecio (tasas), garantías, costos de transacción, plazos de ejecu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Riesgo solvencia, garantías de crédito, clasificación del ries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Indicadores financie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557360" y="752400"/>
            <a:ext cx="69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REPRESENTACIÓN FINANCIERA DEL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1119240" y="21384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imes New Roman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1117440" y="2565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1119960" y="30034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120680" y="34354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3836160" y="210492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57760" y="257184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858480" y="3003480"/>
            <a:ext cx="22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3858120" y="365112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3859560" y="4154400"/>
            <a:ext cx="1983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6880680" y="271476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1117440" y="1628640"/>
            <a:ext cx="59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Balance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4863600" y="5451480"/>
            <a:ext cx="259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4809960" y="5407200"/>
            <a:ext cx="27864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17"/>
          <p:cNvSpPr/>
          <p:nvPr/>
        </p:nvSpPr>
        <p:spPr>
          <a:xfrm flipH="1">
            <a:off x="1765440" y="6093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18"/>
          <p:cNvSpPr/>
          <p:nvPr/>
        </p:nvSpPr>
        <p:spPr>
          <a:xfrm flipV="1">
            <a:off x="1765440" y="5084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19"/>
          <p:cNvSpPr/>
          <p:nvPr/>
        </p:nvSpPr>
        <p:spPr>
          <a:xfrm>
            <a:off x="1983240" y="5734080"/>
            <a:ext cx="198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21"/>
          <p:cNvSpPr/>
          <p:nvPr/>
        </p:nvSpPr>
        <p:spPr>
          <a:xfrm flipV="1">
            <a:off x="5942160" y="5805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22"/>
          <p:cNvSpPr/>
          <p:nvPr/>
        </p:nvSpPr>
        <p:spPr>
          <a:xfrm>
            <a:off x="2990880" y="213192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Line 23"/>
          <p:cNvSpPr/>
          <p:nvPr/>
        </p:nvSpPr>
        <p:spPr>
          <a:xfrm>
            <a:off x="644688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24"/>
          <p:cNvSpPr/>
          <p:nvPr/>
        </p:nvSpPr>
        <p:spPr>
          <a:xfrm>
            <a:off x="6591240" y="263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25"/>
          <p:cNvSpPr/>
          <p:nvPr/>
        </p:nvSpPr>
        <p:spPr>
          <a:xfrm flipH="1">
            <a:off x="644652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797040" y="1557000"/>
            <a:ext cx="449568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euda Corpor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rporación responde por deu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 de repago ingresos corpo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Riesgos normalmente no aisl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lexibilidad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grega deuda, necesari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768560" y="1628640"/>
            <a:ext cx="42670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euda” de securit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ehículo autosost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Unica fuente de pago son flujos de ac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o existe flexibilidad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ueden existir mejoradores credit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188720" y="749160"/>
            <a:ext cx="68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DIFERENCIAS ENTRE MÉTODOS DE FINANCI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777960" y="3714840"/>
            <a:ext cx="811512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entajas para los  Inversionistas [Securitización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Genera afectación sobre el activo que sustenta el repag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umento de la variedad y volumen de instrumentos para invert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cceso a instrumentos con perfiles de riesgos inexistentes en el merc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ermite diferenciar el riesgo de los activos del riesgo de la empresa originadora de los mismos (quiebra remota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ítulos que ofrecen un nivel de protección mayor frente al riesgo de deterioro de la calidad crediticia del originado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ermite reestructurar cartera de inversio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2259720" y="620640"/>
            <a:ext cx="50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RÉGIMEN PROPIETARIO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PRESUPUESTOS Y CORTAPI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603360" y="1989000"/>
            <a:ext cx="821664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EGULACION ESTRUCTURAL QUE HA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VIABLE A LA SECURITIZ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NTIDAD SEPARADA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E GIRO ÚNICO, EMISORA DE VAL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 FISCALIZACIÓN GUBERNAMENTAL (PERSPECTIVA DE LOS VALOR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EPARACIÓN DE PATRIMONI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ORMAS ESPECIALES DE LIQUIDACIÓN Y QUIEBRAS DE LA SECURITIZADO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ERFECCIONAMIENTO DE LEGISLACIÓN COMÚ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IMULACIÓN DE CONTRAT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CIONES REVOCATORIAS O PAULI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QUIEBRA DEL ORIGINADOR Y EL CRÉDITO DEL PATRIMONIO SEPARADO EN SU CONTR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MULTIAGENTES DE GARANTÍASY SUS ACREEDO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109600" y="571680"/>
            <a:ext cx="4818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ESTRUCTURA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¿Dónde encuentran el capital las empres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913360" y="5472000"/>
            <a:ext cx="2659320" cy="457200"/>
          </a:xfrm>
          <a:prstGeom prst="rect">
            <a:avLst/>
          </a:prstGeom>
          <a:solidFill>
            <a:srgbClr val="f4f4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8 Nube"/>
          <p:cNvSpPr/>
          <p:nvPr/>
        </p:nvSpPr>
        <p:spPr>
          <a:xfrm>
            <a:off x="4429080" y="1714680"/>
            <a:ext cx="4643640" cy="1485720"/>
          </a:xfrm>
          <a:prstGeom prst="pie">
            <a:avLst/>
          </a:prstGeom>
          <a:solidFill>
            <a:srgbClr val="f4f41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ercado de Val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(Emis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22 Nube"/>
          <p:cNvSpPr/>
          <p:nvPr/>
        </p:nvSpPr>
        <p:spPr>
          <a:xfrm>
            <a:off x="2071800" y="2928960"/>
            <a:ext cx="3562200" cy="1785960"/>
          </a:xfrm>
          <a:prstGeom prst="pie">
            <a:avLst/>
          </a:prstGeom>
          <a:solidFill>
            <a:srgbClr val="f4f41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ercado Bancario (de intermediación de diner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23 Nube"/>
          <p:cNvSpPr/>
          <p:nvPr/>
        </p:nvSpPr>
        <p:spPr>
          <a:xfrm>
            <a:off x="285840" y="4514760"/>
            <a:ext cx="2786040" cy="1486080"/>
          </a:xfrm>
          <a:prstGeom prst="pie">
            <a:avLst/>
          </a:prstGeom>
          <a:solidFill>
            <a:srgbClr val="f4f41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Mercado de Prestamistas priv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25 Flecha derecha"/>
          <p:cNvSpPr/>
          <p:nvPr/>
        </p:nvSpPr>
        <p:spPr>
          <a:xfrm>
            <a:off x="2714760" y="5572080"/>
            <a:ext cx="2620800" cy="484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8064a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29 Flecha arriba y abajo"/>
          <p:cNvSpPr/>
          <p:nvPr/>
        </p:nvSpPr>
        <p:spPr>
          <a:xfrm>
            <a:off x="5786280" y="3643200"/>
            <a:ext cx="484200" cy="1573200"/>
          </a:xfrm>
          <a:prstGeom prst="upDownArrow">
            <a:avLst>
              <a:gd name="adj1" fmla="val 50000"/>
              <a:gd name="adj2" fmla="val 49999"/>
            </a:avLst>
          </a:prstGeom>
          <a:solidFill>
            <a:srgbClr val="8064a2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"/>
          <p:cNvSpPr/>
          <p:nvPr/>
        </p:nvSpPr>
        <p:spPr>
          <a:xfrm>
            <a:off x="1203480" y="1844640"/>
            <a:ext cx="740700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ítulo XVIII de la Ley 18045, establece normas tributarias especiales (art. 15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 falta de normas especiales, rige normativa tributaria gene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ada securitizadora e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N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sólo contribuyente, independiente del número de patrimonios separados que posea o administ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atrimonios separados NO son contribuyentes (sin R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esponsable del pago de impuestos es la sociedad securitizadora (art. 153 inciso 2° y art. 140 inc. fin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247760" y="76680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ASPECTOS TRIBUTARIOS DEL MAYOR INTER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1247760" y="76680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ASPECTOS TRIBUTARIOS DEL MAYOR INTER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892080" y="1700280"/>
            <a:ext cx="8001000" cy="38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EFECTOS TRIBUTARI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ENTA DEL ORIGIN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OSTO TRIBUTARIO DEL ACTIVO (SI AUN NO CONTABILIZADO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ECONOCIMIENTO EN EL TIEMP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RESPONSABILIDADES QUE ASUME: ¿EFECTO DE PASIVO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VENTA POR ANTICIPADO: COSTO FUTURO DE PRODUCC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IMPUESTOS DE SELLOS (TIMBR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IVA EN LOS SERVICI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¿Cómo lo descarga el patrimonio separado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¿Lo puede trasladar a los inversionistas (si ellos pueden descargarlo)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Times New Roman"/>
              </a:rPr>
              <a:t>¿Es costo para el patrimonio separado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CERO EFECTO TRIBUTARIO PARA EL PATRIMONIO SEPARADO (O RECONOCIMIENTO DE CRÉDITOS A TENEDORES DE VALOR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OTROS RESGUARDOS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804960" y="1071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FACULTAD REPRESENTANTE TENEDOR DE BONOS PARA ASEGURARSE DEL ENTERO DE APORTES ADICIONALES ANTES DE LIBERAR MONTO COLOCACION TITULOS DEUDA (CERTIFICADO DEL REPRESENTANTE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USALES DE PREPAGO OBLIGATORIAS</a:t>
            </a: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CREDITOS PAGADOS VOLUNTARIAMENTE POR EL DEUDOR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ACREEDOR EXIGIO EL PAGO ANTICIPADO POR RAZONES LEGALES O CONTRACTUALES QUE LO AUTORIZABAN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EN AMBOS CASOS SE PODRA ANTICIPAR EL PAGO O SUSTITUIR ACTIVOS POR OTR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223640" y="7668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Times New Roman"/>
              </a:rPr>
              <a:t>ASPECTOS FINANCIEROS DEL MAYOR INTER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892080" y="2205000"/>
            <a:ext cx="8001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EFECTOS FINANCIE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RECONOCIMIENTO OFF BALANC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¿RECONOCIMIENTO DE OBLIGACIONES DE HACER QUE ASUME EL ORIGINADOR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RECONOCIMIENTO DEL SOBRECOLATERAL QUE ENTREGA EL ORIGINADOR, VALORIZ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Times New Roman"/>
              </a:rPr>
              <a:t>EL FINANCIAMIENTO DEL ACOPIO POR EL MERCADO DE CAPIT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Picture 9" descr="j0222015"/>
          <p:cNvPicPr/>
          <p:nvPr/>
        </p:nvPicPr>
        <p:blipFill>
          <a:blip r:embed="rId1"/>
          <a:stretch/>
        </p:blipFill>
        <p:spPr>
          <a:xfrm>
            <a:off x="1187280" y="4797360"/>
            <a:ext cx="47530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470480" y="1908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21286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128680" y="2230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21286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128680" y="2664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21286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2128680" y="30243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009160" y="500040"/>
            <a:ext cx="49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ÉTODOS DE FINANC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785880" y="1212840"/>
            <a:ext cx="774072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or el activo (licuación de activ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asivos exig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Híbridos (capital / exigibl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ecanismos de fo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inanciamiento si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éditos [bancarios] simples, múltiples o sindic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misiones de accio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inanciamiento Estructurado, flujos asociados a un proyecto o fuente de re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yectos de Financiami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Fondos de inver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ecuritiz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470480" y="190800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21286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128680" y="2230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1286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128680" y="26640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21286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128680" y="30243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009160" y="357120"/>
            <a:ext cx="49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MÉTODOS DE FINANCIA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857160" y="3357720"/>
            <a:ext cx="76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nanciamiento Estructurado, flujos asociados a un proyecto o fuente de rep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57160" y="9288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b812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nanciamiento Corporativo: Derecho de Prenda Gene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13 Flecha izquierda y derecha"/>
          <p:cNvSpPr/>
          <p:nvPr/>
        </p:nvSpPr>
        <p:spPr>
          <a:xfrm>
            <a:off x="3500280" y="4286160"/>
            <a:ext cx="1714680" cy="484200"/>
          </a:xfrm>
          <a:prstGeom prst="leftRightArrow">
            <a:avLst>
              <a:gd name="adj1" fmla="val 50000"/>
              <a:gd name="adj2" fmla="val 50053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14 Redondear rectángulo de esquina sencilla"/>
          <p:cNvSpPr/>
          <p:nvPr/>
        </p:nvSpPr>
        <p:spPr>
          <a:xfrm>
            <a:off x="5715000" y="4143240"/>
            <a:ext cx="2857680" cy="121464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15 Redondear rectángulo de esquina del mismo lado"/>
          <p:cNvSpPr/>
          <p:nvPr/>
        </p:nvSpPr>
        <p:spPr>
          <a:xfrm>
            <a:off x="785880" y="4143240"/>
            <a:ext cx="2357280" cy="114300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CIERTOS ACTIVOS, FLUJOS Y GARANTÍ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16 Señal de prohibido"/>
          <p:cNvSpPr/>
          <p:nvPr/>
        </p:nvSpPr>
        <p:spPr>
          <a:xfrm>
            <a:off x="5929200" y="5500800"/>
            <a:ext cx="2129040" cy="121428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OTROS ACREE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17 Señal de prohibido"/>
          <p:cNvSpPr/>
          <p:nvPr/>
        </p:nvSpPr>
        <p:spPr>
          <a:xfrm>
            <a:off x="785880" y="5500800"/>
            <a:ext cx="2128680" cy="121428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OTROS AC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18 Distinto de"/>
          <p:cNvSpPr/>
          <p:nvPr/>
        </p:nvSpPr>
        <p:spPr>
          <a:xfrm>
            <a:off x="3871800" y="5572080"/>
            <a:ext cx="914400" cy="914400"/>
          </a:xfrm>
          <a:prstGeom prst="pie">
            <a:avLst/>
          </a:prstGeom>
          <a:solidFill>
            <a:srgbClr val="ff0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20 Conector recto"/>
          <p:cNvSpPr/>
          <p:nvPr/>
        </p:nvSpPr>
        <p:spPr>
          <a:xfrm>
            <a:off x="71280" y="5429160"/>
            <a:ext cx="9144000" cy="1800"/>
          </a:xfrm>
          <a:prstGeom prst="line">
            <a:avLst/>
          </a:prstGeom>
          <a:ln w="190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24 Redondear rectángulo de esquina sencilla"/>
          <p:cNvSpPr/>
          <p:nvPr/>
        </p:nvSpPr>
        <p:spPr>
          <a:xfrm>
            <a:off x="5857920" y="1285920"/>
            <a:ext cx="2643120" cy="92880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27 Redondear rectángulo de esquina sencilla"/>
          <p:cNvSpPr/>
          <p:nvPr/>
        </p:nvSpPr>
        <p:spPr>
          <a:xfrm>
            <a:off x="5857920" y="2357280"/>
            <a:ext cx="2643120" cy="92880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OTROS ACREE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28 Redondear rectángulo de esquina del mismo lado"/>
          <p:cNvSpPr/>
          <p:nvPr/>
        </p:nvSpPr>
        <p:spPr>
          <a:xfrm>
            <a:off x="938160" y="1285920"/>
            <a:ext cx="2357640" cy="2000160"/>
          </a:xfrm>
          <a:prstGeom prst="pie">
            <a:avLst/>
          </a:prstGeom>
          <a:gradFill rotWithShape="0">
            <a:gsLst>
              <a:gs pos="0">
                <a:srgbClr val="ffff84"/>
              </a:gs>
              <a:gs pos="100000">
                <a:srgbClr val="ffffdb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w Cen MT"/>
              </a:rPr>
              <a:t>TODOS LOS ACTIVOS, FLUJOS Y GARANTÍ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32 Forma libre"/>
          <p:cNvSpPr/>
          <p:nvPr/>
        </p:nvSpPr>
        <p:spPr>
          <a:xfrm>
            <a:off x="5005440" y="5472000"/>
            <a:ext cx="936720" cy="1378080"/>
          </a:xfrm>
          <a:prstGeom prst="pie">
            <a:avLst/>
          </a:prstGeom>
          <a:noFill/>
          <a:ln w="10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35 Forma libre"/>
          <p:cNvSpPr/>
          <p:nvPr/>
        </p:nvSpPr>
        <p:spPr>
          <a:xfrm>
            <a:off x="3787920" y="4238640"/>
            <a:ext cx="2003400" cy="1200240"/>
          </a:xfrm>
          <a:prstGeom prst="pie">
            <a:avLst/>
          </a:prstGeom>
          <a:noFill/>
          <a:ln w="10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36 Cara sonriente"/>
          <p:cNvSpPr/>
          <p:nvPr/>
        </p:nvSpPr>
        <p:spPr>
          <a:xfrm>
            <a:off x="4143240" y="13572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38 Flecha izquierda y derecha"/>
          <p:cNvSpPr/>
          <p:nvPr/>
        </p:nvSpPr>
        <p:spPr>
          <a:xfrm>
            <a:off x="3652920" y="2643120"/>
            <a:ext cx="1714320" cy="484200"/>
          </a:xfrm>
          <a:prstGeom prst="leftRightArrow">
            <a:avLst>
              <a:gd name="adj1" fmla="val 50000"/>
              <a:gd name="adj2" fmla="val 50043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2700000"/>
          </a:gra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044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ESTRUCTURA DE UNA SECURITIZACIÓN </a:t>
            </a:r>
            <a:br>
              <a:rPr sz="2100"/>
            </a:b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[en general]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280" y="134100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058840" y="2135160"/>
            <a:ext cx="1292400" cy="45396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906560" y="2973240"/>
            <a:ext cx="1673280" cy="37800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Originad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051560" y="2652840"/>
            <a:ext cx="73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657600" y="2286000"/>
            <a:ext cx="2387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Bien / Servi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2135160" y="3811680"/>
            <a:ext cx="1292400" cy="53028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mis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(Spv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1906560" y="5259240"/>
            <a:ext cx="1749600" cy="37800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5945040" y="3811680"/>
            <a:ext cx="1216080" cy="453960"/>
          </a:xfrm>
          <a:prstGeom prst="rect">
            <a:avLst/>
          </a:prstGeom>
          <a:solidFill>
            <a:srgbClr val="e6ea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ust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2362320" y="2668680"/>
            <a:ext cx="0" cy="22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12"/>
          <p:cNvSpPr/>
          <p:nvPr/>
        </p:nvSpPr>
        <p:spPr>
          <a:xfrm flipV="1">
            <a:off x="2895480" y="266652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2362320" y="3430440"/>
            <a:ext cx="0" cy="3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2971800" y="342900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2362320" y="4421160"/>
            <a:ext cx="0" cy="76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16"/>
          <p:cNvSpPr/>
          <p:nvPr/>
        </p:nvSpPr>
        <p:spPr>
          <a:xfrm flipV="1">
            <a:off x="3048120" y="4419720"/>
            <a:ext cx="0" cy="760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6553080" y="43448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18"/>
          <p:cNvSpPr/>
          <p:nvPr/>
        </p:nvSpPr>
        <p:spPr>
          <a:xfrm flipH="1">
            <a:off x="4115880" y="5410080"/>
            <a:ext cx="2436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3735360" y="2209680"/>
            <a:ext cx="281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0"/>
          <p:cNvSpPr/>
          <p:nvPr/>
        </p:nvSpPr>
        <p:spPr>
          <a:xfrm>
            <a:off x="6553080" y="2211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6844320" y="2347920"/>
            <a:ext cx="13737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io  Bien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rvicio Post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22"/>
          <p:cNvSpPr/>
          <p:nvPr/>
        </p:nvSpPr>
        <p:spPr>
          <a:xfrm>
            <a:off x="6918840" y="4405320"/>
            <a:ext cx="1408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ago Capit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teres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itulos Deu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23"/>
          <p:cNvSpPr/>
          <p:nvPr/>
        </p:nvSpPr>
        <p:spPr>
          <a:xfrm>
            <a:off x="3339360" y="3414600"/>
            <a:ext cx="215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io Venta Activos $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24"/>
          <p:cNvSpPr/>
          <p:nvPr/>
        </p:nvSpPr>
        <p:spPr>
          <a:xfrm>
            <a:off x="1051200" y="3338640"/>
            <a:ext cx="8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25"/>
          <p:cNvSpPr/>
          <p:nvPr/>
        </p:nvSpPr>
        <p:spPr>
          <a:xfrm>
            <a:off x="1127520" y="4481640"/>
            <a:ext cx="84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itulo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eu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26"/>
          <p:cNvSpPr/>
          <p:nvPr/>
        </p:nvSpPr>
        <p:spPr>
          <a:xfrm>
            <a:off x="3535200" y="4405320"/>
            <a:ext cx="179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ecio Colocació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51444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-512640" y="321696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763640" y="69228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411280" y="2205000"/>
            <a:ext cx="301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714240" y="879480"/>
            <a:ext cx="777744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 la empresa, el financiamiento por la vía del ac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l inversionista, riesgos asoci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l legislador, mecanismo de financiamiento de la empresa en el mercado de capitales, desintermediación y abaratamiento del costo de financiamiento de las empres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l regulador, acción del mercado de capit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 la Securitizadora, un negocio de intermediación con efecto en el corto y largo plaz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pectiva de la clasificadora, riesgo de crédi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599480" y="74916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CARACTERÍSTICAS DE LA SECURITIZ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777960" y="1700280"/>
            <a:ext cx="811512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ra de balance [casos CLO, excepción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islación de riesgos, transferencia de riegos a inversionistas [quiebra e insolvencia originador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canismo de desintermediación financiera, ahorro de costos de intermediación [relativo: costos Securitizadora y premio a bonos corporativos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a liquidez a activos ilíquid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ansforma riesgo individual en riesgo de cartera y de estructura de emis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mplía las posibles combinaciones de madurez, tasas y riesgo de los títul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uede aislarse de calidad creditic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Reduce costos de financiamiento, desde que permite alocar los mejores activos, con menor riesgo, a un financiamien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Genera mejor rotación de recursos financieros, se “manejan” velocidades de liquidez de los 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jora la administración de los ac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o trastorna la relación con el clien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n Chile, mantiene la privacidad de la empresa financiada, abre la información de su cartera solamente. Flexibilidad en cuanto a la información de la carter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00663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283040" y="622440"/>
            <a:ext cx="66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S RÉGIMENES DE SECURIT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971640" y="1428840"/>
            <a:ext cx="784836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ructura fiduci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dominio anglosajón del T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 afectación particular de act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reconocimiento cultural y leg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ifusión en latinoamé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rue sale y bankruptcy remo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ructura propiet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Resistencia a la confianza, mist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safectación de la prenda general, cuestión de 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js. previos en mercado de capitales, fon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a falta de fineza regulatoria, ley quiebras, tribut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00:42:07Z</dcterms:created>
  <dc:creator>OBG</dc:creator>
  <dc:description/>
  <dc:language>en-US</dc:language>
  <cp:lastModifiedBy>Author</cp:lastModifiedBy>
  <dcterms:modified xsi:type="dcterms:W3CDTF">2009-07-08T15:42:24Z</dcterms:modified>
  <cp:revision>124</cp:revision>
  <dc:subject/>
  <dc:title>Aspectos Legales </dc:title>
</cp:coreProperties>
</file>