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2E31-F84D-414E-9619-D59F3BBB10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E36B-5FAD-4172-8A2C-F86AFCA6E3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73E1-004E-44CF-8949-7DEADA5C44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FF4A-D085-4903-95A3-451F1C4411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A9B1-2E77-4AEE-8B1B-2C34C530E0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9669-7FD3-4AF3-8AF4-BADC810019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9108-E8D4-48E2-97D4-41A4248C07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AAB6-2470-4EB2-8457-22DAF206E4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272-0A0A-4FF7-AF7F-58BB45013F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6764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1070-36D9-4BF4-9CE7-9831A9A04D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B0C-9672-4B01-9E5F-F459CF25E0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0808-8E34-4ABF-ADA0-28E45BFD6F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D542-0D65-401F-A1D5-C8559179E3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118A-2366-4274-A0CF-CECF9DFF77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764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E399-E5A7-47AB-A1CB-D36DD8F07D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7DC-BA21-49A4-9D75-67107D17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E9C-4F35-4AF1-8A2F-7F83F095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723-79BE-4547-B9F9-748DC640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5C3-B39E-45A3-846C-3525FE1D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490D-5784-4432-AF1F-0BEAC0CF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C3EB-D7F9-4556-A37C-EDAA524F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1365-FD32-49CE-8E2D-3AE42FEB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C026-7949-4B63-9C79-353EC4A9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CA59-E46B-43DD-BBDA-D8C97F18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20A5-15FB-4214-90E3-FEC5905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A094-2AA5-46D2-84C1-1088E728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F1D-2B6A-4BEA-9A5D-F702E399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C6E9-B4CF-427C-B45C-9DF3FC14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D38A-7332-423D-81A5-9CFE1AA5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19DE-0341-4799-ADA8-FA67C564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8607-B8EA-4F23-921D-BA0FDC98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3463-2BCF-4AFD-8642-36BF397F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8F4-E2B5-4FFF-A1A4-5219F618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349-0C0B-4C95-B451-4AEB473C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A26-1223-455A-B484-BF88F13B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DB6-1A51-4321-B9C1-8C688EE7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A7A-F752-4778-92FA-06ECE3A2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300-2A39-4B30-8284-5F34E2BF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F07-7739-447A-9E3F-267E7D34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13BF-413A-4906-B3C8-A381A929808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052C-3DA1-4477-994E-80C4A111336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763640" y="692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ANCIAMIENTO EN 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RCADO DE VAL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99960" y="3929040"/>
            <a:ext cx="30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9" descr="Facultad"/>
          <p:cNvPicPr/>
          <p:nvPr/>
        </p:nvPicPr>
        <p:blipFill>
          <a:blip r:embed="rId1"/>
          <a:stretch/>
        </p:blipFill>
        <p:spPr>
          <a:xfrm>
            <a:off x="6588000" y="5975280"/>
            <a:ext cx="2016360" cy="478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12000" y="62244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S FANTASMAS DE RÉGIMENES FIDUCI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¿REALIDAD O FICCIÓ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971640" y="1628640"/>
            <a:ext cx="78483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XISTENCIA DE LOS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BIDA TRANSFERENCIA AL SPV: True S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ERMANENCIA DE LOS ACTIVOS EN EL P. SEPARADO DURANTE TODA SU VIGENCIA. Cesación de efectos de contratos, sanciones absolutas (nulidades), relativas (condición resolutoria, inoponibilidades, quiebra remota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CTIVOS: Los flujos que ellos generen deben destinarse al pago de los títulos de deu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ASIVOS: No contaminación de los activos con más pasivos que la emisión de títulos de deu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509840" y="62064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HORA SI: ESTRUCTURA DE SECURITIZACIÓN DE ACTIVOS [Estructura Propietaria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09480" y="2362320"/>
            <a:ext cx="1082880" cy="14270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987640" y="1916280"/>
            <a:ext cx="1355760" cy="136836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8" name="AutoShape 7"/>
          <p:cNvCxnSpPr>
            <a:endCxn id="197" idx="1"/>
          </p:cNvCxnSpPr>
          <p:nvPr/>
        </p:nvCxnSpPr>
        <p:spPr>
          <a:xfrm>
            <a:off x="1676520" y="2590920"/>
            <a:ext cx="13114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8"/>
          <p:cNvSpPr/>
          <p:nvPr/>
        </p:nvSpPr>
        <p:spPr>
          <a:xfrm>
            <a:off x="1600200" y="2200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DE ACTIVOS SECURITIZ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23"/>
          <p:cNvSpPr/>
          <p:nvPr/>
        </p:nvSpPr>
        <p:spPr>
          <a:xfrm>
            <a:off x="5715000" y="2286000"/>
            <a:ext cx="99072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t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4343400" y="213372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SUME OBLIGACIÓN PAGO VALORES SECURITIZADOS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7020000" y="4187880"/>
            <a:ext cx="1655640" cy="60948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intendenc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SVS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4343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4" name="AutoShape 32"/>
          <p:cNvCxnSpPr/>
          <p:nvPr/>
        </p:nvCxnSpPr>
        <p:spPr>
          <a:xfrm>
            <a:off x="6705720" y="2590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33"/>
          <p:cNvCxnSpPr>
            <a:stCxn id="206" idx="0"/>
          </p:cNvCxnSpPr>
          <p:nvPr/>
        </p:nvCxnSpPr>
        <p:spPr>
          <a:xfrm flipH="1" flipV="1">
            <a:off x="4809600" y="5446800"/>
            <a:ext cx="6184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Oval 35"/>
          <p:cNvSpPr/>
          <p:nvPr/>
        </p:nvSpPr>
        <p:spPr>
          <a:xfrm>
            <a:off x="7821720" y="2963880"/>
            <a:ext cx="114300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6442200" y="36399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Solicitud de inscripció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en registro de valo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39"/>
          <p:cNvSpPr/>
          <p:nvPr/>
        </p:nvSpPr>
        <p:spPr>
          <a:xfrm>
            <a:off x="7596360" y="5516640"/>
            <a:ext cx="990360" cy="53316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crip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Oval 40"/>
          <p:cNvSpPr/>
          <p:nvPr/>
        </p:nvSpPr>
        <p:spPr>
          <a:xfrm>
            <a:off x="4932360" y="5805360"/>
            <a:ext cx="990720" cy="60984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lo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42"/>
          <p:cNvSpPr/>
          <p:nvPr/>
        </p:nvSpPr>
        <p:spPr>
          <a:xfrm>
            <a:off x="1763640" y="6059520"/>
            <a:ext cx="137160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audación 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olo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1" name="AutoShape 54"/>
          <p:cNvCxnSpPr>
            <a:endCxn id="206" idx="6"/>
          </p:cNvCxnSpPr>
          <p:nvPr/>
        </p:nvCxnSpPr>
        <p:spPr>
          <a:xfrm flipH="1">
            <a:off x="5922720" y="6109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55"/>
          <p:cNvCxnSpPr/>
          <p:nvPr/>
        </p:nvCxnSpPr>
        <p:spPr>
          <a:xfrm rot="10800000">
            <a:off x="1042200" y="5589000"/>
            <a:ext cx="83916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57"/>
          <p:cNvSpPr/>
          <p:nvPr/>
        </p:nvSpPr>
        <p:spPr>
          <a:xfrm>
            <a:off x="2556000" y="4365720"/>
            <a:ext cx="1434960" cy="685800"/>
          </a:xfrm>
          <a:prstGeom prst="ellipse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arado (P.S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Oval 58"/>
          <p:cNvSpPr/>
          <p:nvPr/>
        </p:nvSpPr>
        <p:spPr>
          <a:xfrm>
            <a:off x="468360" y="4906800"/>
            <a:ext cx="1219320" cy="609840"/>
          </a:xfrm>
          <a:prstGeom prst="ellipse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ú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5" name="AutoShape 59"/>
          <p:cNvCxnSpPr/>
          <p:nvPr/>
        </p:nvCxnSpPr>
        <p:spPr>
          <a:xfrm flipH="1">
            <a:off x="4066920" y="3428640"/>
            <a:ext cx="218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62"/>
          <p:cNvCxnSpPr>
            <a:stCxn id="207" idx="4"/>
            <a:endCxn id="202" idx="0"/>
          </p:cNvCxnSpPr>
          <p:nvPr/>
        </p:nvCxnSpPr>
        <p:spPr>
          <a:xfrm rot="5400000">
            <a:off x="7813080" y="3608280"/>
            <a:ext cx="615240" cy="545040"/>
          </a:xfrm>
          <a:prstGeom prst="bentConnector3">
            <a:avLst>
              <a:gd name="adj1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63"/>
          <p:cNvCxnSpPr/>
          <p:nvPr/>
        </p:nvCxnSpPr>
        <p:spPr>
          <a:xfrm rot="5400000">
            <a:off x="7906320" y="4846320"/>
            <a:ext cx="1394640" cy="1436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"/>
          <p:cNvSpPr/>
          <p:nvPr/>
        </p:nvSpPr>
        <p:spPr>
          <a:xfrm>
            <a:off x="4573440" y="3139920"/>
            <a:ext cx="1727280" cy="4334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te. Ten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onos [RTB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66"/>
          <p:cNvSpPr/>
          <p:nvPr/>
        </p:nvSpPr>
        <p:spPr>
          <a:xfrm>
            <a:off x="6156360" y="5229360"/>
            <a:ext cx="1368360" cy="8636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cad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7"/>
          <p:cNvSpPr/>
          <p:nvPr/>
        </p:nvSpPr>
        <p:spPr>
          <a:xfrm>
            <a:off x="2908440" y="3855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PORTA ACTIVOS SECURITIZ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68"/>
          <p:cNvSpPr/>
          <p:nvPr/>
        </p:nvSpPr>
        <p:spPr>
          <a:xfrm>
            <a:off x="-108000" y="42958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 PRECIO CESIO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2" name="AutoShape 69"/>
          <p:cNvCxnSpPr>
            <a:stCxn id="214" idx="0"/>
            <a:endCxn id="196" idx="2"/>
          </p:cNvCxnSpPr>
          <p:nvPr/>
        </p:nvCxnSpPr>
        <p:spPr>
          <a:xfrm flipV="1">
            <a:off x="1077480" y="3789360"/>
            <a:ext cx="73800" cy="11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AutoShape 70"/>
          <p:cNvCxnSpPr/>
          <p:nvPr/>
        </p:nvCxnSpPr>
        <p:spPr>
          <a:xfrm flipH="1">
            <a:off x="1476000" y="3357720"/>
            <a:ext cx="151200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Oval 72"/>
          <p:cNvSpPr/>
          <p:nvPr/>
        </p:nvSpPr>
        <p:spPr>
          <a:xfrm>
            <a:off x="4500720" y="4292640"/>
            <a:ext cx="122364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o activ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5" name="AutoShape 73"/>
          <p:cNvCxnSpPr>
            <a:endCxn id="224" idx="1"/>
          </p:cNvCxnSpPr>
          <p:nvPr/>
        </p:nvCxnSpPr>
        <p:spPr>
          <a:xfrm flipH="1">
            <a:off x="4679280" y="3645000"/>
            <a:ext cx="25308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74"/>
          <p:cNvCxnSpPr>
            <a:stCxn id="224" idx="6"/>
          </p:cNvCxnSpPr>
          <p:nvPr/>
        </p:nvCxnSpPr>
        <p:spPr>
          <a:xfrm>
            <a:off x="5724360" y="4597200"/>
            <a:ext cx="2161080" cy="632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227" name="AutoShape 75"/>
          <p:cNvCxnSpPr>
            <a:stCxn id="224" idx="3"/>
          </p:cNvCxnSpPr>
          <p:nvPr/>
        </p:nvCxnSpPr>
        <p:spPr>
          <a:xfrm flipH="1">
            <a:off x="1331640" y="4812840"/>
            <a:ext cx="3348720" cy="1064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228" name="Rectangle 76"/>
          <p:cNvSpPr/>
          <p:nvPr/>
        </p:nvSpPr>
        <p:spPr>
          <a:xfrm>
            <a:off x="7237440" y="2347920"/>
            <a:ext cx="1727280" cy="4334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ificadora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9" name="AutoShape 77"/>
          <p:cNvCxnSpPr>
            <a:stCxn id="228" idx="2"/>
            <a:endCxn id="207" idx="1"/>
          </p:cNvCxnSpPr>
          <p:nvPr/>
        </p:nvCxnSpPr>
        <p:spPr>
          <a:xfrm flipH="1">
            <a:off x="7987680" y="2781360"/>
            <a:ext cx="1134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78"/>
          <p:cNvCxnSpPr/>
          <p:nvPr/>
        </p:nvCxnSpPr>
        <p:spPr>
          <a:xfrm flipV="1">
            <a:off x="6372000" y="292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80"/>
          <p:cNvSpPr/>
          <p:nvPr/>
        </p:nvSpPr>
        <p:spPr>
          <a:xfrm>
            <a:off x="3348000" y="5373720"/>
            <a:ext cx="1440000" cy="71928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2" name="AutoShape 81"/>
          <p:cNvCxnSpPr>
            <a:stCxn id="231" idx="1"/>
          </p:cNvCxnSpPr>
          <p:nvPr/>
        </p:nvCxnSpPr>
        <p:spPr>
          <a:xfrm flipH="1">
            <a:off x="2555640" y="5734080"/>
            <a:ext cx="792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Text Box 82"/>
          <p:cNvSpPr/>
          <p:nvPr/>
        </p:nvSpPr>
        <p:spPr>
          <a:xfrm>
            <a:off x="2908440" y="6167520"/>
            <a:ext cx="144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N PRECIO COLOCACIÓN VALO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463400" y="8161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ACTIVOS: ASPECTOS LEGALES DEL MAYOR INTER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844640"/>
            <a:ext cx="800100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TIPOS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DE ACTIVOS, </a:t>
            </a: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DESDE UN PUNTO DE VISTA LEG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NTRATOS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UNIDAD DEL CONTRATO Y SUS CAU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ESIONES DE CRÉDIT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QUE EMANAN DE CONTRATOS BILATERAL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DE EJECUCION DIFERIDA O TRACTO SUCES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L PATRIMONIO SEPARADO Y SU CONTROL SOBR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REACION DE ACTIVOS ESPECIALES: 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GULACIÓN TEMÁTICA DE SU PROPIE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L CONTROL D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SUJECIÓN AL EVENTO DE INSOLVENCIA DEL DEUDOR DE LOS 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924120" y="571680"/>
            <a:ext cx="76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IPOS DE SECURITIZACIONES EN FUNCIÓN DE SUS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857160" y="1386000"/>
            <a:ext cx="8115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LH – M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REDITOS AUTOMOTRICES, DE CONSUM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, A PESAR DE SER ACTUALES Y CEDIBLES Y QUE NO NECESARIAMENTE SUPONEN UN CRÉDITO ACTU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ACTU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S OPERACIONES REVOL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NTRATOS DE ARRENDAMIENTO, TAKE OR P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, NO SON ACTUALES Y CEDIBLES, AL MENOS EN TEORÍ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IESGO OPERACIONAL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¿CESION FUTURA DE LOS CREDITO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RENTE A LA INSOLVENCIA DEL DEUDOR DE LOS FLUJOS FUTUROS, PARTICIPACIÓN DE TODOS LO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95280" y="21319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nte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to de cesión: entrega activo y percibe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ser titular de valores junior (sobrecolatera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parte: 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84720" y="21337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4784760" y="502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861080" y="47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1965240" y="95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2727360" y="1230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59920" y="76500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PERSPECTIVAS DE LAS PARTES INVOLUCR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179280" y="4292640"/>
            <a:ext cx="8964720" cy="71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961920" y="170028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179280" y="3932280"/>
            <a:ext cx="382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dministrador primario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179280" y="3416400"/>
            <a:ext cx="43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el activo, puede tener que asumir obligaciones que aseguren la existencia y solvencia del activ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849920" y="170028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IZADO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4427640" y="198900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esionaria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trato de cesión: recibe activo y paga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jeto activo de obligaciones que asume 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traparte: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4427640" y="2852640"/>
            <a:ext cx="47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misora de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Emisión: recibe producto de la colocación y se obliga al pago de los bonos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4427640" y="357336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a patrimonio separ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os activos y otr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a obligación de pago de los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5003640" y="441972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tiene su patrimonio común para su gi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5003640" y="42210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maest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108000" y="44928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T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92160" y="4797360"/>
            <a:ext cx="4335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presenta a los inversionistas en el ctto. de emi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 “contraparte” de la Securitizadora en el ctt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emisión, exige cumplimiento de sus obliga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ertifica el debido entero del activo del patrimonio separ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ibera los fondos de la recaud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4500720" y="486900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4484520" y="51577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ran valores, pagan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erciben pago de los valores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on [casi] los únicos acreedores del patrimonio separado [éste no tiene patrimonio neto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on la verdadera contraparte de la Securitizado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814760" y="622440"/>
            <a:ext cx="58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OBJETIVO DE LA ESTRUCTURA LEG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EN LA 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47720" y="177336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BLINDAR UN PATRIMONIO: SUS ACTIVOS, SUS FLUJOS Y SUS PAS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633760" y="2205000"/>
            <a:ext cx="61862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dos y determinados desde un comienzo (¿sustituciones?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 del patrimonio separado (venta verdadera / acciones pauliana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es de graváme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conozcan derechos en favor de terceros (venta verdader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flujos sólo se perciban por el patrimonio separad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inversión de los excedentes de caj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ejoramientos credit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dos y avaluados desde un comienz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por serv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mitidos (preferentes / subordinad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ción de otros pasivos de otros patrimonios separado de la mis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izadora y de su patrimonio comú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es legales, contractuales y extracontractu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os tributar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rte del Originador no repercuta en patrimonio separado  (ej.: su quiebr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5" descr="j0240695"/>
          <p:cNvPicPr/>
          <p:nvPr/>
        </p:nvPicPr>
        <p:blipFill>
          <a:blip r:embed="rId1"/>
          <a:stretch/>
        </p:blipFill>
        <p:spPr>
          <a:xfrm>
            <a:off x="684360" y="2349360"/>
            <a:ext cx="18255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28800" y="4759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ACTIVOS: FLUJOS QUE GENEREN DEBEN DESTINARSE AL PAGO DE LOS TITULOS DE DEUDA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13920" y="1413000"/>
            <a:ext cx="7704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Activos entran al patrimonio separado libres de graváme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Facultades RTB para liberar de gravámenes, pagar precio de adquisición de activos, antes de entregar monto colocación titulos al emisor (certificado del representante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Deben permanecer libres de gravámenes salvo autorización R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Ley señala taxativamente quiénes son acreedores del patrimonio separado. Nadie más puede percibir sus fluj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Sólo después de pagados títulos de deuda, los activos y pasivos remanentes entran al patrimonio comú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La estructura no previene actos dolo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466640" y="8161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ACTIVOS: ASPECTOS LEGALES DEL MAYOR INTER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892080" y="191628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ESIONES DE ACTIVOS AL PATRIMONIO SEPAR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ÉGIMEN SIMPLIFICADO DE CE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entraliz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stos y plaz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OPONIBLE AL DEUDOR Y SU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Activos se restan de la prenda general de los acreedor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ÉGIMEN EXTENSIBLE A DERECHOS, CRÉDITOS Y TÍTULOS </a:t>
            </a:r>
            <a:r>
              <a:rPr b="1" i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MINA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Aplicación del endoso de los títulos de crédito como méto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 CLÁUSULA ANTI – CESIÓN, OBLIGACIÓN DE NO HAC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Un entorpecimiento general a la circulación de los créditos de contratos comerci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 SECRECÍA DEL CLIENTE DE LOS CRÉDIT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fricción entre la publicidad de los valores y la secrecía de los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9" descr="j0216858"/>
          <p:cNvPicPr/>
          <p:nvPr/>
        </p:nvPicPr>
        <p:blipFill>
          <a:blip r:embed="rId1"/>
          <a:stretch/>
        </p:blipFill>
        <p:spPr>
          <a:xfrm>
            <a:off x="4716360" y="213192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8440" y="404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PASIVOS: NO CONTAMINACIÓN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01680" y="1779480"/>
            <a:ext cx="7942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Times New Roman"/>
              </a:rPr>
              <a:t>Pasivos determinados sobre el patrimonio separ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Intereses y capital títulos deud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emis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administración (honorarios, impuesto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Contrato de emisión debe determinar costos imputables al patrimonio separado, incluyendo pagos actuales y máxim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Recursos necesarios para pagar tributos o sanciones originadas en esos activ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la liquidación del patrimonio separado, salvo que sea por quiebra de sociedad securitizado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raspaso de bienes excedentes sobre márgenes estipulados, al patrimonio comú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85880" y="1571760"/>
            <a:ext cx="8153280" cy="45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IMITACIÓN DERECHO GENERAL DE PRENDA PARA PASIVOS DE LA SOCIEDAD SECURITIZADORA: PATRIMONIO COM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QUIEBRA DEL ADMINISTRADOR: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MINGLING RISK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, RENDICIÓN PERIOD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¿OTROS PASIVOS CONTING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SCALES / TRIBUTARIOS: OBLIGACION DE CONTRIBUCION AL  PATRIMONIO COMUN; NO ES OBLIGACION CON EL F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ABORALES / PREVISIONALES: AL PATRIMONIO COMUN (PATRIMONIO SEPARADO NO TIENE EMPLEAD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IVILES / INDEMNIZACIONES: AL PATRIMONIO COMUN (ALLI ESTA LA GESTION Y POR ENDE EL RIESGO DE  ILÍCITO O INCUMPLIMIENTO CIVI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IQUIDACION DE UN PATRIMONIO SEPARADO NO PRODUCE EFECTO SOBRE OTROS PATRIMONIOS SEPARADOS NI SOBRE PATRIMONIO COMU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971640" y="11592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PASIVOS: NO CONTA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69840" y="1839960"/>
            <a:ext cx="208764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778200" y="1785960"/>
            <a:ext cx="201600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659640" y="1857240"/>
            <a:ext cx="2016000" cy="3988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09600" y="571680"/>
            <a:ext cx="481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Dónde encuentran el capital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327348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3417840" y="1911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27 Flecha izquierda y derecha"/>
          <p:cNvSpPr/>
          <p:nvPr/>
        </p:nvSpPr>
        <p:spPr>
          <a:xfrm>
            <a:off x="6000840" y="1857240"/>
            <a:ext cx="500040" cy="41292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8064a2"/>
          </a:solidFill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28 Rectángulo redondeado"/>
          <p:cNvSpPr/>
          <p:nvPr/>
        </p:nvSpPr>
        <p:spPr>
          <a:xfrm>
            <a:off x="5072040" y="4071960"/>
            <a:ext cx="207180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30 Rectángulo redondeado"/>
          <p:cNvSpPr/>
          <p:nvPr/>
        </p:nvSpPr>
        <p:spPr>
          <a:xfrm>
            <a:off x="5214960" y="3000240"/>
            <a:ext cx="171432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31 Rectángulo redondeado"/>
          <p:cNvSpPr/>
          <p:nvPr/>
        </p:nvSpPr>
        <p:spPr>
          <a:xfrm>
            <a:off x="6715080" y="5072040"/>
            <a:ext cx="192888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Accionis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32 Rectángulo redondeado"/>
          <p:cNvSpPr/>
          <p:nvPr/>
        </p:nvSpPr>
        <p:spPr>
          <a:xfrm>
            <a:off x="7358040" y="4014720"/>
            <a:ext cx="128592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AF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3 Rectángulo redondeado"/>
          <p:cNvSpPr/>
          <p:nvPr/>
        </p:nvSpPr>
        <p:spPr>
          <a:xfrm>
            <a:off x="214200" y="5000760"/>
            <a:ext cx="2643480" cy="1143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34 Rectángulo redondeado"/>
          <p:cNvSpPr/>
          <p:nvPr/>
        </p:nvSpPr>
        <p:spPr>
          <a:xfrm>
            <a:off x="7072200" y="2928960"/>
            <a:ext cx="157176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Fon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35 Flecha arriba"/>
          <p:cNvSpPr/>
          <p:nvPr/>
        </p:nvSpPr>
        <p:spPr>
          <a:xfrm>
            <a:off x="7143840" y="2500200"/>
            <a:ext cx="785880" cy="357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6 Rectángulo redondeado"/>
          <p:cNvSpPr/>
          <p:nvPr/>
        </p:nvSpPr>
        <p:spPr>
          <a:xfrm>
            <a:off x="3929040" y="5300640"/>
            <a:ext cx="2643120" cy="7002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Cías. de Seguros de V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000160" y="2500200"/>
            <a:ext cx="265932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38 Nube"/>
          <p:cNvSpPr/>
          <p:nvPr/>
        </p:nvSpPr>
        <p:spPr>
          <a:xfrm>
            <a:off x="214200" y="3214800"/>
            <a:ext cx="4643640" cy="148572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40 Flecha derecha"/>
          <p:cNvSpPr/>
          <p:nvPr/>
        </p:nvSpPr>
        <p:spPr>
          <a:xfrm>
            <a:off x="3143160" y="5429160"/>
            <a:ext cx="57168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21 Rectángulo redondeado"/>
          <p:cNvSpPr/>
          <p:nvPr/>
        </p:nvSpPr>
        <p:spPr>
          <a:xfrm>
            <a:off x="5224320" y="6143760"/>
            <a:ext cx="3348360" cy="5713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Securitiz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1763640" y="692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ANCIAMIENTO EN 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RCADO DE VAL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1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19280" y="2448000"/>
            <a:ext cx="8424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A sujeta a normas de sociedades abiert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statuto tipo de Sociedades Anónimas, salv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Objeto exclusivo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Adquirir Activos para aporte a Patrimonio Separado. Emisión títulos deuda corto/largo plaz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apital Pagado no inferior a 10.000 UF (</a:t>
            </a:r>
            <a:r>
              <a:rPr b="0" lang="es-CL" sz="17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USD 260,000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den ser filiales bancari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stricción adquisición de activos de bancos relacionados: 35% de activos de Patrimonio Separado como máxim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Gobierno corporativo:  - Directorio (5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Ger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Auditoria Extern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No comité directores (salvo patrimonio bursátil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        mayor a  1.500.000 UF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1187280" y="1828800"/>
            <a:ext cx="273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ECURITIZAD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6443640" y="1828800"/>
            <a:ext cx="9367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V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9"/>
          <p:cNvSpPr/>
          <p:nvPr/>
        </p:nvSpPr>
        <p:spPr>
          <a:xfrm flipH="1">
            <a:off x="4066920" y="1844640"/>
            <a:ext cx="216036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1671840" y="7398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SECURITIZADORAS, NORMAS ORGÁN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43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LIQUIDACIÓN DEL PATRIMONIO SEPARADO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55800" y="1644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ATRIMONIO SEPARADO NO QUIEBRA, SE LIQ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ERMINOS DE LA LIQUIDAC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LEXIBILIDAD PARA LLEVAR ADELANTE PROCEDIMIENTOS DE LIQUIDACION EFICIENTE: MAYORIA PUEDE CAMBIAR CONDICIONES DE EM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TENCION DE MANTENER Y LIQUIDAR COMO UNIDAD PATRIMONIAL:¿SÓLO CUANDO SE ORIGINA EN QUIEBRA DEL SPV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IQUIDADOR: REPRESENTANTE TENEDORES O DESIGNADO POR TEN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IQUIDACION NO PONE TERMINO A CONTRATOS DE ADMINISTRACION Y CUSTODIA DE A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VENTUAL CONCURRENCIA DE ACREEDORES PATRIMONIO SEPARADO AL PATRIMONIO COMUN (CLAUSULA OPTATIVA EN LA EMISION) ¿DEUDA SUBSIDIAR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116000" y="1828800"/>
            <a:ext cx="167652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258920" y="1843200"/>
            <a:ext cx="1368360" cy="337320"/>
          </a:xfrm>
          <a:prstGeom prst="rect">
            <a:avLst/>
          </a:prstGeom>
          <a:solidFill>
            <a:srgbClr val="e6ea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6613560" y="1852560"/>
            <a:ext cx="227952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144440" y="4518000"/>
            <a:ext cx="136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Ga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708360" y="3684600"/>
            <a:ext cx="1511280" cy="3373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6726240" y="3436920"/>
            <a:ext cx="100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726240" y="4013280"/>
            <a:ext cx="202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144440" y="2860560"/>
            <a:ext cx="172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1144440" y="3726000"/>
            <a:ext cx="136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6689880" y="2860560"/>
            <a:ext cx="1044360" cy="3373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1665360" y="357120"/>
            <a:ext cx="5566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OTIVACIÓN: EL FINANCIAMI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 LA EMPRE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¿Para qué necesitan capital las empresa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14"/>
          <p:cNvSpPr/>
          <p:nvPr/>
        </p:nvSpPr>
        <p:spPr>
          <a:xfrm flipH="1">
            <a:off x="2944440" y="2060640"/>
            <a:ext cx="34275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348000" y="4853160"/>
            <a:ext cx="244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ación del va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17"/>
          <p:cNvSpPr/>
          <p:nvPr/>
        </p:nvSpPr>
        <p:spPr>
          <a:xfrm>
            <a:off x="2009880" y="2286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2009880" y="32209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2009880" y="408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20"/>
          <p:cNvSpPr/>
          <p:nvPr/>
        </p:nvSpPr>
        <p:spPr>
          <a:xfrm flipH="1" flipV="1">
            <a:off x="6372360" y="3068640"/>
            <a:ext cx="1440" cy="20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6644160" y="46101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érdid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23"/>
          <p:cNvSpPr/>
          <p:nvPr/>
        </p:nvSpPr>
        <p:spPr>
          <a:xfrm>
            <a:off x="2916360" y="30528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24"/>
          <p:cNvSpPr/>
          <p:nvPr/>
        </p:nvSpPr>
        <p:spPr>
          <a:xfrm flipV="1">
            <a:off x="2557440" y="391644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25"/>
          <p:cNvSpPr/>
          <p:nvPr/>
        </p:nvSpPr>
        <p:spPr>
          <a:xfrm flipV="1">
            <a:off x="4500720" y="4060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Line 26"/>
          <p:cNvSpPr/>
          <p:nvPr/>
        </p:nvSpPr>
        <p:spPr>
          <a:xfrm>
            <a:off x="5869080" y="5068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2987640" y="2260440"/>
            <a:ext cx="345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iferencia Ingresos y co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áximo valor pres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969840" y="183996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pital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778200" y="183996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stam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659640" y="1911240"/>
            <a:ext cx="201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inanc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012400" y="571680"/>
            <a:ext cx="4798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Quiénes aportan el capital a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1978200" y="23446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327348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3417840" y="1911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608184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6081840" y="22003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7738920" y="23432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184040" y="287820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ie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1187280" y="3679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1185840" y="32846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185480" y="4076640"/>
            <a:ext cx="14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iesgo 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185120" y="47512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185120" y="5154480"/>
            <a:ext cx="159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r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tin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exig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900960" y="2844720"/>
            <a:ext cx="20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tuantes, 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921840" y="331164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r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3919320" y="374328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gibles, efe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920040" y="4606920"/>
            <a:ext cx="184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financie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3848760" y="5254560"/>
            <a:ext cx="249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italistas (cuent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soci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6924240" y="2932200"/>
            <a:ext cx="170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orcion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la Empres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ustentan 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921480" y="4175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26"/>
          <p:cNvSpPr/>
          <p:nvPr/>
        </p:nvSpPr>
        <p:spPr>
          <a:xfrm>
            <a:off x="4786200" y="23432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928800" y="2643120"/>
            <a:ext cx="721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ítulo puede derivar de operaciones de crédito de dinero (financie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uministro de bienes y servicios con saldo de precio / ejecución diferida (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os habrá preferentes o val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ferencias dicen relación con la totalidad del activo o con ciertos bienes del 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os habrá senior o juni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247840" y="700200"/>
            <a:ext cx="550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ECANISM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Qué productos buscan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1809000" y="202896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Acreedore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1986840" y="785880"/>
            <a:ext cx="5927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ECANISM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Qué características de los productos de 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buscan las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1496880" y="1928880"/>
            <a:ext cx="66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ministración empresarial y gestión financi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804960" y="2678040"/>
            <a:ext cx="8068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plazos - liquide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argo plazo &gt; 1 añ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rto plazo &lt; 1 año o porción corta del lar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monedas : ingresos vs. pasivos exigibles, cross currency swa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 financiamiento en misma mon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tasas: típicamente para quienes giran en el negocio de prestar, activ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eros vs. pasivos financieros – hedge de ta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ecio (tasas), garantías, costos de transacción, plazos de ejecu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Riesgo solvencia, garantías de crédito, clasificación del ries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Indicadores financi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557360" y="752400"/>
            <a:ext cx="69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PRESENTACIÓN FINANCIERA 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119240" y="21384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117440" y="2565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1119960" y="3003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120680" y="34354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3836160" y="21049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57760" y="257184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858480" y="3003480"/>
            <a:ext cx="22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858120" y="365112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3859560" y="4154400"/>
            <a:ext cx="1983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6880680" y="271476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1117440" y="162864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Balanc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4863600" y="545148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4809960" y="5407200"/>
            <a:ext cx="27864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7"/>
          <p:cNvSpPr/>
          <p:nvPr/>
        </p:nvSpPr>
        <p:spPr>
          <a:xfrm flipH="1">
            <a:off x="1765440" y="6093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8"/>
          <p:cNvSpPr/>
          <p:nvPr/>
        </p:nvSpPr>
        <p:spPr>
          <a:xfrm flipV="1">
            <a:off x="1765440" y="5084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1983240" y="5734080"/>
            <a:ext cx="19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21"/>
          <p:cNvSpPr/>
          <p:nvPr/>
        </p:nvSpPr>
        <p:spPr>
          <a:xfrm flipV="1">
            <a:off x="5942160" y="5805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2990880" y="21319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23"/>
          <p:cNvSpPr/>
          <p:nvPr/>
        </p:nvSpPr>
        <p:spPr>
          <a:xfrm>
            <a:off x="644688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24"/>
          <p:cNvSpPr/>
          <p:nvPr/>
        </p:nvSpPr>
        <p:spPr>
          <a:xfrm>
            <a:off x="6591240" y="26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25"/>
          <p:cNvSpPr/>
          <p:nvPr/>
        </p:nvSpPr>
        <p:spPr>
          <a:xfrm flipH="1">
            <a:off x="644652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797040" y="1557000"/>
            <a:ext cx="449568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 Corpor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rporación responde por de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 de repago ingresos corpo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iesgos normalmente no ais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lexibilidad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grega deuda, necesari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768560" y="1628640"/>
            <a:ext cx="42670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” de securit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hículo autosost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Unica fuente de pago son flujos de a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existe flexibilidad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ueden existir mejoradores credit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188720" y="74916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DIFERENCIAS ENTRE MÉTODOS DE 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777960" y="3714840"/>
            <a:ext cx="81151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jas para los  Inversionistas [Securitización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enera afectación sobre el activo que sustenta el repa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umento de la variedad y volumen de instrumentos para invert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ceso a instrumentos con perfiles de riesgos inexistentes en el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diferenciar el riesgo de los activos del riesgo de la empresa originadora de los mismos (quiebra remota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ítulos que ofrecen un nivel de protección mayor frente al riesgo de deterioro de la calidad crediticia del originado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reestructurar cartera de invers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2259720" y="620640"/>
            <a:ext cx="50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RÉGIMEN PROPIETARI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PRESUPUESTOS Y CORTAPI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603360" y="1989000"/>
            <a:ext cx="821664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GULACION ESTRUCTURAL QUE HA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IABLE A LA SECURITIZ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IDAD SEPARADA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GIRO ÚNICO, EMISORA DE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 FISCALIZACIÓN GUBERNAMENTAL (PERSPECTIVA DE LOS VALO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EPARACIÓN DE PATRIMON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RMAS ESPECIALES DE LIQUIDACIÓN Y QUIEBRAS DE LA 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ERFECCIONAMIENTO DE LEGISLACIÓN COMÚ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IMULACIÓN DE CONTRA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CIONES REVOCATORIAS O PAULI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IEBRA DEL ORIGINADOR Y EL CRÉDITO DEL PATRIMONIO SEPARADO EN SU CONT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ULTIAGENTES DE GARANTÍASY SU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09600" y="571680"/>
            <a:ext cx="481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Dónde encuentran el capital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913360" y="5472000"/>
            <a:ext cx="265932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8 Nube"/>
          <p:cNvSpPr/>
          <p:nvPr/>
        </p:nvSpPr>
        <p:spPr>
          <a:xfrm>
            <a:off x="4429080" y="1714680"/>
            <a:ext cx="4643640" cy="148572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de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mis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22 Nube"/>
          <p:cNvSpPr/>
          <p:nvPr/>
        </p:nvSpPr>
        <p:spPr>
          <a:xfrm>
            <a:off x="2071800" y="2928960"/>
            <a:ext cx="3562200" cy="178596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Bancario (de intermediación de din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23 Nube"/>
          <p:cNvSpPr/>
          <p:nvPr/>
        </p:nvSpPr>
        <p:spPr>
          <a:xfrm>
            <a:off x="285840" y="4514760"/>
            <a:ext cx="2786040" cy="148608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de Prestamistas priv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25 Flecha derecha"/>
          <p:cNvSpPr/>
          <p:nvPr/>
        </p:nvSpPr>
        <p:spPr>
          <a:xfrm>
            <a:off x="2714760" y="5572080"/>
            <a:ext cx="262080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29 Flecha arriba y abajo"/>
          <p:cNvSpPr/>
          <p:nvPr/>
        </p:nvSpPr>
        <p:spPr>
          <a:xfrm>
            <a:off x="5786280" y="3643200"/>
            <a:ext cx="484200" cy="1573200"/>
          </a:xfrm>
          <a:prstGeom prst="up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1203480" y="1844640"/>
            <a:ext cx="74070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ítulo XVIII de la Ley 18045, establece normas tributarias especiales (art. 15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 falta de normas especiales, rige normativa tributaria 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da securitizadora e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ólo contribuyente, independiente del número de patrimonios separados que posea o administ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trimonios separados NO son contribuyentes (sin R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sponsable del pago de impuestos es la sociedad securitizadora (art. 153 inciso 2° y art. 140 inc. fi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247760" y="7668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TRIBUTARI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247760" y="7668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TRIBUTARI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892080" y="1700280"/>
            <a:ext cx="800100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FECTOS TRIBUTAR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NTA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STO TRIBUTARIO DEL ACTIVO (SI AUN NO CONTABILIZAD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CONOCIMIENTO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SPONSABILIDADES QUE ASUME: ¿EFECTO DE PASIV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VENTA POR ANTICIPADO: COSTO FUTURO DE PRODUC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IMPUESTOS DE SELLOS (TIMB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IVA EN LOS SERV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Cómo lo descarga el patrimonio separado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Lo puede trasladar a los inversionistas (si ellos pueden descargarlo)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Es costo para el patrimonio separad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ERO EFECTO TRIBUTARIO PARA EL PATRIMONIO SEPARADO (O RECONOCIMIENTO DE CRÉDITOS A TENEDORES DE VALO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OTROS RESGUARDOS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04960" y="1071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FACULTAD REPRESENTANTE TENEDOR DE BONOS PARA ASEGURARSE DEL ENTERO DE APORTES ADICIONALES ANTES DE LIBERAR MONTO COLOCACION TITULOS DEUDA (CERTIFICADO DEL REPRESENTANTE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USALES DE PREPAGO OBLIGATORIAS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REDITOS PAGADOS VOLUNTARIAMENTE POR EL DEUDO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ACREEDOR EXIGIO EL PAGO ANTICIPADO POR RAZONES LEGALES O CONTRACTUALES QUE LO AUTORIZABAN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AMBOS CASOS SE PODRA ANTICIPAR EL PAGO O SUSTITUIR ACTIVOS POR OTR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223640" y="7668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FINANCIER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892080" y="2205000"/>
            <a:ext cx="8001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EFECTOS FINANCIE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RECONOCIMIENTO OFF BALANC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¿RECONOCIMIENTO DE OBLIGACIONES DE HACER QUE ASUME EL ORIGINADO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RECONOCIMIENTO DEL SOBRECOLATERAL QUE ENTREGA EL ORIGINADOR, VALOR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EL FINANCIAMIENTO DEL ACOPIO POR EL MERCADO DE CAPIT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9" descr="j0222015"/>
          <p:cNvPicPr/>
          <p:nvPr/>
        </p:nvPicPr>
        <p:blipFill>
          <a:blip r:embed="rId1"/>
          <a:stretch/>
        </p:blipFill>
        <p:spPr>
          <a:xfrm>
            <a:off x="1187280" y="4797360"/>
            <a:ext cx="4753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009160" y="50004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ÉTOD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85880" y="1212840"/>
            <a:ext cx="77407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el activo (licuación de activ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asivos exig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Híbridos (capital / exigib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canismos de fo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amiento si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éditos [bancarios] simples, múltiples o sindic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misiones de ac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amiento Estructurado, flujos asociados a un proyecto o fuente de re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yectos de 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ondos de inver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009160" y="35712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ÉTOD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857160" y="3357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anciamiento Estructurado, flujos asociados a un proyecto o fuente de re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57160" y="9288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anciamiento Corporativo: Derecho de Prenda 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13 Flecha izquierda y derecha"/>
          <p:cNvSpPr/>
          <p:nvPr/>
        </p:nvSpPr>
        <p:spPr>
          <a:xfrm>
            <a:off x="3500280" y="4286160"/>
            <a:ext cx="1714680" cy="484200"/>
          </a:xfrm>
          <a:prstGeom prst="leftRightArrow">
            <a:avLst>
              <a:gd name="adj1" fmla="val 50000"/>
              <a:gd name="adj2" fmla="val 50053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14 Redondear rectángulo de esquina sencilla"/>
          <p:cNvSpPr/>
          <p:nvPr/>
        </p:nvSpPr>
        <p:spPr>
          <a:xfrm>
            <a:off x="5715000" y="4143240"/>
            <a:ext cx="2857680" cy="121464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15 Redondear rectángulo de esquina del mismo lado"/>
          <p:cNvSpPr/>
          <p:nvPr/>
        </p:nvSpPr>
        <p:spPr>
          <a:xfrm>
            <a:off x="785880" y="4143240"/>
            <a:ext cx="2357280" cy="11430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CIERTOS ACTIVOS, FLUJOS Y GARANTÍ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16 Señal de prohibido"/>
          <p:cNvSpPr/>
          <p:nvPr/>
        </p:nvSpPr>
        <p:spPr>
          <a:xfrm>
            <a:off x="5929200" y="5500800"/>
            <a:ext cx="2129040" cy="121428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R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17 Señal de prohibido"/>
          <p:cNvSpPr/>
          <p:nvPr/>
        </p:nvSpPr>
        <p:spPr>
          <a:xfrm>
            <a:off x="785880" y="5500800"/>
            <a:ext cx="2128680" cy="121428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18 Distinto de"/>
          <p:cNvSpPr/>
          <p:nvPr/>
        </p:nvSpPr>
        <p:spPr>
          <a:xfrm>
            <a:off x="3871800" y="5572080"/>
            <a:ext cx="914400" cy="914400"/>
          </a:xfrm>
          <a:prstGeom prst="pie">
            <a:avLst/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0 Conector recto"/>
          <p:cNvSpPr/>
          <p:nvPr/>
        </p:nvSpPr>
        <p:spPr>
          <a:xfrm>
            <a:off x="71280" y="5429160"/>
            <a:ext cx="9144000" cy="1800"/>
          </a:xfrm>
          <a:prstGeom prst="line">
            <a:avLst/>
          </a:prstGeom>
          <a:ln w="19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24 Redondear rectángulo de esquina sencilla"/>
          <p:cNvSpPr/>
          <p:nvPr/>
        </p:nvSpPr>
        <p:spPr>
          <a:xfrm>
            <a:off x="5857920" y="1285920"/>
            <a:ext cx="2643120" cy="9288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27 Redondear rectángulo de esquina sencilla"/>
          <p:cNvSpPr/>
          <p:nvPr/>
        </p:nvSpPr>
        <p:spPr>
          <a:xfrm>
            <a:off x="5857920" y="2357280"/>
            <a:ext cx="2643120" cy="9288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R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28 Redondear rectángulo de esquina del mismo lado"/>
          <p:cNvSpPr/>
          <p:nvPr/>
        </p:nvSpPr>
        <p:spPr>
          <a:xfrm>
            <a:off x="938160" y="1285920"/>
            <a:ext cx="2357640" cy="200016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TODOS LOS ACTIVOS, FLUJOS Y GARANTÍ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32 Forma libre"/>
          <p:cNvSpPr/>
          <p:nvPr/>
        </p:nvSpPr>
        <p:spPr>
          <a:xfrm>
            <a:off x="5005440" y="5472000"/>
            <a:ext cx="936720" cy="1378080"/>
          </a:xfrm>
          <a:prstGeom prst="pie">
            <a:avLst/>
          </a:prstGeom>
          <a:noFill/>
          <a:ln w="10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35 Forma libre"/>
          <p:cNvSpPr/>
          <p:nvPr/>
        </p:nvSpPr>
        <p:spPr>
          <a:xfrm>
            <a:off x="3787920" y="4238640"/>
            <a:ext cx="2003400" cy="1200240"/>
          </a:xfrm>
          <a:prstGeom prst="pie">
            <a:avLst/>
          </a:prstGeom>
          <a:noFill/>
          <a:ln w="10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36 Cara sonriente"/>
          <p:cNvSpPr/>
          <p:nvPr/>
        </p:nvSpPr>
        <p:spPr>
          <a:xfrm>
            <a:off x="4143240" y="1357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38 Flecha izquierda y derecha"/>
          <p:cNvSpPr/>
          <p:nvPr/>
        </p:nvSpPr>
        <p:spPr>
          <a:xfrm>
            <a:off x="3652920" y="2643120"/>
            <a:ext cx="1714320" cy="484200"/>
          </a:xfrm>
          <a:prstGeom prst="leftRight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04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ESTRUCTURA DE UNA SECURITIZACIÓN 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[en general]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280" y="134100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058840" y="2135160"/>
            <a:ext cx="1292400" cy="45396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906560" y="2973240"/>
            <a:ext cx="1673280" cy="37800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riginad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051560" y="26528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657600" y="2286000"/>
            <a:ext cx="238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Bien / Servi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160" y="3811680"/>
            <a:ext cx="1292400" cy="53028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mis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Sp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906560" y="5259240"/>
            <a:ext cx="1749600" cy="37800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5945040" y="3811680"/>
            <a:ext cx="1216080" cy="45396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ust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2362320" y="266868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2895480" y="266652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362320" y="343044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2971800" y="342900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2362320" y="442116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16"/>
          <p:cNvSpPr/>
          <p:nvPr/>
        </p:nvSpPr>
        <p:spPr>
          <a:xfrm flipV="1">
            <a:off x="3048120" y="441972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6553080" y="43448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8"/>
          <p:cNvSpPr/>
          <p:nvPr/>
        </p:nvSpPr>
        <p:spPr>
          <a:xfrm flipH="1">
            <a:off x="4115880" y="541008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3735360" y="2209680"/>
            <a:ext cx="28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6553080" y="2211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6844320" y="2347920"/>
            <a:ext cx="13737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 Bien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rvicio Post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6918840" y="4405320"/>
            <a:ext cx="1408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ago Capit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teres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tulos Deu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3"/>
          <p:cNvSpPr/>
          <p:nvPr/>
        </p:nvSpPr>
        <p:spPr>
          <a:xfrm>
            <a:off x="3339360" y="3414600"/>
            <a:ext cx="215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Venta Activos $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1051200" y="3338640"/>
            <a:ext cx="8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1127520" y="4481640"/>
            <a:ext cx="84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tul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3535200" y="4405320"/>
            <a:ext cx="179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Coloc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5144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-512640" y="321696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763640" y="692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411280" y="2205000"/>
            <a:ext cx="30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14240" y="879480"/>
            <a:ext cx="777744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empresa, el financiamiento por la vía del 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inversionista, riesgos asoc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legislador, mecanismo de financiamiento de la empresa en el mercado de capitales, desintermediación y abaratamiento del costo de financiamiento de las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regulador, acción del mercado de capit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Securitizadora, un negocio de intermediación con efecto en el corto y largo plaz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clasificadora, riesgo de créd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599480" y="74916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CARACTERÍSTICAS DE LA SECURIT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777960" y="1700280"/>
            <a:ext cx="81151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ra de balance [casos CLO, excepción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islación de riesgos, transferencia de riegos a inversionistas [quiebra e insolvencia originador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canismo de desintermediación financiera, ahorro de costos de intermediación [relativo: costos Securitizadora y premio a bonos corporativo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a liquidez a activos ilíqui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orma riesgo individual en riesgo de cartera y de estructura de emis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mplía las posibles combinaciones de madurez, tasas y riesgo de los títul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uede aislarse de calidad creditic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educe costos de financiamiento, desde que permite alocar los mejores activos, con menor riesgo, a un financia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enera mejor rotación de recursos financieros, se “manejan” velocidades de liquidez de los 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jora la administración de los 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trastorna la relación con el cli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 Chile, mantiene la privacidad de la empresa financiada, abre la información de su cartera solamente. Flexibilidad en cuanto a la información de la carter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283040" y="622440"/>
            <a:ext cx="66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S RÉGIMENES DE 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971640" y="1428840"/>
            <a:ext cx="78483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uctura fiduci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dominio anglosajón del 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afectación particular de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reconocimiento cultural y leg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ifusión en latinoamé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rue sale y bankruptcy remo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uctura propiet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esistencia a la confianza, mis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safectación de la prenda general, cuestión de 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js. previos en mercado de capitales, fon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falta de fineza regulatoria, ley quiebras, tribut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0:42:07Z</dcterms:created>
  <dc:creator>OBG</dc:creator>
  <dc:description/>
  <dc:language>en-US</dc:language>
  <cp:lastModifiedBy>Author</cp:lastModifiedBy>
  <dcterms:modified xsi:type="dcterms:W3CDTF">2009-07-08T15:42:24Z</dcterms:modified>
  <cp:revision>124</cp:revision>
  <dc:subject/>
  <dc:title>Aspectos Legales </dc:title>
</cp:coreProperties>
</file>