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91D-C810-4B8D-A925-DF3761407E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1797-144E-4672-9526-D7CF4E1184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084-8A70-4695-B2C1-5ED4000390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FCE-B3C5-45B3-A05F-F9B952CCA5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DEDC-F7C0-4B75-B462-C6D8CA9164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B9D-3B57-49F9-BA43-EEBA512ACB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A88-E945-49C7-A1E3-63FD83CFAA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3944-BE18-4CAC-B0CE-D60D067A1D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B12-DA7C-4C6D-869F-EE7DFDE25E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157-6D3B-4DE2-9F68-F01A780126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B23-2A39-441C-92DB-889FF061DF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E78-482F-469A-96F9-341FA3E46C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631-EDF0-4D74-BA80-BD353F7C1B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CD73-638E-41DC-B132-22DA5296C4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0AB-124C-4BEC-83FF-DFA50658F1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699-A900-4312-ACC3-C6A952E6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545-211F-4BAD-AFFC-933EB96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9E6-31DA-4923-BF2F-8EB3867D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60B-A3AE-41E4-BC95-81AE77DA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3D3-F454-4CC4-A2EE-6B61710B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64C4-40D1-4BC2-BC4C-498327D7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454-BF58-4BD3-B257-AEB0411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CF7F-2697-4FCF-B9C1-7D21DAC0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ABA-D743-4E6D-8D0A-9B2573D3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D4E-F887-4D7D-9051-D1D9A587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0363-3BDE-4AA0-AA5C-74761C6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868-C2F0-4E92-8C23-326373C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9B45-21ED-492F-9F24-F045C07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80F5-5B61-4D67-BC7F-5642431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53CC-3EE2-4DB5-B83F-CBED9CA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094-D70B-4552-89A9-178D1BB7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E91E-5AFB-4A32-9BA9-75963CB8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C06-EF99-4A47-9705-BF5CA2F5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2F8-906A-4913-A675-83137B6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6BB-540C-463C-A71D-44A864B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DE1-5533-4F02-8A0F-CC3766B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4C8-D2F1-4A05-B8F4-BC54DD3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D5D-B0CE-4C9C-B92E-58C6EEA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6ED-D19B-44D4-8859-70FC836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AD0-33CC-44F2-9316-0C421DBF89B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E5C5-2C62-4993-AB56-AF55905E214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99960" y="392904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9" descr="Facultad"/>
          <p:cNvPicPr/>
          <p:nvPr/>
        </p:nvPicPr>
        <p:blipFill>
          <a:blip r:embed="rId1"/>
          <a:stretch/>
        </p:blipFill>
        <p:spPr>
          <a:xfrm>
            <a:off x="6588000" y="5975280"/>
            <a:ext cx="2016360" cy="478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2000" y="62244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FANTASMAS DE RÉGIMENES FIDUCI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¿REALIDAD O FICC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71640" y="16286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XISTENCIA DE LO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BIDA TRANSFERENCIA AL SPV: True S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MANENCIA DE LOS ACTIVOS EN EL P. SEPARADO DURANTE TODA SU VIGENCIA. Cesación de efectos de contratos, sanciones absolutas (nulidades), relativas (condición resolutoria, inoponibilidades, quiebra remot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OS: Los flujos que ellos generen deben destinarse al pago de los títulos de deu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ASIVOS: No contaminación de los activos con más pasivos que la emisión de títulos de deu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09840" y="62064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HORA SI: 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8" name="AutoShape 7"/>
          <p:cNvCxnSpPr>
            <a:endCxn id="197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8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SECURIT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S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3"/>
          <p:cNvCxnSpPr>
            <a:stCxn id="206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Oval 35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42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AutoShape 54"/>
          <p:cNvCxnSpPr>
            <a:endCxn id="206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55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57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5" name="AutoShape 59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2"/>
          <p:cNvCxnSpPr>
            <a:stCxn id="207" idx="4"/>
            <a:endCxn id="202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3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onos [RTB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AutoShape 69"/>
          <p:cNvCxnSpPr>
            <a:stCxn id="214" idx="0"/>
            <a:endCxn id="196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70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Oval 72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5" name="AutoShape 73"/>
          <p:cNvCxnSpPr>
            <a:endCxn id="224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4"/>
          <p:cNvCxnSpPr>
            <a:stCxn id="224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227" name="AutoShape 75"/>
          <p:cNvCxnSpPr>
            <a:stCxn id="224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228" name="Rectangle 76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ificadora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AutoShape 77"/>
          <p:cNvCxnSpPr>
            <a:stCxn id="228" idx="2"/>
            <a:endCxn id="207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78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80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AutoShape 81"/>
          <p:cNvCxnSpPr>
            <a:stCxn id="231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82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6340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844640"/>
            <a:ext cx="800100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24120" y="571680"/>
            <a:ext cx="76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SECURITIZACIONES EN FUNCIÓN DE SU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57160" y="1386000"/>
            <a:ext cx="8115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LH – M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DITOS AUTOMOTRICES, DE CONSUM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A PESAR DE SER ACTUALES Y CEDIBLES Y QUE NO NECESARIAMENTE SUPONEN UN CRÉDITO ACTU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A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S OPERACIONES REV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NTRATOS DE ARRENDAMIENTO, TAKE OR P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NO SON ACTUALES Y CEDIBLES, AL MENOS EN TEORÍ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IESGO OPERACIONAL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¿CESION FUTURA DE LOS CREDIT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RENTE A LA INSOLVENCIA DEL DEUDOR DE LOS FLUJOS FUTUROS, PARTICIPACIÓN DE TODOS LO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21319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784760" y="502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86108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59920" y="76500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9280" y="4292640"/>
            <a:ext cx="8964720" cy="71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961920" y="17002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79280" y="3932280"/>
            <a:ext cx="382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dministrador primario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179280" y="341640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849920" y="170028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4427640" y="1989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sionaria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427640" y="2852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bono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427640" y="357336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5003640" y="441972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5003640" y="4221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08000" y="4492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92160" y="4797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 “contraparte” de la Securitizadora en el ctt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ibera los fondos de la recaud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4500720" y="486900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4484520" y="5157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la verdadera contraparte de la 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814760" y="62244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 LA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47720" y="177336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633760" y="2205000"/>
            <a:ext cx="6186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izadora y de su patrimonio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es legales, contractuales y extracontractu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5" descr="j0240695"/>
          <p:cNvPicPr/>
          <p:nvPr/>
        </p:nvPicPr>
        <p:blipFill>
          <a:blip r:embed="rId1"/>
          <a:stretch/>
        </p:blipFill>
        <p:spPr>
          <a:xfrm>
            <a:off x="684360" y="234936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8800" y="475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ACTIVOS: FLUJOS QUE GENEREN DEBEN DESTINARSE AL PAGO DE LOS TITULOS DE DEUDA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13920" y="1413000"/>
            <a:ext cx="7704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ctivos entran al patrimonio separado libres de gravám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Facultades RTB para liberar de gravámenes, pagar precio de adquisición de activos, antes de entregar monto colocación titulos al emisor (certificado del representante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eben permanecer libres de gravámenes salvo autorización R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ey señala taxativamente quiénes son acreedores del patrimonio separado. Nadie más puede percibir sus fluj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Sólo después de pagados títulos de deuda, los activos y pasivos remanentes entran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a estructura no previene actos dolo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6664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892080" y="191628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fricción entre la publicidad de los valores y la secrecía de los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j0216858"/>
          <p:cNvPicPr/>
          <p:nvPr/>
        </p:nvPicPr>
        <p:blipFill>
          <a:blip r:embed="rId1"/>
          <a:stretch/>
        </p:blipFill>
        <p:spPr>
          <a:xfrm>
            <a:off x="4716360" y="213192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4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779480"/>
            <a:ext cx="7942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asivos determinados sobre el patrimonio separ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Intereses y capital títulos deud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emis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administración (honorarios, impuest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Contrato de emisión debe determinar costos imputables al patrimonio separado, incluyendo pagos actuales y máxi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Recursos necesarios para pagar tributos o sanciones originadas en esos activ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la liquidación del patrimonio separado, salvo que sea por quiebra de sociedad securitizado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raspaso de bienes excedentes sobre márgenes estipulados,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85880" y="1571760"/>
            <a:ext cx="815328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MITACIÓN DERECHO GENERAL DE PRENDA PARA PASIVOS DE LA SOCIEDAD SECURITIZADORA: PATRIMONIO COM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QUIEBRA DEL ADMINISTRADOR: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MINGLING RISK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RENDICIÓN PERIO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¿OTROS PASIVOS CONTING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SCALES / TRIBUTARIOS: OBLIGACION DE CONTRIBUCION AL  PATRIMONIO COMUN; NO ES OBLIGACION CON EL F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BORALES / PREVISIONALES: AL PATRIMONIO COMUN (PATRIMONIO SEPARADO NO TIENE EMPLEA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IVILES / INDEMNIZACIONES: AL PATRIMONIO COMUN (ALLI ESTA LA GESTION Y POR ENDE EL RIESGO DE  ILÍCITO O INCUMPLIMIENTO CIV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QUIDACION DE UN PATRIMONIO SEPARADO NO PRODUCE EFECTO SOBRE OTROS PATRIMONIOS SEPARADOS NI SOBRE PATRIMONIO COMU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71640" y="11592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778200" y="1785960"/>
            <a:ext cx="201600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659640" y="1857240"/>
            <a:ext cx="2016000" cy="3988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27 Flecha izquierda y derecha"/>
          <p:cNvSpPr/>
          <p:nvPr/>
        </p:nvSpPr>
        <p:spPr>
          <a:xfrm>
            <a:off x="6000840" y="1857240"/>
            <a:ext cx="500040" cy="41292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28 Rectángulo redondeado"/>
          <p:cNvSpPr/>
          <p:nvPr/>
        </p:nvSpPr>
        <p:spPr>
          <a:xfrm>
            <a:off x="5072040" y="407196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0 Rectángulo redondeado"/>
          <p:cNvSpPr/>
          <p:nvPr/>
        </p:nvSpPr>
        <p:spPr>
          <a:xfrm>
            <a:off x="5214960" y="3000240"/>
            <a:ext cx="17143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31 Rectángulo redondeado"/>
          <p:cNvSpPr/>
          <p:nvPr/>
        </p:nvSpPr>
        <p:spPr>
          <a:xfrm>
            <a:off x="6715080" y="5072040"/>
            <a:ext cx="1928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ccion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32 Rectángulo redondeado"/>
          <p:cNvSpPr/>
          <p:nvPr/>
        </p:nvSpPr>
        <p:spPr>
          <a:xfrm>
            <a:off x="7358040" y="4014720"/>
            <a:ext cx="12859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F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3 Rectángulo redondeado"/>
          <p:cNvSpPr/>
          <p:nvPr/>
        </p:nvSpPr>
        <p:spPr>
          <a:xfrm>
            <a:off x="214200" y="5000760"/>
            <a:ext cx="2643480" cy="1143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4 Rectángulo redondeado"/>
          <p:cNvSpPr/>
          <p:nvPr/>
        </p:nvSpPr>
        <p:spPr>
          <a:xfrm>
            <a:off x="7072200" y="2928960"/>
            <a:ext cx="157176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Fon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5 Flecha arriba"/>
          <p:cNvSpPr/>
          <p:nvPr/>
        </p:nvSpPr>
        <p:spPr>
          <a:xfrm>
            <a:off x="7143840" y="2500200"/>
            <a:ext cx="785880" cy="357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6 Rectángulo redondeado"/>
          <p:cNvSpPr/>
          <p:nvPr/>
        </p:nvSpPr>
        <p:spPr>
          <a:xfrm>
            <a:off x="3929040" y="5300640"/>
            <a:ext cx="2643120" cy="700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Cías. de Seguros de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000160" y="25002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8 Nube"/>
          <p:cNvSpPr/>
          <p:nvPr/>
        </p:nvSpPr>
        <p:spPr>
          <a:xfrm>
            <a:off x="214200" y="3214800"/>
            <a:ext cx="4643640" cy="148572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40 Flecha derecha"/>
          <p:cNvSpPr/>
          <p:nvPr/>
        </p:nvSpPr>
        <p:spPr>
          <a:xfrm>
            <a:off x="3143160" y="5429160"/>
            <a:ext cx="57168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21 Rectángulo redondeado"/>
          <p:cNvSpPr/>
          <p:nvPr/>
        </p:nvSpPr>
        <p:spPr>
          <a:xfrm>
            <a:off x="5224320" y="6143760"/>
            <a:ext cx="3348360" cy="5713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Securitiz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1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19280" y="244800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A sujeta a normas de sociedades abier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statuto tipo de Sociedades Anónimas, salv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Objeto exclusivo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quirir Activos para aporte a Patrimonio Separado. Emisión títulos deuda corto/largo pl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apital Pagado no inferior a 10.000 UF (</a:t>
            </a: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USD 260,00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den ser filiales banca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stricción adquisición de activos de bancos relacionados: 35% de activos de Patrimonio Separado como máxi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Gobierno corporativo:  - Directorio (5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Ge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Auditoria Exter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No comité directores (salvo patrimonio bursátil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    mayor a  1.500.000 U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187280" y="1828800"/>
            <a:ext cx="273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D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443640" y="1828800"/>
            <a:ext cx="936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4066920" y="1844640"/>
            <a:ext cx="21603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1671840" y="7398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CURITIZADORAS, NORMAS ORGÁ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43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LIQUIDACIÓN DEL PATRIMONIO SEPARAD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55800" y="1644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TRIMONIO SEPARADO NO QUIEBRA, SE LI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ERMINOS DE LA LIQUIDA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PARA LLEVAR ADELANTE PROCEDIMIENTOS DE LIQUIDACION EFICIENTE: MAYORIA PUEDE CAMBIAR CONDICIONES DE EM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NCION DE MANTENER Y LIQUIDAR COMO UNIDAD PATRIMONIAL:¿SÓLO CUANDO SE ORIGINA EN QUIEBRA DEL SPV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DOR: REPRESENTANTE TENEDORES O DESIGNADO POR TEN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CION NO PONE TERMINO A CONTRATOS DE ADMINISTRACION Y CUSTODIA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ENTUAL CONCURRENCIA DE ACREEDORES PATRIMONIO SEPARADO AL PATRIMONIO COMUN (CLAUSULA OPTATIVA EN LA EMISION) ¿DEUDA SUBSIDIA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16000" y="1828800"/>
            <a:ext cx="1676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843200"/>
            <a:ext cx="1368360" cy="337320"/>
          </a:xfrm>
          <a:prstGeom prst="rect">
            <a:avLst/>
          </a:prstGeom>
          <a:solidFill>
            <a:srgbClr val="e6e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613560" y="1852560"/>
            <a:ext cx="2279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44440" y="4518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Ga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708360" y="3684600"/>
            <a:ext cx="151128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26240" y="34369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726240" y="4013280"/>
            <a:ext cx="202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144440" y="2860560"/>
            <a:ext cx="172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144440" y="3726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689880" y="2860560"/>
            <a:ext cx="104436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665360" y="357120"/>
            <a:ext cx="5566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OTIVACIÓN: EL FINANCIAMI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 LA EMPRE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¿Para qué necesitan capital las empresa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4"/>
          <p:cNvSpPr/>
          <p:nvPr/>
        </p:nvSpPr>
        <p:spPr>
          <a:xfrm flipH="1">
            <a:off x="2944440" y="2060640"/>
            <a:ext cx="3427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853160"/>
            <a:ext cx="244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ación del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2009880" y="2286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2009880" y="322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009880" y="408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20"/>
          <p:cNvSpPr/>
          <p:nvPr/>
        </p:nvSpPr>
        <p:spPr>
          <a:xfrm flipH="1" flipV="1">
            <a:off x="6372360" y="30686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6644160" y="461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érdid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2916360" y="30528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2557440" y="391644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25"/>
          <p:cNvSpPr/>
          <p:nvPr/>
        </p:nvSpPr>
        <p:spPr>
          <a:xfrm flipV="1">
            <a:off x="4500720" y="406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5869080" y="5068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2987640" y="2260440"/>
            <a:ext cx="34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ferencia Ingresos y 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áximo valor pres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pit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778200" y="183996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stam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59640" y="1911240"/>
            <a:ext cx="201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012400" y="571680"/>
            <a:ext cx="4798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iénes aportan el capital a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1978200" y="23446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608184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081840" y="22003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773892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184040" y="28782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1187280" y="3679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185840" y="32846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185480" y="4076640"/>
            <a:ext cx="14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185120" y="4751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185120" y="51544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tin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exi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900960" y="2844720"/>
            <a:ext cx="20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tuant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921840" y="331164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919320" y="37432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gibles, efe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920040" y="4606920"/>
            <a:ext cx="18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848760" y="5254560"/>
            <a:ext cx="249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italistas (cuen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so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6924240" y="2932200"/>
            <a:ext cx="170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orcio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la Emp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stentan 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921480" y="4175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478620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928800" y="264312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ítulo puede derivar de operaciones de crédito de dinero (financie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ministro de bienes y servicios con saldo de precio / ejecución diferida 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preferentes o v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ferencias dicen relación con la totalidad del activo o con ciertos bienes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senior o jun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47840" y="700200"/>
            <a:ext cx="55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é productos buscan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1809000" y="202896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reed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986840" y="785880"/>
            <a:ext cx="592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Qué características de los product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buscan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496880" y="1928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ción empresarial y gestión financi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804960" y="2678040"/>
            <a:ext cx="806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plazos - liquid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argo plazo &gt; 1 añ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rto plazo &lt; 1 año o porción corta del lar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monedas : ingresos vs. pasivos exigibles, cross currency sw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 financiamiento en misma mon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tasas: típicamente para quienes giran en el negocio de prestar, activ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eros vs. pasivos financieros – hedge de ta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ecio (tasas), garantías, costos de transacción, plazos de ejecu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Riesgo solvencia, garantías de crédito, clasificación del ries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557360" y="75240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PRESENTACIÓN FINANCIERA 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119240" y="21384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117440" y="2565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119960" y="3003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0680" y="3435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836160" y="21049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57760" y="2571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858480" y="30034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858120" y="365112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59560" y="4154400"/>
            <a:ext cx="198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6880680" y="27147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117440" y="1628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Balanc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863600" y="54514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4809960" y="5407200"/>
            <a:ext cx="27864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1765440" y="6093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1765440" y="5084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983240" y="573408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21"/>
          <p:cNvSpPr/>
          <p:nvPr/>
        </p:nvSpPr>
        <p:spPr>
          <a:xfrm flipV="1">
            <a:off x="5942160" y="580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990880" y="2131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44688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59124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64465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97040" y="1557000"/>
            <a:ext cx="4495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 Corpo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rporación responde por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 de repago ingresos corpo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iesgos normalmente no ais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grega deuda, neces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68560" y="1628640"/>
            <a:ext cx="4267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” de securit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hículo autosos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ca fuente de pago son flujos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existe 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n existir mejoradores credit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188720" y="74916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DIFERENCIAS ENTRE MÉTOD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777960" y="371484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jas para los  Inversionistas [Securitiza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afectación sobre el activo que sustenta el re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umento de la variedad y volumen de instrumentos para invert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ceso a instrumentos con perfiles de riesgos inexistentes en el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diferenciar el riesgo de los activos del riesgo de la empresa originadora de los mismos (quiebra remota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ítulos que ofrecen un nivel de protección mayor frente al riesgo de deterioro de la calidad crediticia del origin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reestructurar cartera de inver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25972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RÉGIMEN PROPIETARI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ESUPUESTOS Y CORTAPI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603360" y="1989000"/>
            <a:ext cx="821664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ABLE A LA 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13360" y="54720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8 Nube"/>
          <p:cNvSpPr/>
          <p:nvPr/>
        </p:nvSpPr>
        <p:spPr>
          <a:xfrm>
            <a:off x="4429080" y="1714680"/>
            <a:ext cx="4643640" cy="148572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mis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22 Nube"/>
          <p:cNvSpPr/>
          <p:nvPr/>
        </p:nvSpPr>
        <p:spPr>
          <a:xfrm>
            <a:off x="2071800" y="2928960"/>
            <a:ext cx="3562200" cy="178596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Bancario (de intermediación de din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23 Nube"/>
          <p:cNvSpPr/>
          <p:nvPr/>
        </p:nvSpPr>
        <p:spPr>
          <a:xfrm>
            <a:off x="285840" y="4514760"/>
            <a:ext cx="2786040" cy="148608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Prestamistas priv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25 Flecha derecha"/>
          <p:cNvSpPr/>
          <p:nvPr/>
        </p:nvSpPr>
        <p:spPr>
          <a:xfrm>
            <a:off x="2714760" y="5572080"/>
            <a:ext cx="2620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29 Flecha arriba y abajo"/>
          <p:cNvSpPr/>
          <p:nvPr/>
        </p:nvSpPr>
        <p:spPr>
          <a:xfrm>
            <a:off x="5786280" y="3643200"/>
            <a:ext cx="484200" cy="157320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1203480" y="1844640"/>
            <a:ext cx="74070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ítulo XVIII de la Ley 18045, establece normas tributarias especiales (art. 15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 falta de normas especiales, rige normativa tributari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securitizadora 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ólo contribuyente, independiente del número de patrimonios separados que posea o administ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trimonios separados NO son contribuyentes (sin R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sponsable del pago de impuestos es la sociedad securitizadora (art. 153 inciso 2° y art. 140 inc. fi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892080" y="1700280"/>
            <a:ext cx="80010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F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OTROS RESGUAR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04960" y="1071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FACULTAD REPRESENTANTE TENEDOR DE BONOS PARA ASEGURARSE DEL ENTERO DE APORTES ADICIONALES ANTES DE LIBERAR MONTO COLOCACION TITULOS DEUDA (CERTIFICADO DEL REPRESENTANTE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USALES DE PREPAGO OBLIGATORIAS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REDITOS PAGADOS VOLUNTARIAMENTE POR EL DEUDO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ACREEDOR EXIGIO EL PAGO ANTICIPADO POR RAZONES LEGALES O CONTRACTUALES QUE LO AUTORIZABA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AMBOS CASOS SE PODRA ANTICIPAR EL PAGO O SUSTITUIR ACTIVOS POR OTR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223640" y="7668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FINANCIER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892080" y="2205000"/>
            <a:ext cx="8001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EFEC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OFF BALANC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¿RECONOCIMIENTO DE OBLIGACIONES DE HACER QUE ASUME EL ORIGINADO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DEL SOBRECOLATERAL QUE ENTREGA EL ORIGINADOR, VALOR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EL FINANCIAMIENTO DEL ACOPIO POR EL MERCADO DE CAPIT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j0222015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009160" y="50004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85880" y="1212840"/>
            <a:ext cx="7740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el activo (licuación de activ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asivos exig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Híbridos (capital / exigib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canismos de fo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si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éditos [bancarios] simples, múltiples o sindic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misiones de ac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yectos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ondos de inver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09160" y="35712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57160" y="3357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57160" y="9288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Corporativo: Derecho de Prend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13 Flecha izquierda y derecha"/>
          <p:cNvSpPr/>
          <p:nvPr/>
        </p:nvSpPr>
        <p:spPr>
          <a:xfrm>
            <a:off x="3500280" y="4286160"/>
            <a:ext cx="1714680" cy="484200"/>
          </a:xfrm>
          <a:prstGeom prst="leftRightArrow">
            <a:avLst>
              <a:gd name="adj1" fmla="val 50000"/>
              <a:gd name="adj2" fmla="val 5005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4 Redondear rectángulo de esquina sencilla"/>
          <p:cNvSpPr/>
          <p:nvPr/>
        </p:nvSpPr>
        <p:spPr>
          <a:xfrm>
            <a:off x="5715000" y="4143240"/>
            <a:ext cx="2857680" cy="121464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15 Redondear rectángulo de esquina del mismo lado"/>
          <p:cNvSpPr/>
          <p:nvPr/>
        </p:nvSpPr>
        <p:spPr>
          <a:xfrm>
            <a:off x="785880" y="4143240"/>
            <a:ext cx="2357280" cy="11430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CIERT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16 Señal de prohibido"/>
          <p:cNvSpPr/>
          <p:nvPr/>
        </p:nvSpPr>
        <p:spPr>
          <a:xfrm>
            <a:off x="5929200" y="5500800"/>
            <a:ext cx="212904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17 Señal de prohibido"/>
          <p:cNvSpPr/>
          <p:nvPr/>
        </p:nvSpPr>
        <p:spPr>
          <a:xfrm>
            <a:off x="785880" y="5500800"/>
            <a:ext cx="212868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18 Distinto de"/>
          <p:cNvSpPr/>
          <p:nvPr/>
        </p:nvSpPr>
        <p:spPr>
          <a:xfrm>
            <a:off x="3871800" y="5572080"/>
            <a:ext cx="914400" cy="914400"/>
          </a:xfrm>
          <a:prstGeom prst="pie">
            <a:avLst/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0 Conector recto"/>
          <p:cNvSpPr/>
          <p:nvPr/>
        </p:nvSpPr>
        <p:spPr>
          <a:xfrm>
            <a:off x="71280" y="5429160"/>
            <a:ext cx="9144000" cy="1800"/>
          </a:xfrm>
          <a:prstGeom prst="line">
            <a:avLst/>
          </a:prstGeom>
          <a:ln w="19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24 Redondear rectángulo de esquina sencilla"/>
          <p:cNvSpPr/>
          <p:nvPr/>
        </p:nvSpPr>
        <p:spPr>
          <a:xfrm>
            <a:off x="5857920" y="128592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27 Redondear rectángulo de esquina sencilla"/>
          <p:cNvSpPr/>
          <p:nvPr/>
        </p:nvSpPr>
        <p:spPr>
          <a:xfrm>
            <a:off x="5857920" y="235728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28 Redondear rectángulo de esquina del mismo lado"/>
          <p:cNvSpPr/>
          <p:nvPr/>
        </p:nvSpPr>
        <p:spPr>
          <a:xfrm>
            <a:off x="938160" y="1285920"/>
            <a:ext cx="2357640" cy="200016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TODOS L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32 Forma libre"/>
          <p:cNvSpPr/>
          <p:nvPr/>
        </p:nvSpPr>
        <p:spPr>
          <a:xfrm>
            <a:off x="5005440" y="5472000"/>
            <a:ext cx="936720" cy="137808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35 Forma libre"/>
          <p:cNvSpPr/>
          <p:nvPr/>
        </p:nvSpPr>
        <p:spPr>
          <a:xfrm>
            <a:off x="3787920" y="4238640"/>
            <a:ext cx="2003400" cy="120024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36 Cara sonriente"/>
          <p:cNvSpPr/>
          <p:nvPr/>
        </p:nvSpPr>
        <p:spPr>
          <a:xfrm>
            <a:off x="4143240" y="1357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38 Flecha izquierda y derecha"/>
          <p:cNvSpPr/>
          <p:nvPr/>
        </p:nvSpPr>
        <p:spPr>
          <a:xfrm>
            <a:off x="3652920" y="2643120"/>
            <a:ext cx="1714320" cy="484200"/>
          </a:xfrm>
          <a:prstGeom prst="left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04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ESTRUCTURA DE UNA SECURITIZACIÓN 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[en general]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058840" y="2135160"/>
            <a:ext cx="129240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06560" y="2973240"/>
            <a:ext cx="167328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rigin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51560" y="2652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657600" y="2286000"/>
            <a:ext cx="238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ien / Serv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160" y="3811680"/>
            <a:ext cx="1292400" cy="53028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is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Sp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906560" y="5259240"/>
            <a:ext cx="174960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945040" y="3811680"/>
            <a:ext cx="121608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ust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2362320" y="266868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2895480" y="26665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362320" y="343044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2971800" y="34290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362320" y="442116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3048120" y="44197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553080" y="43448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 flipH="1">
            <a:off x="4115880" y="54100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3735360" y="220968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6553080" y="2211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6844320" y="2347920"/>
            <a:ext cx="13737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 Bien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rvicio Post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6918840" y="4405320"/>
            <a:ext cx="1408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go Capi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res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339360" y="3414600"/>
            <a:ext cx="215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Venta Activos $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1051200" y="3338640"/>
            <a:ext cx="8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1127520" y="4481640"/>
            <a:ext cx="84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3535200" y="4405320"/>
            <a:ext cx="179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Coloc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144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512640" y="32169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63640" y="692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411280" y="220500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4240" y="879480"/>
            <a:ext cx="777744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empresa, el financiamiento por la vía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inversionista, riesgos asoc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legislador, mecanismo de financiamiento de la empresa en el mercado de capitales, desintermediación y abaratamiento del costo de financiamiento de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regulador, acción del mercado de capit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Securitizadora, un negocio de intermediación con efecto en el corto y largo pl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clasificadora, riesg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599480" y="74916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CARACTERÍSTICAS DE LA SECURIT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77960" y="170028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ra de balance [casos CLO, excep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islación de riesgos, transferencia de riegos a inversionistas [quiebra e insolvencia originado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canismo de desintermediación financiera, ahorro de costos de intermediación [relativo: costos Securitizadora y premio a bonos corporativo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a liquidez a activos ilíqu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orma riesgo individual en riesgo de cartera y de estructura de emi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mplía las posibles combinaciones de madurez, tasas y riesgo de los títu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 aislarse de calidad crediti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e costos de financiamiento, desde que permite alocar los mejores activos, con menor riesgo, a un 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mejor rotación de recursos financieros, se “manejan” velocidades de liquidez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jora la administración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trastorna la relación con el cli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 Chile, mantiene la privacidad de la empresa financiada, abre la información de su cartera solamente. Flexibilidad en cuanto a la información de la carte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283040" y="622440"/>
            <a:ext cx="66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RÉGIMENES DE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14288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fiduc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dominio anglosajón del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afectación particular de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reconocimiento cultural y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fusión en latinoamé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ue sale y bankruptcy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propie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sistencia a la confianza, mis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afectación de la prenda general, cuestión de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js. previos en mercado de capitales, fo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falta de fineza regulatoria, ley quiebras, tribu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Author</cp:lastModifiedBy>
  <dcterms:modified xsi:type="dcterms:W3CDTF">2009-07-08T15:42:24Z</dcterms:modified>
  <cp:revision>124</cp:revision>
  <dc:subject/>
  <dc:title>Aspectos Legales </dc:title>
</cp:coreProperties>
</file>