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EA97A-BB96-4D1E-8E42-2F7F51143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02F4-0B49-4D6E-835C-D12ADDA2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7C214-5253-4EF9-B8A0-57047BB24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FB9C1-BA75-472F-B01E-AB1EB75C5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89D90-7065-469E-82EF-6349164BF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12DD-F23C-4AF6-9F42-8911A17D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C3C47-C26B-463C-A712-CE34337B8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EE73-E306-4A3A-B088-5426F542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2DFBB-CE8F-44AF-AB03-110C4C22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CD86-9C66-4233-9BEB-0B8B9098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D1C1-2F97-4887-885D-5318CDB4A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8FAE-C455-4A4C-AC2A-714951AFA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35E1-5225-43F9-B697-5CCA9B38F01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4842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889360"/>
            <a:ext cx="8640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Principales covenant Financiero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ea typeface="Arial"/>
              </a:rPr>
              <a:t>Límite al endeudamiento del emisor</a:t>
            </a:r>
            <a:r>
              <a:rPr b="0" lang="es-CL" sz="24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Arial"/>
                <a:ea typeface="Arial"/>
              </a:rPr>
              <a:t>Activos Libres de Gravámenes</a:t>
            </a:r>
            <a:r>
              <a:rPr b="0" lang="es-CL" sz="24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43" name="Text Box 19"/>
          <p:cNvSpPr/>
          <p:nvPr/>
        </p:nvSpPr>
        <p:spPr>
          <a:xfrm>
            <a:off x="252360" y="1779480"/>
            <a:ext cx="86407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Principales covenant Financieros</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Patrimonio Mínimo</a:t>
            </a:r>
            <a:r>
              <a:rPr b="0" lang="es-CL" sz="2400" spc="-1" strike="noStrike">
                <a:solidFill>
                  <a:srgbClr val="000000"/>
                </a:solidFill>
                <a:latin typeface="Arial"/>
                <a:ea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Cobertura de Gastos Financieros</a:t>
            </a:r>
            <a:r>
              <a:rPr b="0" lang="es-CL" sz="2400" spc="-1" strike="noStrike">
                <a:solidFill>
                  <a:srgbClr val="000000"/>
                </a:solidFill>
                <a:latin typeface="Arial"/>
                <a:ea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Octavio Bofill Genzsch</cp:lastModifiedBy>
  <dcterms:modified xsi:type="dcterms:W3CDTF">2009-04-27T15:55:28Z</dcterms:modified>
  <cp:revision>70</cp:revision>
  <dc:subject/>
  <dc:title>Sin título de diapositiva</dc:title>
</cp:coreProperties>
</file>