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BED-D942-4B42-A9D3-D9DEBBFC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433-FE07-4FEC-8492-67DF6D34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CB4-D3DA-448A-B9BB-086BD8C8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032-EEE8-42DF-A1E7-D6FAEFB2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1D0-23B5-4234-B857-0FE0A100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B45-DEAC-4863-A175-9C982BB5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0E1-BACA-4735-9714-8868EC4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648-1154-4C87-AA41-1300DF5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1A3-5387-4D5F-A28D-1C6E536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072-EB89-493B-8023-5F5AE23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927-CE66-409F-BF55-336ECB7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87A-046E-46F2-979D-3DD864D9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516-5CE1-43B7-864C-794B23BB0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9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8"/>
          <p:cNvSpPr/>
          <p:nvPr/>
        </p:nvSpPr>
        <p:spPr>
          <a:xfrm>
            <a:off x="496800" y="1339920"/>
            <a:ext cx="8107560" cy="55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8"/>
          <p:cNvSpPr/>
          <p:nvPr/>
        </p:nvSpPr>
        <p:spPr>
          <a:xfrm>
            <a:off x="496800" y="1339920"/>
            <a:ext cx="81075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ones de cambios internacionales, comercio invi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. XIX CNCI Banco Cent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ercio exterior, comercio visible, bienes y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arés Anticipados de exportación (PAE), retorno e 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de crédito, el acred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V internacionales de mercad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confirmadas, revoc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de Crédito Stan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ales bancari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oletas banc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8"/>
          <p:cNvSpPr/>
          <p:nvPr/>
        </p:nvSpPr>
        <p:spPr>
          <a:xfrm>
            <a:off x="496800" y="1339920"/>
            <a:ext cx="81075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encias Financieras y asesorías financie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bancos de inversión, bancos de segundo pi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r y operar tarjetas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rjetas no banc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réditos Sindi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lemento con sociedades de apoyo al giro y fil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límites de créditos, arts. 84 y 85 LG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0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8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8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8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8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8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obofill</cp:lastModifiedBy>
  <dcterms:modified xsi:type="dcterms:W3CDTF">2009-03-29T21:55:46Z</dcterms:modified>
  <cp:revision>98</cp:revision>
  <dc:subject/>
  <dc:title>Sin título de diapositiva</dc:title>
</cp:coreProperties>
</file>