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11F-E601-4AE3-AE95-5BBF912E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4FE-D511-41DA-8559-E47439E1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AA1-CEC9-45E0-A055-74314B95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032-DB47-4FCE-BC9B-BFCE123C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0B9-265A-4826-B510-86C74B9A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235-662A-4886-9039-A1942C3A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8DD-6F9D-4348-B53A-F9C5B1CC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33B-D164-4A73-987D-8E12441B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85A-0539-4BA0-8EFF-F5B220A3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4F4-F783-4233-8503-34B3BFDF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747-8D32-425D-BCCD-8B7A6A01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5F7-6889-4DE4-8CA5-E411DDD7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A795-59FA-4E18-A625-EBBDCA6A4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202480" y="312408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9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8"/>
          <p:cNvSpPr/>
          <p:nvPr/>
        </p:nvSpPr>
        <p:spPr>
          <a:xfrm>
            <a:off x="496800" y="1339920"/>
            <a:ext cx="810756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 (OC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, un poco de his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OCD, la entrega y promesa de re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nero, fungible, gé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s, unidades de reajusta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smo monet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 como paridad de valor de compra del dinero en el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corrientes, forma de deter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sto de Fondos y la utilidad del acreed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sa máxima conven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uesto de timbres y estampillas y OC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8"/>
          <p:cNvSpPr/>
          <p:nvPr/>
        </p:nvSpPr>
        <p:spPr>
          <a:xfrm>
            <a:off x="496800" y="1339920"/>
            <a:ext cx="8107560" cy="55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qué consiste el negocio banc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dicación a operaciones autoriz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: solvencia del banco y sus accionis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 financieros y controles por ries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ención y liquidación: algo de his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de corto pla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rcado monetario o money mar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hipotec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tras de crédito hipotecari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s hipotecarios endos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8"/>
          <p:cNvSpPr/>
          <p:nvPr/>
        </p:nvSpPr>
        <p:spPr>
          <a:xfrm>
            <a:off x="496800" y="1339920"/>
            <a:ext cx="81075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peraciones de cambios internacionales, comercio invi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p. XIX CNCI Banco Cent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ercio exterior, comercio visible, bienes y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garés Anticipados de exportación (PAE), retorno e 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s de crédito, el acred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V internacionales de mercad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s confirmadas, revoc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s de Crédito Stan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ales bancari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oletas bancar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8"/>
          <p:cNvSpPr/>
          <p:nvPr/>
        </p:nvSpPr>
        <p:spPr>
          <a:xfrm>
            <a:off x="496800" y="1339920"/>
            <a:ext cx="81075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gencias Financieras y asesorías financie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bancos de inversión, bancos de segundo pi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tir y operar tarjetas de créd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arjetas no bancar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réditos Sindi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lemento con sociedades de apoyo al giro y fil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límites de créditos, arts. 84 y 85 LG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raparte de la empresa que requiere financi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0"/>
          <p:cNvSpPr/>
          <p:nvPr/>
        </p:nvSpPr>
        <p:spPr>
          <a:xfrm>
            <a:off x="493560" y="2060640"/>
            <a:ext cx="49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Real: transacción de bienes y servic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428400" y="2637000"/>
            <a:ext cx="651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: transacción de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ace como medio de intermedi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viene como bien en sí mis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es objeto de oferta y 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volución permite hablar de mercado del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 moderno es sustento del  Mercado Re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473400" y="4505400"/>
            <a:ext cx="828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nifestaciones del Mercado Financi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ción directa: Instituciones Financieras, que son a su vez intermedi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s de val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asegurador de personas: Vida, salud y pens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0"/>
          <p:cNvSpPr/>
          <p:nvPr/>
        </p:nvSpPr>
        <p:spPr>
          <a:xfrm>
            <a:off x="372600" y="1460520"/>
            <a:ext cx="8442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ctores d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dinero o monetario, corto plazo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ez, tradicionalmente bancario, expansión del crédito se ubica acá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capitales o valores, mediano y largo pla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olsas, Mercados de Valores y OT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peradores son agentes o corredores, que no registran operacion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sus bala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 bancario que participa en el Mercado de Valores los vincula y catapul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primario, primera venta, regist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balance en la 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secundario, valores circulando entre inversion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formación privilegi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412920" y="1484280"/>
            <a:ext cx="83358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ercado Financiero: Un mercado de intermediación má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ferentes y demandantes de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a precio de los activos financieros que se transan: tasa de interés como precio del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o es el único activo, instrumentos financieros sustitutos del diner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úblicos del Estado o entes estatales o semi estatal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origen histórico en el financiamiento de los Estados Nacionales modernos 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 que monopolizaron el “negocio americano”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rivados autoriz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valor: representación de derechos, legitimidad, ejercicio, transfer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derivados, futuros, opciones sobre activos financieros y del mercado re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8"/>
          <p:cNvSpPr/>
          <p:nvPr/>
        </p:nvSpPr>
        <p:spPr>
          <a:xfrm>
            <a:off x="425520" y="1454040"/>
            <a:ext cx="81072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gulación del Mercado Financiero, áreas de la regul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BJETO D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strumentos financieros, dinero, títul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valores negoc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JETOS D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tidades de crédito, agentes intermediarios y sus servic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RGÁNICA DEL MERCADO DE VAL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Mercados de Valores y Superintendenc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tendenc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8"/>
          <p:cNvSpPr/>
          <p:nvPr/>
        </p:nvSpPr>
        <p:spPr>
          <a:xfrm>
            <a:off x="496800" y="1339920"/>
            <a:ext cx="81075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atos tradi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ítulos de créd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de Cambio, Letra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gar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8"/>
          <p:cNvSpPr/>
          <p:nvPr/>
        </p:nvSpPr>
        <p:spPr>
          <a:xfrm>
            <a:off x="425520" y="1454040"/>
            <a:ext cx="81072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éditos sindicad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uras / Fac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tivo y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iones de Bon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íneas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de infraestructura, la experiencia chilena, Monoli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nanciamiento Estructu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rit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8"/>
          <p:cNvSpPr/>
          <p:nvPr/>
        </p:nvSpPr>
        <p:spPr>
          <a:xfrm>
            <a:off x="496800" y="1611360"/>
            <a:ext cx="810756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éstamo de uso y de consu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género vs. de espe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dinero como cosa fuing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r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mplimiento de obligación del acree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cepción de contrato no cumpl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inalismo monet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8"/>
          <p:cNvSpPr/>
          <p:nvPr/>
        </p:nvSpPr>
        <p:spPr>
          <a:xfrm>
            <a:off x="468360" y="1536840"/>
            <a:ext cx="810720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di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mnización compensatoria y mora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orcentaje o tasa como expresión del precio del di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ción a conceptos de la ley 18.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lación con DL 455, Ley 18.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ntro y fuera de bal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por el activo y por el pas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ratio deuda patrimonio n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obofill</cp:lastModifiedBy>
  <dcterms:modified xsi:type="dcterms:W3CDTF">2009-03-29T21:55:46Z</dcterms:modified>
  <cp:revision>98</cp:revision>
  <dc:subject/>
  <dc:title>Sin título de diapositiva</dc:title>
</cp:coreProperties>
</file>