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2EC-0DF3-445F-9844-9622B4E5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52F-0862-4A86-8260-D3DFDE07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DDC-CCC0-4A48-B585-D37FD00B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97E-684C-434F-9CC6-51B6959F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4D1-A2DE-46ED-86B3-BBC1B054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2A5-3E79-41B4-8A5D-5C8A253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F9F-B140-43EA-AACC-9D30130A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5FB-518F-4158-9C78-A3D9AB5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1F6-E849-4907-B9BE-3BABFD47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414-FB2E-4D3C-919E-809B88C4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F12-11C3-45DD-B67E-42542F2B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B45-ABCB-4185-8391-B89E269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A81-4148-4356-B71B-2C4D4A2A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9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8"/>
          <p:cNvSpPr/>
          <p:nvPr/>
        </p:nvSpPr>
        <p:spPr>
          <a:xfrm>
            <a:off x="496800" y="1339920"/>
            <a:ext cx="810756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8"/>
          <p:cNvSpPr/>
          <p:nvPr/>
        </p:nvSpPr>
        <p:spPr>
          <a:xfrm>
            <a:off x="496800" y="1339920"/>
            <a:ext cx="81075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ones de cambios internacionales, comercio invi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. XIX CNCI Banco Cent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ercio exterior, comercio visible, bienes y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arés Anticipados de exportación (PAE), retorno e 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, el acred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V internacionales de mercad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confirmadas, revoc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s de Crédito Stan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ales bancari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oletas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8"/>
          <p:cNvSpPr/>
          <p:nvPr/>
        </p:nvSpPr>
        <p:spPr>
          <a:xfrm>
            <a:off x="496800" y="1339920"/>
            <a:ext cx="81075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encias Financieras y asesorías financie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bancos de inversión, bancos de segundo p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mitir y operar tarjetas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rjetas no bancar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réditos Sindi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lemento con sociedades de apoyo al giro y fil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límites de créditos, arts. 84 y 85 LG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0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8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8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8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8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17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8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bofill</cp:lastModifiedBy>
  <dcterms:modified xsi:type="dcterms:W3CDTF">2009-03-29T21:55:46Z</dcterms:modified>
  <cp:revision>98</cp:revision>
  <dc:subject/>
  <dc:title>Sin título de diapositiva</dc:title>
</cp:coreProperties>
</file>