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88F-C593-4C7E-8D09-C9F3C63B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945-E914-4728-B077-B6CAA210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CD2-E74F-4C5B-AC83-134990A6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CDC-D6F4-4083-8359-152FECE8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DAB-6522-4D59-873A-DC9EABB8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417-B2C8-4C54-BCB6-7B88F89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5FC-3071-43FE-AB66-3793DEC9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D22-2E4A-4103-B4DC-15C814B3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550-E7C3-4AA5-AF71-CDBF4943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9E9-09C9-4442-93DA-A21A12A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DEC-814C-41CA-8A36-E14508E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6F2-B8A4-4659-B5EC-26262EE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7B10-6600-4E6A-A475-1A6411823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9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6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4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7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9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42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3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9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9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7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27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Picture 16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66" descr="Facultad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9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70"/>
          <p:cNvSpPr/>
          <p:nvPr/>
        </p:nvSpPr>
        <p:spPr>
          <a:xfrm>
            <a:off x="3276720" y="1989000"/>
            <a:ext cx="431640" cy="1447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4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5"/>
          <p:cNvSpPr/>
          <p:nvPr/>
        </p:nvSpPr>
        <p:spPr>
          <a:xfrm>
            <a:off x="3276720" y="2637000"/>
            <a:ext cx="380880" cy="1443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7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Line 22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7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50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51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2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4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5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61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7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9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Line 19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2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9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0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0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4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4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84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88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89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91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2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40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141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Line 144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45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4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48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149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151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154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56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57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58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60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61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62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63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27" descr="Facultad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Line 31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41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2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4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9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50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1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4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5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6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enzsch</cp:lastModifiedBy>
  <dcterms:modified xsi:type="dcterms:W3CDTF">2009-03-09T02:17:41Z</dcterms:modified>
  <cp:revision>82</cp:revision>
  <dc:subject/>
  <dc:title>Sin título de diapositiva</dc:title>
</cp:coreProperties>
</file>