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6B7-D074-49E2-A218-26BCA0EC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B23-475E-4608-A170-2C15779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49B-484D-4221-A031-75B2E344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4C8-1667-4EFF-ACC7-BDC0CFAA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EF2-AD2D-4E27-A8F7-E41BE0B3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A41-A612-42B9-9B33-06D74B43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586-078B-4195-AE1A-081E34C2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5E3-513F-4CA2-8DA8-D73EC782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C5C-CE87-4B4D-A2D5-AF2E8B3D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476-B0C6-4F08-BA1F-F0B9077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D34-6538-43E0-A11D-62104DB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A0C-438B-4D63-B4D2-9E4D7C9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8E67-503C-4229-A388-5EF85243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9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9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6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34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7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9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42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43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46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9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51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9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27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25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27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23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66" descr="Facultad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9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70"/>
          <p:cNvSpPr/>
          <p:nvPr/>
        </p:nvSpPr>
        <p:spPr>
          <a:xfrm>
            <a:off x="3276720" y="1989000"/>
            <a:ext cx="431640" cy="14472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71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4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75"/>
          <p:cNvSpPr/>
          <p:nvPr/>
        </p:nvSpPr>
        <p:spPr>
          <a:xfrm>
            <a:off x="3276720" y="2637000"/>
            <a:ext cx="380880" cy="1443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7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Line 22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40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7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50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51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52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54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5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59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61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9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Line 19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2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9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0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0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4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4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83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84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88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89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91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2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40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141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Line 144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45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4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48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149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151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154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56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57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58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60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61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62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63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27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Line 31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41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42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4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9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50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51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4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5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6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59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0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61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enzsch</cp:lastModifiedBy>
  <dcterms:modified xsi:type="dcterms:W3CDTF">2009-03-09T02:17:41Z</dcterms:modified>
  <cp:revision>82</cp:revision>
  <dc:subject/>
  <dc:title>Sin título de diapositiva</dc:title>
</cp:coreProperties>
</file>