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B7E37-EAF3-4965-BA8A-C517616067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35EC2-F6E5-4717-8D7C-8045EDF7A8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BD88-248E-465F-BE28-07E6A7BC39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CE140-2C44-40F4-9348-B01D6A09EB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7914C-FE09-410D-A01B-86D477FF0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9ACE8-3030-4F84-A719-09D2E1A17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9CDE1-53DE-4167-A441-2AB6E47A12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7CA7-4878-4E69-A7CE-5C582958ED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57AAA-3727-45D7-B932-3562F1479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E384B-F3E3-4085-99F3-14E436C10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06536-01B0-4077-82FA-02A1A24E5A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326A35-2528-425E-8421-189A62274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D874D-FFE7-4E4C-BF98-C32228B901F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oleObject" Target="../embeddings/oleObject1.bin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9320" y="200160"/>
            <a:ext cx="48898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Universidad de Chil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Facultad de Derech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Derecho Comercial I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Times New Roman"/>
              </a:rPr>
              <a:t>Profesor Sr. José Luis López Blan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" name="" descr=""/>
          <p:cNvPicPr/>
          <p:nvPr/>
        </p:nvPicPr>
        <p:blipFill>
          <a:blip r:embed="rId2"/>
          <a:stretch/>
        </p:blipFill>
        <p:spPr>
          <a:xfrm>
            <a:off x="1619280" y="1844640"/>
            <a:ext cx="6016680" cy="28400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" name=""/>
          <p:cNvGraphicFramePr/>
          <p:nvPr/>
        </p:nvGraphicFramePr>
        <p:xfrm>
          <a:off x="304920" y="304920"/>
          <a:ext cx="698400" cy="13716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04920" y="304920"/>
                    <a:ext cx="698400" cy="1371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" name=""/>
          <p:cNvSpPr/>
          <p:nvPr/>
        </p:nvSpPr>
        <p:spPr>
          <a:xfrm>
            <a:off x="826920" y="50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cc"/>
                </a:solidFill>
                <a:latin typeface="Comic Sans MS"/>
              </a:rPr>
              <a:t>DISOLUCION Y LIQUID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4920" y="476280"/>
            <a:ext cx="8569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83" idx="1"/>
            <a:endCxn id="83" idx="1"/>
          </p:cNvCxnSpPr>
          <p:nvPr/>
        </p:nvCxnSpPr>
        <p:spPr>
          <a:xfrm>
            <a:off x="34560" y="180000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5" name=""/>
          <p:cNvSpPr/>
          <p:nvPr/>
        </p:nvSpPr>
        <p:spPr>
          <a:xfrm>
            <a:off x="179280" y="189000"/>
            <a:ext cx="662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REPART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89080" y="765000"/>
            <a:ext cx="8028000" cy="525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rt.116 LS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arto sólo en dinero, salvo acuerdo unánime de la J Junt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efectúa sólo tras el pago de todas las obligaciones societari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go sólo a quienes sean accionistas desde el quinto día hábil anterior a la fecha de disolu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es y gerentes responden solidariamente frenta a accionistas  en relación a los reparto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58760" y="187200"/>
            <a:ext cx="292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ISOLUCION S.A.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836640"/>
            <a:ext cx="8640720" cy="618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Forma de dar término a la S.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onserva su personalidad jurídic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Antecede la liquidació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Se pone término al funcionamiento normal de la sociedad dentro del giro que le es prop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9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La sociedad anónima disuelta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subsiste como persona jurídic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 para los efectos de su liquidación, quedando vigentes sus estatutos en lo que fuere pertinente. En este caso, deberá agregar a su nombre o razón social las palabras "en liquidación"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160" y="-171720"/>
            <a:ext cx="69818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0920" y="907920"/>
            <a:ext cx="8497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195640" y="1628640"/>
            <a:ext cx="3168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50920" y="765000"/>
            <a:ext cx="8569080" cy="599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 1 Vencimiento del plaz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onsignación escritura pública (30 días) e inscripción de extr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2 Reunión de todas las acciones en una sola man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e procede de igual forma que en Nº1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En caso de Sociedad Anónima Abierta, además se aplica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Art. 107 LSA: “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Una sociedad anónima sometida al control de la Superintendencia en razón de esta ley o de otras leyes, </a:t>
            </a:r>
            <a:r>
              <a:rPr b="1" i="1" lang="es-ES_tradnl" sz="2400" spc="-1" strike="noStrike">
                <a:solidFill>
                  <a:srgbClr val="3333cc"/>
                </a:solidFill>
                <a:latin typeface="Arial"/>
              </a:rPr>
              <a:t>no inscribirá, sin el visto bueno de ésta</a:t>
            </a:r>
            <a:r>
              <a:rPr b="0" i="1" lang="es-ES_tradnl" sz="2400" spc="-1" strike="noStrike">
                <a:solidFill>
                  <a:srgbClr val="3333cc"/>
                </a:solidFill>
                <a:latin typeface="Arial"/>
              </a:rPr>
              <a:t>, la transferencia o transmisión de acciones que determine la disolución de la compañía, por el hecho de pasar todas las acciones de la sociedad al dominio de una sola persona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395280" y="1374840"/>
            <a:ext cx="82803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955880" y="1872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3203640" y="2133720"/>
            <a:ext cx="3960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539640" y="844560"/>
            <a:ext cx="820908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3: Acuerdo de la junta extraordinaria de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2/3 de las acciones emitidas con derecho a voto (reforma de estatut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esencia de ministro de f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ducción a escritura públic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Nº4: Revocación de autorización de existenc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ociedades anónimas especial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irectorio anota al margen de la inscripción de la sociedad, la revocación y se publica en el D.O. (60 día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ilidad solidaria (art. 106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-252360" y="189000"/>
            <a:ext cx="734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50920" y="126828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-541440" y="189000"/>
            <a:ext cx="7956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CAUSALES DE DISOLUCION (ART.103 LSA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0" y="692280"/>
            <a:ext cx="8713800" cy="704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3333cc"/>
                </a:solidFill>
                <a:latin typeface="Arial"/>
              </a:rPr>
              <a:t>Nº 5: Por declaración judicial. (Art.105)</a:t>
            </a:r>
            <a:r>
              <a:rPr b="1" lang="es-MX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Se resuelve breve y sumariamente y aprecia la prueba en conciencia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20% de los accionistas solicita que tribunal declare la disolución por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3333cc"/>
                </a:solidFill>
                <a:latin typeface="Arial"/>
              </a:rPr>
              <a:t>Art.105 LSA: “… </a:t>
            </a: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infracción grave de ley, de reglamento o demás normas que les sean aplicables, que causare perjuicio a los accionistas o a la sociedad; declaración de quiebra de la sociedad, administración fraudulenta u otr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400" spc="-1" strike="noStrike">
                <a:solidFill>
                  <a:srgbClr val="3333cc"/>
                </a:solidFill>
                <a:latin typeface="Arial"/>
              </a:rPr>
              <a:t>de igual gravedad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79280" y="679320"/>
            <a:ext cx="8280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50920" y="115920"/>
            <a:ext cx="7777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25800" y="189000"/>
            <a:ext cx="461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EFECTOS DE LA DISOLU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50920" y="907920"/>
            <a:ext cx="8642160" cy="484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Pone término al contrato y al giro so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La junta de accionistas deberá designar la comisión   liquidador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- Obliga a la Sociedad a presentar la declaración de término de giro, según Art. 60 C. Tributa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Durante este proceso sólo pueden ejecutarse act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tendientes a la liquid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250920" y="54936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52360" y="189000"/>
            <a:ext cx="21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cc"/>
                </a:solidFill>
                <a:latin typeface="Arial"/>
              </a:rPr>
              <a:t>LIQUIDAC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24000" y="966960"/>
            <a:ext cx="8496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so que consiste en cobrar los créditos societarios y el pago de las obligaciones societarias mediante la liquidación de activos, y el posterior reparto a los accionista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rocede luego de disuelta la sociedad, excepto causal Nº 2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gla general: Se elige una comisión liquidadora (3 miembros) por la Junta de Accionistas salvo en caso de disolución por sentencia judici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nte este proceso la Sociedad continúa con todos sus órganos, excepto el Directori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539640" y="1197000"/>
            <a:ext cx="76327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322280" y="16344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89000"/>
            <a:ext cx="6877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179280" y="981000"/>
            <a:ext cx="856944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emplaza al Directorio en sus derechos y obliga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ólo pueden ejecutar actos y contratos tendientes a la liquidación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presentación judicial y extrajudicial de la Socieda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No son delegables sus funcion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Responsables solidariamente por los perjuicios causados al os acreedores de la Sociedad a consecuencia de los repartos de capital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3333cc"/>
              </a:buClr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Cargo remunerad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250920" y="620640"/>
            <a:ext cx="8642160" cy="0"/>
          </a:xfrm>
          <a:prstGeom prst="line">
            <a:avLst/>
          </a:prstGeom>
          <a:ln w="316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81440" y="163440"/>
            <a:ext cx="2600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 </a:t>
            </a:r>
            <a:r>
              <a:rPr b="1" lang="es-ES_tradnl" sz="2400" spc="-1" strike="noStrike">
                <a:solidFill>
                  <a:srgbClr val="3333cc"/>
                </a:solidFill>
                <a:latin typeface="Arial"/>
              </a:rPr>
              <a:t>LIQUIDADOR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95280" y="1146240"/>
            <a:ext cx="7848720" cy="489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Duración de comisión o liquidador: 3 años reelegibl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Abierta:10% de accionistas puede solicitar a superintendencia  un cambio de régimen de liquidación en caso de infracción grav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SA Cerrada: Justicia ord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cc"/>
                </a:solidFill>
                <a:latin typeface="Arial"/>
              </a:rPr>
              <a:t>Pasado 6 años: Presunción de infracción grave por parte de la comis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9-24T16:53:20Z</dcterms:created>
  <dc:creator>JLLB_</dc:creator>
  <dc:description/>
  <dc:language>en-US</dc:language>
  <cp:lastModifiedBy>WinuE</cp:lastModifiedBy>
  <dcterms:modified xsi:type="dcterms:W3CDTF">2009-07-11T21:33:01Z</dcterms:modified>
  <cp:revision>152</cp:revision>
  <dc:subject/>
  <dc:title>Diapositiva 1</dc:title>
</cp:coreProperties>
</file>