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8D6-846B-4ACF-A499-6ECA474C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947-0AEB-4923-A978-00591C46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86F-B0D7-46C7-8EFF-25B6061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5DE-CAD1-4C5F-8FD3-A96F111A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2F8-510C-47DD-802C-CA1B310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EF2-DD31-44EB-9F5A-63BABEC8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913-B103-44B9-9C5F-F1AFD871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DE5-B92D-48B5-891A-83687216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CBA-E4BA-429F-A15C-2EB7B4C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BC4-06DF-4C94-A23D-CDD9047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71D-6313-4C5A-8BDD-B84A2499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DB-853C-4B02-AF7D-2315F50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804C-AD3A-4FF4-8528-4CACF5C98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DISOLUCION Y LIQUI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1"/>
            <a:endCxn id="83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765000"/>
            <a:ext cx="802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rt.116 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arto sólo en dinero, salvo acuerdo unánime de la J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efectúa sólo tras el pago de todas las obligaciones socie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go sólo a quienes sean accionistas desde el quinto día hábil anterior a la fecha de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es y gerentes responden solidariamente frenta a accionistas  en relación a los repa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187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SOLUCION S.A.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836640"/>
            <a:ext cx="86407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Forma de dar término a la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onserva su personalidad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ntecede la liqu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Se pone término al funcionamiento normal de la sociedad dentro del giro que le es pro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9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La sociedad anónima disuelta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subsiste como persona jurídic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 para los efectos de su liquidación, quedando vigentes sus estatutos en lo que fuere pertinente. En este caso, deberá agregar a su nombre o razón social las palabras "en liquidació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160" y="-1717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8569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 1 Vencimiento del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nsignación escritura pública (30 días) e inscripción de extr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2 Reunión de todas las acciones en una so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procede de igual forma que en Nº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 caso de Sociedad Anónima Abierta, además se ap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7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Una sociedad anónima sometida al control de la Superintendencia en razón de esta ley o de otras leyes,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no inscribirá, sin el visto bueno de ést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, la transferencia o transmisión de acciones que determine la disolución de la compañía, por el hecho de pasar todas las acciones de la sociedad al dominio de una sola persona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18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3: Acuerdo de la junta extra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/3 de las acciones emitidas con derecho a voto (reforma de estat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esencia de ministro d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ducción a escritur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4: Revocación de autorización de ex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ociedades anónima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io anota al margen de la inscripción de la sociedad, la revocación y se publica en el D.O. (60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ilidad solidaria (art. 106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1440" y="189000"/>
            <a:ext cx="795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9228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Nº 5: Por declaración judicial. (Art.105)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Se resuelve breve y sumariamente y aprecia la prueba en con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20% de los accionistas solicita que tribunal declare la disolución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rt.105 LSA: “… </a:t>
            </a: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infracción grave de ley, de reglamento o demás normas que les sean aplicables, que causare perjuicio a los accionistas o a la sociedad; declaración de quiebra de la sociedad, administración fraudulenta u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de igual grave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800" y="1890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FECTOS DE LA DISOLU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079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Pone término al contrato y al gir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La junta de accionistas deberá designar la comisión   liquid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Obliga a la Sociedad a presentar la declaración de término de giro, según Art. 60 C. Tribu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urante este proceso sólo pueden ejecutarse a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ndientes a la liqui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LIQUI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96696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so que consiste en cobrar los créditos societarios y el pago de las obligaciones societarias mediante la liquidación de activos, y el posterior reparto a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de luego de disuelta la sociedad, excepto causal Nº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gla general: Se elige una comisión liquidadora (3 miembros) por la Junta de Accionistas salvo en caso de disolución por sentencia jud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nte este proceso la Sociedad continúa con todos sus órganos, excepto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856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emplaza al Directorio en sus derechos y oblig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ólo pueden ejecutar actos y contratos tendientes a la liquidación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resentación judicial y extrajudicial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No son delegables sus fun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les solidariamente por los perjuicios causados al os acreedores de la Sociedad a consecuencia de los repartos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rgo remun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40" y="16344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14624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ción de comisión o liquidador: 3 años reeleg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Abierta:10% de accionistas puede solicitar a superintendencia  un cambio de régimen de liquidación en caso de infracción g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Cerrada: Justici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sado 6 años: Presunción de infracción grave por parte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1T21:33:01Z</dcterms:modified>
  <cp:revision>152</cp:revision>
  <dc:subject/>
  <dc:title>Diapositiva 1</dc:title>
</cp:coreProperties>
</file>