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9B8-6DBE-4AE1-9364-4194D925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1CE-C953-495A-82D9-EDFBC29B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369-2051-4DEA-BB14-01068A61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E29-076E-4298-9ADA-CD38BEEA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CF6-32F3-4B57-9CD9-B24F52A5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757-273A-4095-8230-78F53E76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5AC-2D86-4925-A6D3-8343BCEA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D79-AB01-49A1-B814-1B798336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E23-2E3C-4B90-BD95-FF9B184D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19B-E15C-4C04-A8A9-40A8A93D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8F8-0E5F-479B-8EF3-4245333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3B9-65A0-40D4-936E-E31689AD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46C5-9EFA-4CCE-B39E-AB432285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SOCIEDAD ANÓ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CAPITAL DE 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981000"/>
            <a:ext cx="77770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0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 DE RETIRO.  “Facultad que la ley concede a un accionista, en caso de disentir de acuerdos adoptados en juntas extraordinarias para retirarse de la sociedad por las causales que establece la ley o los estatutos y recibir el pago del valor de sus accion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usales: artículo 69 ley SA Acuerdos sob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ransformación y/o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ajenación del activo y pasivo, o del total de su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reación de preferencias para una serie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umento o reducción de 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aneamiento de nulidad por vici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más casos según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ista disidente debe expresar su volun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le paga el valor de su acción: abiertas /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rocedimientos y reglamentación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981000"/>
            <a:ext cx="7777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1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ORMALIDADES DE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título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gistro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ransferencia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xtravío, hurto o robo de los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Inutilización de los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81000"/>
            <a:ext cx="777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ÚBLICA DE ADQUISICIÓN DE ACCIONES -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ículo 198.- Ley de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entenderá que oferta públic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dquisición de acciones es aquella que se formula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dquirir acciones de sociedades anónimas que ha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ública de sus acciones o valores convertible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las, que por cualquier medio ofrezcan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istas de aquéllas adquirir sus título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diciones que permitan al oferente alcanzar un ci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orcentaje de la sociedad y en un plazo determin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oferente podrá hacer la oferta por acc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ociedades anónimas que hagan oferta pública de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, por valores convertibles en ellas o por amb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todo caso, la oferta por unos no obliga a for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or los 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as disposiciones de este Título se aplicarán t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 las ofertas que se formulen voluntariamente com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quellas que deban realizarse conforme a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81000"/>
            <a:ext cx="7777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.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APITAL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 ser fijado de manera precisa en los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ólo podrá ser aumentado o disminuido por reforma de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entiendo modificado de pleno derecho al aprobarse 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tará dividido en acciones de igua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i está dividido en distintas series, las acciones de cada se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n tener igua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 quedar totalmente suscrito y pagado en un plazo de tres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777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LASES DE CA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nominal: el que se indica en los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suscrito:  uno o varios accionistas suscriben contratos y se comprometen al pago del valor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pagado: el que ha sido primeramente suscrito y luego pagado por los accionistas que lo suscribie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7777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ORMAS DE A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dinero: los accionistas pagan en dinero el valor de las acciones susc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bienes:  Se puede pagar en bienes el valor de las acciones susc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alvo acuerdo unánime de todas las acciones emit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bienes deberán ser estimado por per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caso de aumento de capital se requiere además aprobación de la Junta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RACTERÍSTICAS DE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presentan una parte alícuota del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ítulo representativo de la calidad de socio y de sus derechos y oblig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ítulo de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981000"/>
            <a:ext cx="7777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USCRIPCION DE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el pacto constitut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caso de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oncepto de opción preferente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LASIFICAC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suscritas y pag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aportes en dinero y de aportes en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pago y acciones liberada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ordinarias y acciones preferidas y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nominativas y acciones al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capital y acciones de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con valor nominal y acciones sin valor no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VERSION DE DEBENTURES Y BONOS EN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ículo 21 ley 18.045 y artículo 25 ley 18.04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bonos y debentures son un medio de 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rresponden a una forma financiera llamada “cuasi-capit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titular es un acreedor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 una opción que concede la sociedad emisora a los tenedores de bonos para convertir el título e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tas acciones pueden ser ordinarias o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anje de bonos en acciones se hará de acuerdo a las condiciones establecidas en el contrato de emisión de bo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7.a)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MPRA DE ACCIONES DE SU PROPIA EM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acultad limitada a casos especialísimos (art. 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jercicio del derecho de retiro de un accion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usión con otra sociedad que sea accionista de la absorv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forma de estatutos de disminución de capital cuando valor de las acciones en el mercado sea inferior a su valor de res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ituación excepcional de sociedades anónimas abiertas y bancos en los términos de los artículos 27 a) hasta 27 b) de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81000"/>
            <a:ext cx="7777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S QUE CONFIEREN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eder librement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Inform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rticipar y votar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ercibir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rticipar en repartos por devolució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tirarse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BLIGACIONES DE LOS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go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 de la sociedad a demandar el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sponsabilidad de los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ólo hasta el monto del a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No se puede exigir devolución de dividendos percib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2T13:24:44Z</dcterms:modified>
  <cp:revision>98</cp:revision>
  <dc:subject/>
  <dc:title>Diapositiva 1</dc:title>
</cp:coreProperties>
</file>