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5F3-2340-472C-8ECF-25EE131B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692-B7EC-44C0-BC23-9D885602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B3A-9A32-41CC-A9C7-5EC23751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EE5-3064-4815-BBFA-F48B17F9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2AE-653C-4252-9433-483BC54C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FB9-2C42-474A-8A5F-DE63B340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A09-BD65-4515-B28B-8CD3921F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ED4-D4DE-42B0-B4AC-D587AFC0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DE6-B365-41AF-8417-AEC0BCA0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093-A652-448D-A1F0-8A33F87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6C1-CFA2-4E2B-BF8B-24746663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F9B-CD9F-4CA1-9CBB-FB09D46D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0D66-20B0-4218-A095-0851D4820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SOCIEDAD ANÓN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CAPITAL DE  LAS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981000"/>
            <a:ext cx="77770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0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RETIRO.  “Facultad que la ley concede a un accionista, en caso de disentir de acuerdos adoptados en juntas extraordinarias para retirarse de la sociedad por las causales que establece la ley o los estatutos y recibir el pago del valor de sus accio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usales: artículo 69 ley SA Acuerdos sob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ormación y/o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ajenación del activo y pasivo, o del total de su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reación de preferencias para una serie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umento o reducción de pre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neamiento de nulidad por vici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más casos según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 disidente debe expresar su volun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le paga el valor de su acción: abiertas /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rocedimientos y reglamentación espe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981000"/>
            <a:ext cx="77770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1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LIDADE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ítul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gistro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ransferencia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xtravío, hurto o robo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utilización de los tít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981000"/>
            <a:ext cx="7777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ADQUISICIÓN DE ACCIONES -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198.- Ley de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enderá que oferta públic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sición de acciones es aquella que se formula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dquirir acciones de sociedades anónimas que ha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ública de sus acciones o valores convertible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las, que por cualquier medio ofrezcan a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istas de aquéllas adquirir sus títulos 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diciones que permitan al oferente alcanzar un cie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orcentaje de la sociedad y en un plazo determi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oferente podrá hacer la oferta por acc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ociedades anónimas que hagan oferta pública de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, por valores convertibles en ellas o por amb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todo caso, la oferta por unos no obliga a for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ferta por l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as disposiciones de este Título se aplicarán ta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 las ofertas que se formulen voluntariamente como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quellas que deban realizarse conforme a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81000"/>
            <a:ext cx="7777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1. 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PITAL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ser fijado de manera precis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podrá ser aumentado o disminuido por reforma de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e entiendo modificado de pleno derecho al aprobarse 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rá dividido en acciones de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 está dividido en distintas series, las acciones de cada seri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n tener igua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be quedar totalmente suscrito y pagado en un plazo de tres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7777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ES DE CAPI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nominal: el que se indica en los esta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suscrito:  uno o varios accionistas suscriben contratos y se comprometen al pago del valor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pital pagado: el que ha sido primeramente suscrito y luego pagado por los accionistas que lo suscribie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7777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ORMAS DE A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dinero: los accionistas pagan en dinero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bienes:  Se puede pagar en bienes el valor de las acciones suscr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alvo acuerdo unánime de todas las acciones emit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ienes deberán ser estimado por per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 se requiere además aprobación de la Junta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777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ARACTERÍSTICAS DE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presentan una parte alícuota del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representativo de la calidad de socio y de sus derechos y oblig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Título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USCRIPCION DE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el pacto constitutiv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n caso de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oncepto de opción preferente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LASIFICAC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suscritas y pag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aportes en dinero y de aportes en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pago y acciones liberada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ordinarias y acciones preferidas y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nominativas y acciones al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de capital y acciones de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cciones con valor nominal y acciones sin valor no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NVERSION DE DEBENTURES Y BONOS EN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Artículo 21 ley 18.045 y artículo 25 ley 18.04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Los bonos y debentures son un medio de 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rresponden a una forma financiera llamada “cuasi-capit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titular es un acreedor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 una opción que concede la sociedad emisora a los tenedores de bonos para convertir el título e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stas acciones pueden ser ordinarias o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l canje de bonos en acciones se hará de acuerdo a las condiciones establecidas en el contrato de emisión de bo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981000"/>
            <a:ext cx="777708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7.a)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OMPRA DE ACCIONES DE SU PROPIA EM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acultad limitada a casos especialísimos (art. 2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Ejercicio del derecho de retiro de un accion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Fusión con otra sociedad que sea accionista de la absorv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forma de estatutos de disminución de capital cuando valor de las acciones en el mercado sea inferior a su valor de res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ituación excepcional de sociedades anónimas abiertas y bancos en los términos de los artículos 27 a) hasta 27 b) de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90792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81000"/>
            <a:ext cx="7777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S QUE CONFIEREN LAS AC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Ceder librement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Inform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y votar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ercibir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rticipar en repartos por devolució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tirarse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OBLIGACIONES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Pago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Derecho de la sociedad a demandar 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Responsabilidad de los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Sólo hasta el monto del a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"/>
              </a:rPr>
              <a:t>No se puede exigir devolución de dividendos percib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4-02T13:24:44Z</dcterms:modified>
  <cp:revision>98</cp:revision>
  <dc:subject/>
  <dc:title>Diapositiva 1</dc:title>
</cp:coreProperties>
</file>