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5E040-8BCB-4ADD-A66D-1B7CDF9C8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2F83D-3CE3-49A1-BDA7-5428C4171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4FAC4-834B-4BBB-B1D5-3D0DBC927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BEE7F-8BE9-473C-92EC-D73EB774B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6E3FA-055A-4B0C-A6BA-C9D4B5F80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F113B-DECD-47A9-ABC6-82E674831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4CE84-0E82-48BB-A639-3DC6BF0D4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1A8B9-2690-463E-8C68-61DC4A85B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414A4-F6A8-4D68-890E-B6E14921A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BCF14-BF1F-41DB-9C0A-9FD884658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EF170-80A8-4E79-80E8-D693E637F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94CCD-30F4-4C71-BE44-2590D2A8E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B386E-8C94-47BD-8EEE-62FC046F03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chilederecho.cl/images/images_estate.jpg" TargetMode="Externa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scrituradesociedades.cl/fotos/escritura_inicio.jp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66720" y="241200"/>
            <a:ext cx="45471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Universidad de Chi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Facultad de Derech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Derecho Comercia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Profesor Sr. José Luis López Blan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619280" y="1844640"/>
            <a:ext cx="6016680" cy="2840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3" name=""/>
          <p:cNvGraphicFramePr/>
          <p:nvPr/>
        </p:nvGraphicFramePr>
        <p:xfrm>
          <a:off x="304920" y="304920"/>
          <a:ext cx="698400" cy="1371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920" y="304920"/>
                    <a:ext cx="698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"/>
          <p:cNvSpPr/>
          <p:nvPr/>
        </p:nvSpPr>
        <p:spPr>
          <a:xfrm>
            <a:off x="900000" y="4941720"/>
            <a:ext cx="73454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DERECHO  COMERCIAL  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SOCIEDAD ANONIM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39640" y="1125360"/>
            <a:ext cx="7777440" cy="449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</a:t>
            </a:r>
            <a:r>
              <a:rPr b="1" lang="es-CL" sz="3200" spc="-1" strike="noStrike">
                <a:solidFill>
                  <a:srgbClr val="3333cc"/>
                </a:solidFill>
                <a:latin typeface="Verdana"/>
              </a:rPr>
              <a:t>¿Qué ocurre en caso que la sociedad anónima no conste de escritura pública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La sanción es la NULIDAD DE PLEN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DERECHO Y NO PODRÁ SER SANE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rot="5400000">
            <a:off x="3894480" y="374544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0000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3" dur="2000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6" dur="2000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39640" y="1125360"/>
            <a:ext cx="7777440" cy="41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2) VICIOS QUE NO REQUIEREN SANEA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spcBef>
                <a:spcPts val="1250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Errores ortográficos o gramaticales o resumen de palabr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spcBef>
                <a:spcPts val="1250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Errores cometidos en la individualización de los socios (salvo que generen dudas respecto a su identidad)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spcBef>
                <a:spcPts val="1250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Errores numéricos y de cifras que manifiestamente no sean de carácter sustanc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3" dur="20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6" dur="200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9" dur="2000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39640" y="476280"/>
            <a:ext cx="7777440" cy="49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spcBef>
                <a:spcPts val="1250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Errores en datos o características de los aportes, siempre que no se generen dudas en su determinació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spcBef>
                <a:spcPts val="1250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En general cualquier disconformidad no esencial que existan entre las escrituras, inscripciones y las publicacion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ESTOS VICIOS PUEDEN SANEARSE EN CUALQUIER MOM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5400000">
            <a:off x="3821400" y="446616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0000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6" dur="20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9" dur="20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58920" y="304920"/>
            <a:ext cx="7381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39640" y="1125360"/>
            <a:ext cx="7777440" cy="9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1557360"/>
            <a:ext cx="8497800" cy="57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cc"/>
                </a:solidFill>
                <a:latin typeface="Verdana"/>
              </a:rPr>
              <a:t> </a:t>
            </a:r>
            <a:r>
              <a:rPr b="1" lang="es-ES_tradnl" sz="2800" spc="-1" strike="noStrike">
                <a:solidFill>
                  <a:srgbClr val="3333cc"/>
                </a:solidFill>
                <a:latin typeface="Verdana"/>
              </a:rPr>
              <a:t>NULIDAD ABSOLUTA SANE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cc"/>
                </a:solidFill>
                <a:latin typeface="Verdana"/>
              </a:rPr>
              <a:t>  </a:t>
            </a:r>
            <a:r>
              <a:rPr b="1" lang="es-ES_tradnl" sz="2800" spc="-1" strike="noStrike">
                <a:solidFill>
                  <a:srgbClr val="3333cc"/>
                </a:solidFill>
                <a:latin typeface="Verdana"/>
              </a:rPr>
              <a:t>OPORTUNIDAD PARA EFECTUAR EL SANEAMI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El saneamiento del vicio de nulidad producirá </a:t>
            </a:r>
            <a:r>
              <a:rPr b="1" lang="es-ES_tradnl" sz="2400" spc="-1" strike="noStrike" u="sng">
                <a:solidFill>
                  <a:srgbClr val="3333cc"/>
                </a:solidFill>
                <a:uFillTx/>
                <a:latin typeface="Verdana"/>
              </a:rPr>
              <a:t>efecto retroactivo</a:t>
            </a: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 y estos efectos dependerán del tipo de vicio de que se trat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6443640" y="4941720"/>
            <a:ext cx="1944720" cy="12924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PROCEDIMI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39640" y="1125360"/>
            <a:ext cx="7777440" cy="9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46200" y="1557360"/>
            <a:ext cx="8497800" cy="28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cc"/>
                </a:solidFill>
                <a:latin typeface="Verdana"/>
              </a:rPr>
              <a:t>Procedimiento y requisitos para efectuar el saneami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ESCRITURA PÚBLICA QUE CORRIJ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     </a:t>
            </a: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EL VI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2)  INSCRIPCIÓN DEL EXTRACTO Y SU PUBLIC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PROCEDIMI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9640" y="1125360"/>
            <a:ext cx="7777440" cy="9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46200" y="1557360"/>
            <a:ext cx="7886520" cy="39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cc"/>
                </a:solidFill>
                <a:latin typeface="Verdana"/>
              </a:rPr>
              <a:t>PLAZO PARA EFECTUAR 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cc"/>
                </a:solidFill>
                <a:latin typeface="Verdana"/>
              </a:rPr>
              <a:t>SANEAMI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    </a:t>
            </a: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El saneamiento que establece la ley puede ser practicado en cualquier momento, aún después de que haya hecho hacer valer en Juicio, pero antes de quedar ejecutoriada la sentenci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4110840" y="295344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0000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33cc"/>
                </a:solidFill>
                <a:latin typeface="Verdana"/>
              </a:rPr>
              <a:t>Bibliografía</a:t>
            </a:r>
            <a:r>
              <a:rPr b="0" lang="es-ES_tradnl" sz="4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cc"/>
                </a:solidFill>
                <a:latin typeface="Verdana"/>
              </a:rPr>
              <a:t>CONTRERAS STRAUCH, Osvaldo.</a:t>
            </a:r>
            <a:r>
              <a:rPr b="0" lang="es-ES_tradnl" sz="2800" spc="-1" strike="noStrike">
                <a:solidFill>
                  <a:srgbClr val="3333cc"/>
                </a:solidFill>
                <a:latin typeface="Verdana"/>
              </a:rPr>
              <a:t> </a:t>
            </a:r>
            <a:r>
              <a:rPr b="0" i="1" lang="es-ES_tradnl" sz="2800" spc="-1" strike="noStrike">
                <a:solidFill>
                  <a:srgbClr val="3333cc"/>
                </a:solidFill>
                <a:latin typeface="Verdana"/>
              </a:rPr>
              <a:t>Instituciones de Derecho Comercial</a:t>
            </a:r>
            <a:r>
              <a:rPr b="0" lang="es-ES_tradnl" sz="2800" spc="-1" strike="noStrike">
                <a:solidFill>
                  <a:srgbClr val="3333cc"/>
                </a:solidFill>
                <a:latin typeface="Verdana"/>
              </a:rPr>
              <a:t>, Editorial jurídica Lexis Nexi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cc"/>
                </a:solidFill>
                <a:latin typeface="Verdana"/>
              </a:rPr>
              <a:t>SANDOVAL LOPEZ, Ricardo.</a:t>
            </a:r>
            <a:r>
              <a:rPr b="0" lang="es-ES_tradnl" sz="2800" spc="-1" strike="noStrike">
                <a:solidFill>
                  <a:srgbClr val="3333cc"/>
                </a:solidFill>
                <a:latin typeface="Verdana"/>
              </a:rPr>
              <a:t> </a:t>
            </a:r>
            <a:r>
              <a:rPr b="0" i="1" lang="es-ES_tradnl" sz="2800" spc="-1" strike="noStrike">
                <a:solidFill>
                  <a:srgbClr val="3333cc"/>
                </a:solidFill>
                <a:latin typeface="Verdana"/>
              </a:rPr>
              <a:t>Derecho Comercial</a:t>
            </a:r>
            <a:r>
              <a:rPr b="0" lang="es-ES_tradnl" sz="2800" spc="-1" strike="noStrike">
                <a:solidFill>
                  <a:srgbClr val="3333cc"/>
                </a:solidFill>
                <a:latin typeface="Verdana"/>
              </a:rPr>
              <a:t>. Tomo II, volumen 1. Editorial Jurídica de Chil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95280" y="836640"/>
            <a:ext cx="77770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 u="sng">
                <a:solidFill>
                  <a:srgbClr val="3333cc"/>
                </a:solidFill>
                <a:uFillTx/>
                <a:latin typeface="Verdana"/>
              </a:rPr>
              <a:t>                  </a:t>
            </a:r>
            <a:r>
              <a:rPr b="1" lang="es-ES" sz="3600" spc="-1" strike="noStrike" u="sng">
                <a:solidFill>
                  <a:srgbClr val="3333cc"/>
                </a:solidFill>
                <a:uFillTx/>
                <a:latin typeface="Verdana"/>
              </a:rPr>
              <a:t>Constitución</a:t>
            </a:r>
            <a:r>
              <a:rPr b="1" lang="es-ES" sz="3600" spc="-1" strike="noStrike">
                <a:solidFill>
                  <a:srgbClr val="3333cc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3333cc"/>
                </a:solidFill>
                <a:latin typeface="Verdana"/>
              </a:rPr>
              <a:t>Requisitos de validez de las S.A. Vicios, Nulidad y Efect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3333cc"/>
                </a:solidFill>
                <a:latin typeface="Verdana"/>
              </a:rPr>
              <a:t>Saneamiento de vicios y sus limitacion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Ver imagen en tamaño completo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971640" y="836640"/>
            <a:ext cx="2087640" cy="12240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" dur="2000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39640" y="1125360"/>
            <a:ext cx="7777440" cy="9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95280" y="549360"/>
            <a:ext cx="8497800" cy="53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3333cc"/>
                </a:solidFill>
                <a:uFillTx/>
                <a:latin typeface="Verdana"/>
              </a:rPr>
              <a:t>Constitución: Requisitos de validez de las S.A. Vicios, Nulidad y Efec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    </a:t>
            </a: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La </a:t>
            </a:r>
            <a:r>
              <a:rPr b="1" lang="es-ES" sz="2400" spc="-1" strike="noStrike" u="sng">
                <a:solidFill>
                  <a:srgbClr val="3333cc"/>
                </a:solidFill>
                <a:uFillTx/>
                <a:latin typeface="Verdana"/>
              </a:rPr>
              <a:t>sociedad anónima es de carácter solemne</a:t>
            </a: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,</a:t>
            </a: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 tanto en su constitución, modificación y disolución, pues se forma y prueba por escritura pública, cuyo extracto se inscribe en el Registro de Comercio y se publica en el Diario Ofici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cc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Ver imagen en tamaño completo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588000" y="1268280"/>
            <a:ext cx="1594080" cy="16560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SOCIEDADES ANÓNIM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39640" y="1125360"/>
            <a:ext cx="7777440" cy="41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Verdana"/>
              </a:rPr>
              <a:t>   </a:t>
            </a:r>
            <a:r>
              <a:rPr b="1" lang="es-CL" sz="2800" spc="-1" strike="noStrike">
                <a:solidFill>
                  <a:srgbClr val="3333cc"/>
                </a:solidFill>
                <a:latin typeface="Verdana"/>
              </a:rPr>
              <a:t>Sanciones para el caso de Incumplimiento de las solemnidades del contrato de Sociedad Anónima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1_ Anteced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Ley 194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95280" y="1557360"/>
            <a:ext cx="8497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5508720" y="3429000"/>
            <a:ext cx="1981080" cy="19810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SOCIEDADES ANÓNIM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39640" y="1125360"/>
            <a:ext cx="7777440" cy="36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Con anterioridad a la Ley 19.499 sobre saneamiento de vicios de Sociedades existían dos clases de sanciones por el incumplimiento de las solemnidades, son las siguient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            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1) Inexist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            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2) Nulidad Absoluta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SAN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39640" y="1125360"/>
            <a:ext cx="7777440" cy="275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Con la entrada de la Ley, se estableció un procedimiento que permite el saneamiento de los vicios de nulidad de tipo formal que afecten su CONSTITUCIÓN O MODIFICACIÓ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7" dur="20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SAN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39640" y="1125360"/>
            <a:ext cx="7777440" cy="44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SE DISTINGUEN DOS CLASES DE SANCIONES PARA EL INCUMPLIMIENTO DE FORMALIDADES.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spcBef>
                <a:spcPts val="125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</a:t>
            </a: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Nulidad Absoluta sane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spcBef>
                <a:spcPts val="125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    </a:t>
            </a: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Nulidad de pleno derecho. Insubsanabl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rot="5400000">
            <a:off x="3605400" y="338688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0000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58920" y="304920"/>
            <a:ext cx="738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Verdana"/>
              </a:rPr>
              <a:t>SANEAMIENTO DE VICIOS DE NU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39640" y="1125360"/>
            <a:ext cx="777744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</a:t>
            </a:r>
            <a:r>
              <a:rPr b="1" lang="es-CL" sz="2400" spc="-1" strike="noStrike" u="sng">
                <a:solidFill>
                  <a:srgbClr val="3333cc"/>
                </a:solidFill>
                <a:uFillTx/>
                <a:latin typeface="Verdana"/>
              </a:rPr>
              <a:t>CONCEPTO DE VICIOS FORM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                 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Aquellos que consisten en el incumplimiento de alguna solemnidad lega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     </a:t>
            </a:r>
            <a:r>
              <a:rPr b="1" i="1" lang="es-CL" sz="2000" spc="-1" strike="noStrike">
                <a:solidFill>
                  <a:srgbClr val="3333cc"/>
                </a:solidFill>
                <a:latin typeface="Verdana"/>
              </a:rPr>
              <a:t>Ejemplo: Cumplimiento imperfecto de ciertas menciones, Publicación tardía, etc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Ver imagen en tamaño completo"/>
          <p:cNvPicPr/>
          <p:nvPr/>
        </p:nvPicPr>
        <p:blipFill>
          <a:blip r:embed="rId2"/>
          <a:stretch/>
        </p:blipFill>
        <p:spPr>
          <a:xfrm>
            <a:off x="1116000" y="2319480"/>
            <a:ext cx="1295280" cy="125388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39640" y="1125360"/>
            <a:ext cx="7777440" cy="32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1) NULIDAD QUE NO ADMITEN SANEA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spcBef>
                <a:spcPts val="1250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La Nulidad de Pleno Derech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spcBef>
                <a:spcPts val="1250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Nulidad por privación de elementos esenciales al Contrato de Socie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spcBef>
                <a:spcPts val="1250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Existencia de vic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5076720" y="3933720"/>
            <a:ext cx="2305080" cy="17287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4T16:53:20Z</dcterms:created>
  <dc:creator>JLLB_</dc:creator>
  <dc:description/>
  <dc:language>en-US</dc:language>
  <cp:lastModifiedBy>Elizabeth</cp:lastModifiedBy>
  <dcterms:modified xsi:type="dcterms:W3CDTF">2009-03-24T01:05:38Z</dcterms:modified>
  <cp:revision>100</cp:revision>
  <dc:subject/>
  <dc:title>Diapositiva 1</dc:title>
</cp:coreProperties>
</file>