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9BD-3131-4936-A6DE-98024662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9F4-27F3-46B6-A00A-FE6853D4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D5B-7C1A-4B7C-814D-725085D0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8B6-3076-4EA1-B062-295201BF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555-8D9F-4F5C-A6A4-27D74606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388-DA93-41EA-B33B-3EA00327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ED6-DEFD-4E19-8BE4-D9FCDB51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23A-4F60-4DA7-A39F-437B42BA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1E7-3F83-452A-9073-84485D55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76A-DD34-4A2E-97E1-A3CCD3CD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151-E1D7-4F00-885E-F83DE8E4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B89-3D63-44C2-A6C1-590EE596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4333-A5F5-40E3-8067-EA914FC35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iimv.org/miembros/imagenes/LogoSVS.jpg&amp;imgrefurl=http://www.iimv.org/miembros/chile.htm&amp;usg=__FubwnvEKwxAkXDijpOnsGk6-qzw=&amp;h=916&amp;w=715&amp;sz=50&amp;hl=es&amp;start=1&amp;tbnid=sUcUybWTJ_w24M:&amp;tbnh=147&amp;tbnw=115&amp;prev=/images%3Fq%3DSuperIntendencia%2Bde%2BValor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052640"/>
            <a:ext cx="8569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5)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Los derechos de los socios están representados por acciones que constan en un tít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6) Es siempre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7) Es solemne, tanto en su formación, modificación y dis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8) La responsabilidad de los accionistas es hasta el monto del aporte realizado a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052640"/>
            <a:ext cx="8569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ANÓNIMA ES UN SUJETO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ANÓNIMA ES SIEMP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IMPORTANCIA EN MATERIA DE 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821400" y="3961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981000"/>
            <a:ext cx="792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munes u Ordi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SOCIEDADES ANÓNIMAS 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981000"/>
            <a:ext cx="7921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ÓN NO ESTÁ BASADA EN LA MAGNITUD DE LA EMPRESA, NI EN LOS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2143080" cy="2381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981000"/>
            <a:ext cx="7921440" cy="60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 ABIERTAS ORDINARIAS</a:t>
            </a: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Aquellas que tienen 500 o más accionist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2) Aquellas en las que, a lo menos, el 10% de su capital suscrito pertenece a un mínimo de 100 accionistas, excluidos los que individualmente, o a través de otras personas naturales o jurídicas, excedan dicho porcentaje,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3) Aquéllas que inscriban voluntariamente sus acciones en el Registro de Val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981000"/>
            <a:ext cx="7921440" cy="42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 CERR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on sociedades anónimas cerradas las no comprendidas en el inciso a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Sin perjuicio de que puedan sujetarse voluntariamente a las normas que rigen las Sociedades Anónimas abier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4581360"/>
            <a:ext cx="140832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981000"/>
            <a:ext cx="792144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 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rtículos 126 y siguientes de la Ley 180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eren para su constitución resolución de la SVS y de la Inscripción y publicación de dicho certifi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2592360" cy="81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981000"/>
            <a:ext cx="7921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INCIPALES DI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Registro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isposiciones en los Estat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750480" y="25218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549360"/>
            <a:ext cx="864072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Distinción en cuanto a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Formación del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Constitución Legal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ormas principales en los Artículos 3, 4 y 5 de la Ley de S.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549360"/>
            <a:ext cx="864072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1)  Escritura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2) Inscripción de un extracto de la escritura social autorizado ante not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3)   Publicación en el Diario Ofi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3780000" y="4581360"/>
            <a:ext cx="1198440" cy="18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8000" y="549360"/>
            <a:ext cx="864072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L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Inscripción y publicación deberán efectuarse dentro del plazo de 60 días contados desde la fecha de la escritura social art. 3º Ley 180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96000" y="4292640"/>
            <a:ext cx="12906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907920"/>
            <a:ext cx="86407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EN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nombre, profesión y domicilio de los accionis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nombre y domicilio de la socie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)  La enunciación del o de los objetos específicos de la socie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) El capital de la sociedad, la forma y plazos en que lo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ccionistas deben pagar su aporte, y la indicación y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valoración de todo aporte que no consista en dine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15920"/>
            <a:ext cx="8137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4) La duración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7) La fecha en que debe cerrarse el ejercici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feccionarse el balance y la época en que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elebrarse la junta ordinaria de accionist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8) La forma de distribución de las util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15920"/>
            <a:ext cx="813744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9) La forma en que debe hacerse la liquidació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0) La naturaleza del arbitra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1) La designación de los integrantes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irectorio provisorio y de los auditores extern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2) Los demás pactos que acordaren los accion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000" y="1413000"/>
          <a:ext cx="8028000" cy="4192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ANONIM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de Sociedades Anónimas Nº 18.046. y Ley de Mercado de Valores Nº 18.0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l que se decida, terminado en Sociedad Anónima o S.A. (Artículo 4 Nº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un órganos colegiado llamada Directorio, separado de las Propiedad de la Socie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ágina web de la Superintendencia de Valores y Segu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Origen en la Edad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imeras manifestaciones en los negocios banc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2857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Estructura Jurídica más avanzada para la organización de negocios de gran magn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ESIBILIDAD DE DERECH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IMITAD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55736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acen en Chile bajo el principio de la Libertad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Hasta 1854 no se conoce un texto que regule las 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316260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La ley 18046, publicada el 22 de Octubre de 1981 las regu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Directamente relacionada con la Ley de Mercado de Valores, Ley 18.045 del año 198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FIN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55736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Art. 1°(L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La sociedad anónima es un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formada por la reunión de un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fondo común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, suministrado por accionistas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responsables sólo por sus respectivos aportes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administrada por un directorio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integrado por miembros esencialmente revocabl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052640"/>
            <a:ext cx="8569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Es una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2) Sus accionistas aportan dinero o bienes estimados en din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3) Persigue fines de luc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4) Las perdidas son soportadas por el fondo constituido por los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3-19T06:29:35Z</dcterms:modified>
  <cp:revision>98</cp:revision>
  <dc:subject/>
  <dc:title>Diapositiva 1</dc:title>
</cp:coreProperties>
</file>