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690-85EE-4A3F-9DA1-325483EF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88D-07AC-4B8C-8BA3-63E2BAEC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D61-AE34-4248-A779-A0C9AD38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8B0-35EC-4181-9D3B-ED37FFBF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792-3A09-4055-8D80-F4474020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880-E564-4374-B738-2D98261B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919-D277-4319-8713-6829AEFF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CF1-EB1B-4BA0-8303-A755E26B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579-7F92-4848-AEE1-38AE4098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0D4-4821-48A8-B43D-F442EED7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396-FFF5-498F-A9D9-BAE35595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AE5-27A8-4CC3-92AB-3B994CEC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3761-DE61-4B1A-A762-E712EE9A8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Comic Sans MS"/>
              </a:rPr>
              <a:t>CONFLICTOS SOCIETAR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1890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SOCIETARIOS SIN CONTENIDO PATRIMON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98100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7944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268280"/>
            <a:ext cx="37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147680"/>
            <a:ext cx="8425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ctos societarios indeb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menaza y co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Arbitraje como mecanismo de 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aracteríst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Cláusula arbi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4840" y="18720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GENER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163520"/>
            <a:ext cx="777708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 Importancia de los tipos socie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Mercado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nterés social v/s interés part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Protección del acc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800" y="-100440"/>
            <a:ext cx="489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GOBIERN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90792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62864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998640"/>
            <a:ext cx="856908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Flexibilidad y 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Protección del interés económico del acc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Art. 45 LSA “</a:t>
            </a:r>
            <a:r>
              <a:rPr b="0" i="1" lang="es-ES_tradnl" sz="2800" spc="-1" strike="noStrike">
                <a:solidFill>
                  <a:srgbClr val="3333cc"/>
                </a:solidFill>
                <a:latin typeface="Arial"/>
              </a:rPr>
              <a:t>Se presume la culpabilidad de los directores respondiendo, en consecuencia, solidariamente de los perjuicios causados a la sociedad, accionistas o terceros, …..Se presume igualmente la culpabilidad del o de los directores que se  beneficien en forma indebida, directamente o a través de otra persona natural o jurídica de un negocio social que, a su vez, irrogue perjuicio a la socied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37484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760" y="1872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BER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13372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844560"/>
            <a:ext cx="81108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Importancia en operaciones 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us directores o ejecutivos, o una empresa propiedad de ellos, o en la que tienen interés directo o indir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tra empresa con la cual comparten directores y/o ejec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Otras transacciones que involucran conflictos de interés (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Insiders trading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, cambio de control, fus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- Oportunidad empresarial de directores o ejecutiv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26828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73080" y="189000"/>
            <a:ext cx="61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SOCIE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333360"/>
            <a:ext cx="8713800" cy="82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-Aspecto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Autorregulación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El deber de cuidado en el derecho comparado (EEU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Cumplimiento de la obligación de cui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A) Mantenerse informados sobre actividades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B) Asistir a reuniones d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C) Revisar los estados financi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) Deber de cuidado en estado de insolv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E) Deber fiduciario hacia los acr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6793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1592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2080" y="16344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A REGLA DEL JUICIO EN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0792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xención de responsabilidad al actu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1.- De manera infor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2.- De buena 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3.- En la honesta creencia de que la decisión era en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l mejor interés de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xcepciones a la regla del juicio en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1.- Fra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2.- Negligencia g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3.- Ileg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6320" y="16344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DEBER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966960"/>
            <a:ext cx="849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irectores, ejecutivos y accionistas mayoritarios no pueden tomar para si mismos un negocio que es definido como una oportunidad empresarial para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Artículo 44.- Una sociedad anónima sólo podrá celebrar actos o contratos en los que uno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directores tengan interés por sí o como representantes de otra persona, cuando dichas operaciones s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conocidas y aprobadas previamente por el directorio y se ajusten a condiciones de equidad similares a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que habitualmente prevalecen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2280" y="16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181080" y="189000"/>
            <a:ext cx="68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ORIA DE LA APROPIACION INDE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981000"/>
            <a:ext cx="856944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Importancia en relación a la información privilegi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Conflictos socie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spectos 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) De contenido patrimon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b) De uso indebido del poder o la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función socie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920" y="47628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9" idx="1"/>
            <a:endCxn id="79" idx="1"/>
          </p:cNvCxnSpPr>
          <p:nvPr/>
        </p:nvCxnSpPr>
        <p:spPr>
          <a:xfrm>
            <a:off x="34560" y="1800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"/>
          <p:cNvSpPr/>
          <p:nvPr/>
        </p:nvSpPr>
        <p:spPr>
          <a:xfrm>
            <a:off x="179280" y="1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DE CONTENIDO PATRIMON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080" y="765000"/>
            <a:ext cx="8028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Administración fraudul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Apropiación inde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Cone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Falsificación de doc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strucción u ocultamiento de doc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Libramiento de cheque sin fo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Balances fa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litos de los dis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xto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elitos contra el ho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WinuE</cp:lastModifiedBy>
  <dcterms:modified xsi:type="dcterms:W3CDTF">2009-07-13T15:06:30Z</dcterms:modified>
  <cp:revision>144</cp:revision>
  <dc:subject/>
  <dc:title>Diapositiva 1</dc:title>
</cp:coreProperties>
</file>