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753-6450-40CF-A289-8D66DB4E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70A-0FA4-4B63-AA82-5E6E105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704-A707-485F-8FB1-15FE4F16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231-347A-44E2-ACB3-0FD92763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A94-4065-4431-A9D6-7EDE337C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54A-5484-4646-A765-16071B4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810-8CFF-4CFA-B47D-2303042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EE1-6B34-4B8D-9190-9CE9C2B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E8E9-DACC-4DF9-8F6C-BE14D7C4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C56-61B2-43C2-93D1-AAA70CCD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CFA-8287-4972-8896-1562226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789-A6C8-4A9D-ABF9-2087189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6F5-9641-47A5-9B6F-4CFEB3CEA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CONFLICTOS SOCIET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 SIN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7944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26828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147680"/>
            <a:ext cx="8425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ctos societarios ind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menaza y co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rbitraje como mecanismo de 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aracterís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láusula arbi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187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163520"/>
            <a:ext cx="7777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Importancia de los tip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és social v/s interés p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tección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489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OBIERN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98640"/>
            <a:ext cx="85690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lexibilidad y 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rotección del interés económico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rt. 45 LSA “</a:t>
            </a:r>
            <a:r>
              <a:rPr b="0" i="1" lang="es-ES_tradnl" sz="2800" spc="-1" strike="noStrike">
                <a:solidFill>
                  <a:srgbClr val="3333cc"/>
                </a:solidFill>
                <a:latin typeface="Arial"/>
              </a:rPr>
              <a:t>Se presume la culpabilidad de los directores respondiendo, en consecuencia, solidariamente de los perjuicios causados a la sociedad, accionistas o terceros, …..Se presume igualmente la culpabilidad del o de los directores que se  beneficien en forma indebida, directamente o a través de otra persona natural o jurídica de un negocio social que, a su vez, irrogue perjuicio a la socied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760" y="1872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110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Importancia en operaciones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us directores o ejecutivos, o una empresa propiedad de ellos, o en la que tienen interés directo o indi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 empresa con la cual comparten directores y/o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s transacciones que involucran conflictos de interés (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Insiders trading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, cambio de control, fu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- Oportunidad empresarial de directores o ejecu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73080" y="18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33360"/>
            <a:ext cx="871380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-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utorregulación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El deber de cuidado en el derecho comparado (EEU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Cumplimiento de la obligación de cui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) Mantenerse informados sobre actividade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B) Asistir a reuniones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) Revisar los estados finan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) Deber de cuidado en estado de insolv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E) Deber fiduciario hacia los acr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080" y="1634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A REGLA DEL JUICIO EN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0792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ención de responsabilidad al actu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De manera infor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De buen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En la honesta creencia de que la decisión era en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mejor interé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cepciones a la regla del juicio en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Negligencia 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Ileg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6320" y="16344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669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rectores, ejecutivos y accionistas mayoritarios no pueden tomar para si mismos un negocio que es definido como una oportunidad empresarial par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Artículo 44.- Una sociedad anónima sólo podrá celebrar actos o contratos en los que uno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directores tengan interés por sí o como representantes de otra persona, cuando dichas operaciones s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conocidas y aprobadas previamente por el directorio y se ajusten a condiciones de equidad similares a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que habitualmente prevalece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1810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ORIA DE LA APROPIACIO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981000"/>
            <a:ext cx="85694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mportancia en relación a la información privileg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flict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)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b) De uso indebido del poder o la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nción soci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1"/>
            <a:endCxn id="79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765000"/>
            <a:ext cx="8028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dministración fraudu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propiació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Co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alsificación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strucción u ocultamiento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Libramiento de cheque sin 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Balances fa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los dis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x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litos contra el h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3T15:06:30Z</dcterms:modified>
  <cp:revision>144</cp:revision>
  <dc:subject/>
  <dc:title>Diapositiva 1</dc:title>
</cp:coreProperties>
</file>