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C31-7105-4FF2-8D72-EE7F5FF5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06B-E3B3-4E70-A32E-A316205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779-A94F-4D21-86ED-3D8361A3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627-1C84-42EC-ACED-D9B187C8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8E6-B1F8-458B-A585-6C875E26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626-4C52-4633-B72F-E6684A94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3FC-BD68-4291-80DE-A387A791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FCE-15F2-462C-AC1C-AA508AF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B36-4C4C-404E-8BBF-2A8C24D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9CD-9ED6-4439-8843-2463504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49A-F2C9-413D-BD99-1A6BC22A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738-36DF-4BAE-8597-76259B0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F992-20D8-477D-8A56-9E3C24607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CONFLICTOS SOCIET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SOCIETARIOS SIN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7944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26828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147680"/>
            <a:ext cx="8425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ctos societarios ind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menaza y co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rbitraje como mecanismo de 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aracterís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láusula arbi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1872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163520"/>
            <a:ext cx="7777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 Importancia de los tipos socie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és social v/s interés p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tección del a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489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OBIERN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998640"/>
            <a:ext cx="85690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lexibilidad y 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rotección del interés económico del a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rt. 45 LSA “</a:t>
            </a:r>
            <a:r>
              <a:rPr b="0" i="1" lang="es-ES_tradnl" sz="2800" spc="-1" strike="noStrike">
                <a:solidFill>
                  <a:srgbClr val="3333cc"/>
                </a:solidFill>
                <a:latin typeface="Arial"/>
              </a:rPr>
              <a:t>Se presume la culpabilidad de los directores respondiendo, en consecuencia, solidariamente de los perjuicios causados a la sociedad, accionistas o terceros, …..Se presume igualmente la culpabilidad del o de los directores que se  beneficien en forma indebida, directamente o a través de otra persona natural o jurídica de un negocio social que, a su vez, irrogue perjuicio a la socied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760" y="1872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BER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110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Importancia en operaciones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us directores o ejecutivos, o una empresa propiedad de ellos, o en la que tienen interés directo o indir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tra empresa con la cual comparten directores y/o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tras transacciones que involucran conflictos de interés (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Insiders trading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, cambio de control, fu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- Oportunidad empresarial de directores o ejecut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73080" y="18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SOCIE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33360"/>
            <a:ext cx="8713800" cy="82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-Aspec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utorregulación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El deber de cuidado en el derecho comparado (EEU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Cumplimiento de la obligación de cui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) Mantenerse informados sobre actividade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B) Asistir a reuniones d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) Revisar los estados finan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) Deber de cuidado en estado de insolv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E) Deber fiduciario hacia los acr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080" y="1634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A REGLA DEL JUICIO EN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0792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xención de responsabilidad al actu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- De manera infor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.- De buen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3.- En la honesta creencia de que la decisión era en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mejor interé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xcepciones a la regla del juicio en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-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.- Negligencia g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3.- Ileg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6320" y="16344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DEBER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6696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rectores, ejecutivos y accionistas mayoritarios no pueden tomar para si mismos un negocio que es definido como una oportunidad empresarial par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Artículo 44.- Una sociedad anónima sólo podrá celebrar actos o contratos en los que uno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directores tengan interés por sí o como representantes de otra persona, cuando dichas operaciones s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conocidas y aprobadas previamente por el directorio y se ajusten a condiciones de equidad similares a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que habitualmente prevalece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1810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ORIA DE LA APROPIACION INDE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981000"/>
            <a:ext cx="856944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mportancia en relación a la información privileg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flictos socie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) De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b) De uso indebido del poder o la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unción soci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1"/>
            <a:endCxn id="79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DE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080" y="765000"/>
            <a:ext cx="8028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Administración fraudul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Apropiación inde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Co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Falsificación de 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strucción u ocultamiento de 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Libramiento de cheque sin 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Balances fa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de los dis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x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litos contra el h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3T15:06:30Z</dcterms:modified>
  <cp:revision>144</cp:revision>
  <dc:subject/>
  <dc:title>Diapositiva 1</dc:title>
</cp:coreProperties>
</file>