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B4E-4230-404E-81FD-73787795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C556-B3A5-44FE-A1AC-7108042B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6D4-C7B6-4F4B-AD3F-5AB95303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1C9-298F-4017-913A-B4730FDE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5D9-45E7-45F0-97C6-C2631C22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C2D-BFE8-4D34-8FB3-235F4BE9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EB1-34FD-4C4F-9A58-84B73061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C1F-AACA-422B-A452-B455C342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9FF-9954-4440-8649-96FC169A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F82-9671-444D-9BFA-109AAC45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6E9-47FB-4BD8-BB63-4CFD5558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935-C622-4EF4-9649-DE2B1238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C208-942C-4614-BE05-01C6F5B43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508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Comic Sans MS"/>
              </a:rPr>
              <a:t>DISOLUCION Y LIQUI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920" y="47628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1"/>
            <a:endCxn id="83" idx="1"/>
          </p:cNvCxnSpPr>
          <p:nvPr/>
        </p:nvCxnSpPr>
        <p:spPr>
          <a:xfrm>
            <a:off x="34560" y="1800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179280" y="189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REPA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080" y="765000"/>
            <a:ext cx="80280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Art.116 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parto sólo en dinero, salvo acuerdo unánime de la J Junt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e efectúa sólo tras el pago de todas las obligaciones societ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ago sólo a quienes sean accionistas desde el quinto día hábil anterior a la fecha de di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irectores y gerentes responden solidariamente frenta a accionistas  en relación a los repa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" y="1872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ISOLUCION S.A.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836640"/>
            <a:ext cx="864072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Forma de dar término a la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onserva su personalidad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Antecede la liqui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Se pone término al funcionamiento normal de la sociedad dentro del giro que le es prop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Art. 109 LSA: “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La sociedad anónima disuelta </a:t>
            </a:r>
            <a:r>
              <a:rPr b="1" i="1" lang="es-ES_tradnl" sz="2400" spc="-1" strike="noStrike">
                <a:solidFill>
                  <a:srgbClr val="3333cc"/>
                </a:solidFill>
                <a:latin typeface="Arial"/>
              </a:rPr>
              <a:t>subsiste como persona jurídica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 para los efectos de su liquidación, quedando vigentes sus estatutos en lo que fuere pertinente. En este caso, deberá agregar a su nombre o razón social las palabras "en liquidación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160" y="-171720"/>
            <a:ext cx="69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AUSALES DE DISOLUCION (ART.103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90792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628640"/>
            <a:ext cx="31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765000"/>
            <a:ext cx="85690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 1 Vencimiento del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onsignación escritura pública (30 días) e inscripción de extr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2 Reunión de todas las acciones en una sola 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e procede de igual forma que en Nº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n caso de Sociedad Anónima Abierta, además se apl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Art. 107 LSA: “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Una sociedad anónima sometida al control de la Superintendencia en razón de esta ley o de otras leyes, </a:t>
            </a:r>
            <a:r>
              <a:rPr b="1" i="1" lang="es-ES_tradnl" sz="2400" spc="-1" strike="noStrike">
                <a:solidFill>
                  <a:srgbClr val="3333cc"/>
                </a:solidFill>
                <a:latin typeface="Arial"/>
              </a:rPr>
              <a:t>no inscribirá, sin el visto bueno de ésta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, la transferencia o transmisión de acciones que determine la disolución de la compañía, por el hecho de pasar todas las acciones de la sociedad al dominio de una sola persona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137484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5880" y="18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213372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84456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3: Acuerdo de la junta extraordinari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2/3 de las acciones emitidas con derecho a voto (reforma de estatu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resencia de ministro de 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ducción a escritura públ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4: Revocación de autorización de exis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ociedades anónimas espe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irectorio anota al margen de la inscripción de la sociedad, la revocación y se publica en el D.O. (60 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sponsabilidad solidaria (art. 106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252360" y="189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AUSALES DE DISOLUCION (ART.103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26828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541440" y="189000"/>
            <a:ext cx="795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AUSALES DE DISOLUCION (ART.103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92280"/>
            <a:ext cx="8713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Nº 5: Por declaración judicial. (Art.105)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Se resuelve breve y sumariamente y aprecia la prueba en conci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20% de los accionistas solicita que tribunal declare la disolución p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Art.105 LSA: “… </a:t>
            </a:r>
            <a:r>
              <a:rPr b="0" i="1" lang="es-MX" sz="2400" spc="-1" strike="noStrike">
                <a:solidFill>
                  <a:srgbClr val="3333cc"/>
                </a:solidFill>
                <a:latin typeface="Arial"/>
              </a:rPr>
              <a:t>infracción grave de ley, de reglamento o demás normas que les sean aplicables, que causare perjuicio a los accionistas o a la sociedad; declaración de quiebra de la sociedad, administración fraudulenta u 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3333cc"/>
                </a:solidFill>
                <a:latin typeface="Arial"/>
              </a:rPr>
              <a:t>de igual graved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6793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1592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5800" y="189000"/>
            <a:ext cx="46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EFECTOS DE LA DISOLU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907920"/>
            <a:ext cx="86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Pone término al contrato y al giro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La junta de accionistas deberá designar la comisión   liquidad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Obliga a la Sociedad a presentar la declaración de término de giro, según Art. 60 C. Tribu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urante este proceso sólo pueden ejecutarse ac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tendientes a la liqui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2360" y="1890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LIQUID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96696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roceso que consiste en cobrar los créditos societarios y el pago de las obligaciones societarias mediante la liquidación de activos, y el posterior reparto a los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rocede luego de disuelta la sociedad, excepto causal Nº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gla general: Se elige una comisión liquidadora (3 miembros) por la Junta de Accionistas salvo en caso de disolución por sentencia jud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urante este proceso la Sociedad continúa con todos sus órganos, excepto 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22280" y="163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89000"/>
            <a:ext cx="68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LIQUID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981000"/>
            <a:ext cx="8569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emplaza al Directorio en sus derechos y oblig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ólo pueden ejecutar actos y contratos tendientes a la liquidación de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presentación judicial y extrajudicial de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No son delegables sus fun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sponsables solidariamente por los perjuicios causados al os acreedores de la Sociedad a consecuencia de los repartos de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argo remune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1440" y="16344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LIQUID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14624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uración de comisión o liquidador: 3 años reeleg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A Abierta:10% de accionistas puede solicitar a superintendencia  un cambio de régimen de liquidación en caso de infracción gr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A Cerrada: Justicia ord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asado 6 años: Presunción de infracción grave por parte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WinuE</cp:lastModifiedBy>
  <dcterms:modified xsi:type="dcterms:W3CDTF">2009-07-11T21:33:01Z</dcterms:modified>
  <cp:revision>152</cp:revision>
  <dc:subject/>
  <dc:title>Diapositiva 1</dc:title>
</cp:coreProperties>
</file>