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65B-815F-4695-8611-511B5784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B6A-95B6-4983-A6EA-A042E39A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047-8EB4-43D0-B036-AFCED5B3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23E-E0B9-4DBE-AEE5-F1F1FBA6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D12-47A8-4ED5-8151-F161A8D7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24C-A9A1-4F3B-803F-8A996FA8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69D-F543-4B03-B18E-7ACE99E2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950-8ADB-4801-8E80-D052D701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7E1-2FA6-49E2-A428-10A05FA9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312-B569-4D1F-A404-C98C5F7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3DD-5AD6-42B2-9344-D710D21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80D-0385-494A-AAB2-10A1F90F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004-2C3E-4000-AAF5-0F92FB827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Comic Sans MS"/>
              </a:rPr>
              <a:t>DISOLUCION Y LIQUI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47628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1"/>
            <a:endCxn id="83" idx="1"/>
          </p:cNvCxnSpPr>
          <p:nvPr/>
        </p:nvCxnSpPr>
        <p:spPr>
          <a:xfrm>
            <a:off x="34560" y="1800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17928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A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080" y="765000"/>
            <a:ext cx="8028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rt.116 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parto sólo en dinero, salvo acuerdo unánime de la J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e efectúa sólo tras el pago de todas las obligaciones socie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ago sólo a quienes sean accionistas desde el quinto día hábil anterior a la fecha de di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irectores y gerentes responden solidariamente frenta a accionistas  en relación a los repa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" y="187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ISOLUCION S.A.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836640"/>
            <a:ext cx="86407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Forma de dar término a la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onserva su personalidad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ntecede la liqu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Se pone término al funcionamiento normal de la sociedad dentro del giro que le es prop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rt. 109 LSA: “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La sociedad anónima disuelta </a:t>
            </a:r>
            <a:r>
              <a:rPr b="1" i="1" lang="es-ES_tradnl" sz="2400" spc="-1" strike="noStrike">
                <a:solidFill>
                  <a:srgbClr val="3333cc"/>
                </a:solidFill>
                <a:latin typeface="Arial"/>
              </a:rPr>
              <a:t>subsiste como persona jurídica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 para los efectos de su liquidación, quedando vigentes sus estatutos en lo que fuere pertinente. En este caso, deberá agregar a su nombre o razón social las palabras "en liquidació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160" y="-17172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62864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765000"/>
            <a:ext cx="8569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 1 Vencimiento del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onsignación escritura pública (30 días) e inscripción de extr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2 Reunión de todas las acciones en una sola 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e procede de igual forma que en Nº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n caso de Sociedad Anónima Abierta, además se apl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rt. 107 LSA: “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Una sociedad anónima sometida al control de la Superintendencia en razón de esta ley o de otras leyes, </a:t>
            </a:r>
            <a:r>
              <a:rPr b="1" i="1" lang="es-ES_tradnl" sz="2400" spc="-1" strike="noStrike">
                <a:solidFill>
                  <a:srgbClr val="3333cc"/>
                </a:solidFill>
                <a:latin typeface="Arial"/>
              </a:rPr>
              <a:t>no inscribirá, sin el visto bueno de ésta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, la transferencia o transmisión de acciones que determine la disolución de la compañía, por el hecho de pasar todas las acciones de la sociedad al dominio de una sola persona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37484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5880" y="18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1337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84456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3: Acuerdo de la junta extraordinari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/3 de las acciones emitidas con derecho a voto (reforma de estat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esencia de ministro de 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ducción a escritura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4: Revocación de autorización de exis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ociedades anónimas espe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irectorio anota al margen de la inscripción de la sociedad, la revocación y se publica en el D.O. (60 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ponsabilidad solidaria (art. 106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252360" y="189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541440" y="189000"/>
            <a:ext cx="795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92280"/>
            <a:ext cx="871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Nº 5: Por declaración judicial. (Art.105)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Se resuelve breve y sumariamente y aprecia la prueba en conci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20% de los accionistas solicita que tribunal declare la disolución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Art.105 LSA: “… </a:t>
            </a:r>
            <a:r>
              <a:rPr b="0" i="1" lang="es-MX" sz="2400" spc="-1" strike="noStrike">
                <a:solidFill>
                  <a:srgbClr val="3333cc"/>
                </a:solidFill>
                <a:latin typeface="Arial"/>
              </a:rPr>
              <a:t>infracción grave de ley, de reglamento o demás normas que les sean aplicables, que causare perjuicio a los accionistas o a la sociedad; declaración de quiebra de la sociedad, administración fraudulenta u 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Arial"/>
              </a:rPr>
              <a:t>de igual grave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793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1592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5800" y="18900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FECTOS DE LA DISOLU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90792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Pone término al contrato y al giro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La junta de accionistas deberá designar la comisión   liquidad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Obliga a la Sociedad a presentar la declaración de término de giro, según Art. 60 C. Tribu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urante este proceso sólo pueden ejecutarse ac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ndientes a la liqui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2360" y="189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LIQUI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96696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oceso que consiste en cobrar los créditos societarios y el pago de las obligaciones societarias mediante la liquidación de activos, y el posterior reparto a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ocede luego de disuelta la sociedad, excepto causal Nº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gla general: Se elige una comisión liquidadora (3 miembros) por la Junta de Accionistas salvo en caso de disolución por sentencia jud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urante este proceso la Sociedad continúa con todos sus órganos, excepto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22280" y="16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89000"/>
            <a:ext cx="68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IQUI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981000"/>
            <a:ext cx="8569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emplaza al Directorio en sus derechos y oblig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ólo pueden ejecutar actos y contratos tendientes a la liquidación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presentación judicial y extrajudicial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No son delegables sus fun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ponsables solidariamente por los perjuicios causados al os acreedores de la Sociedad a consecuencia de los repartos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argo remun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40" y="16344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IQUI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14624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uración de comisión o liquidador: 3 años reeleg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A Abierta:10% de accionistas puede solicitar a superintendencia  un cambio de régimen de liquidación en caso de infracción g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A Cerrada: Justicia ord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asado 6 años: Presunción de infracción grave por parte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9-07-11T21:33:01Z</dcterms:modified>
  <cp:revision>152</cp:revision>
  <dc:subject/>
  <dc:title>Diapositiva 1</dc:title>
</cp:coreProperties>
</file>