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0C9-0607-48EC-883C-81D15DAD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02D-3835-4243-A629-9B8FE464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90F-7216-4370-B4E9-8315A72B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30D-88C5-4BB3-93CF-5A19AEAD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A66-9687-4113-9264-19613C9D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7BA-6625-4D86-ACDC-850F887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BB1-5078-474D-AE64-A4F7B667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6BC-467C-434F-9759-62CDEAEE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172-451D-40A6-A80B-F47D5DD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ED7-C964-46A5-8502-7F68740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070-B939-4762-B8F2-75C1D4EF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57B-75B2-4FD3-BBF7-CAE904DB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4AA4-F5C1-460B-BBA4-9611B4DF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Comic Sans MS"/>
              </a:rPr>
              <a:t>DISOLUCION Y LIQUI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47628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1"/>
            <a:endCxn id="83" idx="1"/>
          </p:cNvCxnSpPr>
          <p:nvPr/>
        </p:nvCxnSpPr>
        <p:spPr>
          <a:xfrm>
            <a:off x="34560" y="1800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17928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A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765000"/>
            <a:ext cx="8028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rt.116 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arto sólo en dinero, salvo acuerdo unánime de la J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efectúa sólo tras el pago de todas las obligaciones socie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go sólo a quienes sean accionistas desde el quinto día hábil anterior a la fecha de di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es y gerentes responden solidariamente frenta a accionistas  en relación a los repa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" y="187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ISOLUCION S.A.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836640"/>
            <a:ext cx="86407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Forma de dar término a la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onserva su personalidad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ntecede la liqu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Se pone término al funcionamiento normal de la sociedad dentro del giro que le es pro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9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La sociedad anónima disuelta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subsiste como persona jurídic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 para los efectos de su liquidación, quedando vigentes sus estatutos en lo que fuere pertinente. En este caso, deberá agregar a su nombre o razón social las palabras "en liquidació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160" y="-17172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62864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765000"/>
            <a:ext cx="8569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 1 Vencimiento del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onsignación escritura pública (30 días) e inscripción de extr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2 Reunión de todas las acciones en una sola 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procede de igual forma que en Nº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n caso de Sociedad Anónima Abierta, además se apl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7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Una sociedad anónima sometida al control de la Superintendencia en razón de esta ley o de otras leyes,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no inscribirá, sin el visto bueno de ést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, la transferencia o transmisión de acciones que determine la disolución de la compañía, por el hecho de pasar todas las acciones de la sociedad al dominio de una sola persona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37484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5880" y="18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8445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3: Acuerdo de la junta extraordinari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/3 de las acciones emitidas con derecho a voto (reforma de estat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esencia de ministro de 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ducción a escritura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4: Revocación de autorización de ex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ociedades anónimas espe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io anota al margen de la inscripción de la sociedad, la revocación y se publica en el D.O. (60 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ilidad solidaria (art. 106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52360" y="189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541440" y="189000"/>
            <a:ext cx="795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92280"/>
            <a:ext cx="871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Nº 5: Por declaración judicial. (Art.105)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Se resuelve breve y sumariamente y aprecia la prueba en con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20% de los accionistas solicita que tribunal declare la disolución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rt.105 LSA: “… </a:t>
            </a: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infracción grave de ley, de reglamento o demás normas que les sean aplicables, que causare perjuicio a los accionistas o a la sociedad; declaración de quiebra de la sociedad, administración fraudulenta u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de igual grave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79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159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5800" y="1890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FECTOS DE LA DISOLU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90792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Pone término al contrato y al gir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La junta de accionistas deberá designar la comisión   liquid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Obliga a la Sociedad a presentar la declaración de término de giro, según Art. 60 C. Tribu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urante este proceso sólo pueden ejecutarse a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ndientes a la liqui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189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LIQUI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96696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so que consiste en cobrar los créditos societarios y el pago de las obligaciones societarias mediante la liquidación de activos, y el posterior reparto a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de luego de disuelta la sociedad, excepto causal Nº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gla general: Se elige una comisión liquidadora (3 miembros) por la Junta de Accionistas salvo en caso de disolución por sentencia jud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nte este proceso la Sociedad continúa con todos sus órganos, excepto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22280" y="16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89000"/>
            <a:ext cx="68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8569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emplaza al Directorio en sus derechos y oblig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ólo pueden ejecutar actos y contratos tendientes a la liquidación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resentación judicial y extrajudicial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No son delegables sus fun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les solidariamente por los perjuicios causados al os acreedores de la Sociedad a consecuencia de los repartos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argo remun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40" y="16344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14624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ción de comisión o liquidador: 3 años reeleg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Abierta:10% de accionistas puede solicitar a superintendencia  un cambio de régimen de liquidación en caso de infracción g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Cerrada: Justicia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sado 6 años: Presunción de infracción grave por parte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9-07-11T21:33:01Z</dcterms:modified>
  <cp:revision>152</cp:revision>
  <dc:subject/>
  <dc:title>Diapositiva 1</dc:title>
</cp:coreProperties>
</file>