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511-713D-4626-800A-8507910C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0B54-7AAE-4431-9D20-992A4904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AFD-DF05-46AD-B815-4778D0871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219A-A4DE-47C8-8F81-729F94D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144-E6A1-4F5B-B97A-DB17122B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C505-C34F-46F0-950A-D53D153E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90A0-F472-4BE9-BB0E-099FC30CA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00BE-0C6D-497E-98DC-620B253AB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D041-A96B-4B11-99A8-86C4D3504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1AF-BE52-43F7-B4AF-5F61DA6F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F289-F4DF-4D71-B754-119EA77A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E2FE-E1A0-400B-8B6D-46C74F7E2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2ADE-3E8A-415D-A583-A11A71FEE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entornofiscal.files.wordpress.com/2008/06/contabilidad1.jpg&amp;imgrefurl=http://entornofiscal.wordpress.com/2008/06/25/son-los-estados-de-cuenta-bancarios-integrantes-de-la-contabilidad-para-fines-fiscales/&amp;usg=__UWwImGATkyf8M9KiBROxGrXzmPY=&amp;h=300&amp;w=300&amp;sz=18&amp;hl=es&amp;start=4&amp;tbnid=rW0xbtLNW9cUGM:&amp;tbnh=116&amp;tbnw=116&amp;prev=/images%3Fq%3Dcontabilidad%26gbv%3D2%26ndsp%3D18%26hl%3Des%26sa%3DX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emc-dos.com.mx/navidad/img/inspector.gif&amp;imgrefurl=http://www.emc-dos.com.mx/navidad/VerfNormas.html&amp;usg=__skww9wVOJMB5S6tkfu2cpiFJSgk=&amp;h=200&amp;w=157&amp;sz=13&amp;hl=es&amp;start=69&amp;tbnid=-eG363LILmsTqM:&amp;tbnh=104&amp;tbnw=82&amp;prev=/images%3Fq%3DAuditores%2Be%2BInspectores%26gbv%3D2%26ndsp%3D18%26hl%3Des%26sa%3DN%26start%3D54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gch.com.mx/imagenes/auditorias.jpg&amp;imgrefurl=http://www.gch.com.mx/AudiOrig.aspx&amp;usg=__n1g9Ez80zNaTfTBQyTmoYtGc9Qk=&amp;h=265&amp;w=400&amp;sz=40&amp;hl=es&amp;start=1&amp;tbnid=KUCUI3Qszg8GQM:&amp;tbnh=82&amp;tbnw=124&amp;prev=/images%3Fq%3DAuditor%25C3%25ADas%26gbv%3D2%26hl%3Des%26sa%3D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scrituradesociedades.cl/fotos/escritura_inicio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contadores.infobaeprofesional.com/adjuntos/imagenes/05/0150513.jpg&amp;imgrefurl=http://contadores.infobaeprofesional.com/notas/49562-La-CNV-extiende-la-inscripcion-de-auditores-externos.html&amp;usg=__hsaLBcN-xt69fLMbdT7OKISyQtY=&amp;h=259&amp;w=379&amp;sz=10&amp;hl=es&amp;start=14&amp;tbnid=pAnmtouY7uAmxM:&amp;tbnh=84&amp;tbnw=123&amp;prev=/images%3Fq%3DAuditores%2Bexternos%26gbv%3D2%26hl%3Des%26sa%3D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irca.org/inform/issue18/images/iStock_000004854877XSmall.jpg&amp;imgrefurl=http://spain.irca.org/inform/issue18/RNewton.html&amp;usg=__o5hh4ZuDL0K1DH67dF5DaVNARy0=&amp;h=254&amp;w=384&amp;sz=94&amp;hl=es&amp;start=19&amp;tbnid=cRQJWgSm9fuIEM:&amp;tbnh=81&amp;tbnw=123&amp;prev=/images%3Fq%3DAuditor%25C3%25ADas%26gbv%3D2%26ndsp%3D18%26hl%3Des%26sa%3DN%26start%3D18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66720" y="241200"/>
            <a:ext cx="4547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Universidad de Chi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Facultad de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Derecho Comerc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Profesor Sr. José Luis López Blan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000" y="494172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RECHO  COMERCIAL 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FISCALIZACIÓN DE LAS S.A.</a:t>
            </a:r>
            <a:r>
              <a:rPr b="1" lang="es-MX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125360"/>
            <a:ext cx="77774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podrá estar a cargo de ingenieros comerciales, contadores auditores, en general cualquier persona con facultades para emitir informes de auditorías de estados contables finacie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acreditar ejercicio de a lo menos 3 años de la profes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77744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 AUDITORÍA EXTERNA TAMBIÉN PUEDE ESTAR A CARGO DE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CONTADORE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, DEBEN ACREDITAR A LO MENOS </a:t>
            </a:r>
            <a:r>
              <a:rPr b="1" lang="es-CL" sz="2400" spc="-1" strike="noStrike" u="sng">
                <a:solidFill>
                  <a:srgbClr val="3333cc"/>
                </a:solidFill>
                <a:uFillTx/>
                <a:latin typeface="Verdana"/>
              </a:rPr>
              <a:t>5 AÑOS EN EJERCICIO DE LA PROFESIÓ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51280" y="4508640"/>
            <a:ext cx="1584360" cy="1584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1125360"/>
            <a:ext cx="7777440" cy="49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as Juntas ordinarias de accionistas deben designar anualmente AUDITORES EXTERNOS INDEPENDI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2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1125360"/>
            <a:ext cx="7777440" cy="52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estatutos también pueden establecer la existencia de Inspectores de Cuenta de forma permanente y transit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564000" y="4005360"/>
            <a:ext cx="1476360" cy="187164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640" y="1125360"/>
            <a:ext cx="7777440" cy="67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Importancia de los estatu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unciones de los audi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de la S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8360" y="162864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4076640"/>
            <a:ext cx="2016000" cy="1333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O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39640" y="1125360"/>
            <a:ext cx="7777440" cy="42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OS AUDITORES EXTERNOS PUEDEN SER PERSONAS NATURALES O JURÍD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Deben estar Inscritos en los </a:t>
            </a:r>
            <a:r>
              <a:rPr b="1" lang="es-CL" sz="1800" spc="-1" strike="noStrike" u="sng">
                <a:solidFill>
                  <a:srgbClr val="3333cc"/>
                </a:solidFill>
                <a:uFillTx/>
                <a:latin typeface="Verdana"/>
              </a:rPr>
              <a:t>Registros de Auditores</a:t>
            </a: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 que lleva a SVS, deben ser independientes de las Sociedades auditadas (máximo 3% del capital suscrito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cc"/>
                </a:solidFill>
                <a:latin typeface="Verdana"/>
              </a:rPr>
              <a:t>Son elegidos de la nómina de la SV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400000">
            <a:off x="3605400" y="302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125360"/>
            <a:ext cx="7777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Verdana"/>
              </a:rPr>
              <a:t>ARTICULO 54º.- La memoria, balance, inventario, actas, libros y los informes de los auditores externos y, en su caso, de los inspectores de cuentas, quedarán a disposición de los accionistas para su examen en la oficina de la administración de la sociedad, durante los quince días anteriores a la fecha señalada para la junta de accionist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68360" y="981000"/>
            <a:ext cx="7777080" cy="51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Los Auditores extern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 Inspectores de cuenta en las S.A. abiertas al estar sujetos a la </a:t>
            </a:r>
            <a:r>
              <a:rPr b="1" lang="es-CL" sz="2800" spc="-1" strike="noStrike" u="sng">
                <a:solidFill>
                  <a:srgbClr val="3333cc"/>
                </a:solidFill>
                <a:uFillTx/>
                <a:latin typeface="Verdana"/>
              </a:rPr>
              <a:t>fiscalización de la SVS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, puede impartirles dictámenes y requerirles  cualquiera inform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o antecedentes relacionados a sus fun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084720" y="1268280"/>
            <a:ext cx="1873440" cy="12528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Verdana"/>
              </a:rPr>
              <a:t>Bibliografía</a:t>
            </a:r>
            <a:r>
              <a:rPr b="0" lang="es-ES_tradn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CONTRERAS STRAUCH, Osval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Instituciones de 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, Editorial jurídica Lexis Nex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Verdana"/>
              </a:rPr>
              <a:t>SANDOVAL LOPEZ, Ricardo.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0" i="1" lang="es-ES_tradnl" sz="2000" spc="-1" strike="noStrike">
                <a:solidFill>
                  <a:srgbClr val="3333cc"/>
                </a:solidFill>
                <a:latin typeface="Verdana"/>
              </a:rPr>
              <a:t>Derecho Comercial</a:t>
            </a: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. Tomo II, volumen 1. Editorial Jurídica de Chil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Verdana"/>
              </a:rPr>
              <a:t>Página web de la SV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836640"/>
            <a:ext cx="7777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Genera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Control Delegado al igual que en otras legislaciones.  </a:t>
            </a:r>
            <a:r>
              <a:rPr b="1" lang="es-CL" sz="3600" spc="-1" strike="noStrike" u="sng">
                <a:solidFill>
                  <a:srgbClr val="3333cc"/>
                </a:solidFill>
                <a:uFillTx/>
                <a:latin typeface="Verdana"/>
              </a:rPr>
              <a:t>CONTROL VIGILA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Ver imagen en tamaño complet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1125360"/>
            <a:ext cx="1594080" cy="165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836640"/>
            <a:ext cx="7777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Importancia de la Junta de Accionis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Verdana"/>
              </a:rPr>
              <a:t>Cargos de Inspectores de cuenta y auditores externos son indelegables y esencialmente revocables.</a:t>
            </a:r>
            <a:r>
              <a:rPr b="1" lang="es-CL" sz="36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4724280"/>
            <a:ext cx="2303280" cy="1573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CLASIFICAC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71640" y="981000"/>
            <a:ext cx="792144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SOCIEDADES ANÓNIMAS ABIER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Comunes u Ordin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Espe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2) SOCIEDADES ANÓNIMAS 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125360"/>
            <a:ext cx="7777440" cy="43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   </a:t>
            </a:r>
            <a:r>
              <a:rPr b="1" lang="es-CL" sz="2800" spc="-1" strike="noStrike">
                <a:solidFill>
                  <a:srgbClr val="3333cc"/>
                </a:solidFill>
                <a:latin typeface="Verdana"/>
              </a:rPr>
              <a:t>FISCALIZACIÓN INTERNA DE LAS S.A. CERR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stá a cargo de INSPECTORES DE CUENTA, dos titulares y dos suplent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 efectuarse también por   auditores externos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125360"/>
            <a:ext cx="777744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u función es examinar la contabilidad, balance, inventario y otros estados financieros, así como también vigilar operaciones sociales y cumplimiento de deberes de los administradores. (Art. 5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eben informar por escrito del cumplimiento del manda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125360"/>
            <a:ext cx="77774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No pueden ser Inspectores de cuenta los directores o liquidadores de la sociedad, los gerentes y demás trabajadores de ésta (Art. 44 y 45 del Reglamento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03640" y="3933720"/>
            <a:ext cx="2160360" cy="14223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125360"/>
            <a:ext cx="777744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1_ Personas Natu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2_ Mayores de e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3_ Libres administradores de sus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4_ No haber estado condenados a pena aflic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OS ESTATUTOS, PUEDEN ESTABLECER OTROS 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2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" dur="2000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304920"/>
            <a:ext cx="73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SOCIEDADES ANÓNI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1125360"/>
            <a:ext cx="777744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Pueden concurrir a Juntas pero únicamente poseen derecho a voz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Responden hasta por culpa leve por los perjuicios que causaren a los accionistas en virtud de sus informes y actu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    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LIBERTAD DE LAS S.A. CERRADAS PARA SER FISCALIZADAS POR AUDITORES EXTER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557360"/>
            <a:ext cx="8497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Elizabeth</cp:lastModifiedBy>
  <dcterms:modified xsi:type="dcterms:W3CDTF">2009-04-15T07:28:33Z</dcterms:modified>
  <cp:revision>104</cp:revision>
  <dc:subject/>
  <dc:title>Diapositiva 1</dc:title>
</cp:coreProperties>
</file>