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4151-6C19-4754-99BE-EE1823BC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4665-AC9E-4725-8642-01886A13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9221-8FDC-434A-B213-56A3C1D3E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4679-B1BD-4E10-AFF3-3BBD6BDA7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D244-B06E-4D92-AA99-00571624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4C1C-DFAA-4553-A6FE-79A9A4F0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E8B3-DD30-4760-A687-0834A57C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8D7-8AAC-45CD-8141-54235CD81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E342-53B0-4FE2-B042-068D8CB96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9547-A2A5-49C5-9DF3-79D0AA31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0DC8-1358-4EF1-A97E-17368820B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3A9A-5AA1-402F-96A3-556AE9D6E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C6150-34DC-44EC-8803-FD82AF21D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entornofiscal.files.wordpress.com/2008/06/contabilidad1.jpg&amp;imgrefurl=http://entornofiscal.wordpress.com/2008/06/25/son-los-estados-de-cuenta-bancarios-integrantes-de-la-contabilidad-para-fines-fiscales/&amp;usg=__UWwImGATkyf8M9KiBROxGrXzmPY=&amp;h=300&amp;w=300&amp;sz=18&amp;hl=es&amp;start=4&amp;tbnid=rW0xbtLNW9cUGM:&amp;tbnh=116&amp;tbnw=116&amp;prev=/images%3Fq%3Dcontabilidad%26gbv%3D2%26ndsp%3D18%26hl%3Des%26sa%3DX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emc-dos.com.mx/navidad/img/inspector.gif&amp;imgrefurl=http://www.emc-dos.com.mx/navidad/VerfNormas.html&amp;usg=__skww9wVOJMB5S6tkfu2cpiFJSgk=&amp;h=200&amp;w=157&amp;sz=13&amp;hl=es&amp;start=69&amp;tbnid=-eG363LILmsTqM:&amp;tbnh=104&amp;tbnw=82&amp;prev=/images%3Fq%3DAuditores%2Be%2BInspectores%26gbv%3D2%26ndsp%3D18%26hl%3Des%26sa%3DN%26start%3D54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gch.com.mx/imagenes/auditorias.jpg&amp;imgrefurl=http://www.gch.com.mx/AudiOrig.aspx&amp;usg=__n1g9Ez80zNaTfTBQyTmoYtGc9Qk=&amp;h=265&amp;w=400&amp;sz=40&amp;hl=es&amp;start=1&amp;tbnid=KUCUI3Qszg8GQM:&amp;tbnh=82&amp;tbnw=124&amp;prev=/images%3Fq%3DAuditor%25C3%25ADas%26gbv%3D2%26hl%3Des%26sa%3D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crituradesociedades.cl/fotos/escritura_inicio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contadores.infobaeprofesional.com/adjuntos/imagenes/05/0150513.jpg&amp;imgrefurl=http://contadores.infobaeprofesional.com/notas/49562-La-CNV-extiende-la-inscripcion-de-auditores-externos.html&amp;usg=__hsaLBcN-xt69fLMbdT7OKISyQtY=&amp;h=259&amp;w=379&amp;sz=10&amp;hl=es&amp;start=14&amp;tbnid=pAnmtouY7uAmxM:&amp;tbnh=84&amp;tbnw=123&amp;prev=/images%3Fq%3DAuditores%2Bexternos%26gbv%3D2%26hl%3Des%26sa%3D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irca.org/inform/issue18/images/iStock_000004854877XSmall.jpg&amp;imgrefurl=http://spain.irca.org/inform/issue18/RNewton.html&amp;usg=__o5hh4ZuDL0K1DH67dF5DaVNARy0=&amp;h=254&amp;w=384&amp;sz=94&amp;hl=es&amp;start=19&amp;tbnid=cRQJWgSm9fuIEM:&amp;tbnh=81&amp;tbnw=123&amp;prev=/images%3Fq%3DAuditor%25C3%25ADas%26gbv%3D2%26ndsp%3D18%26hl%3Des%26sa%3DN%26start%3D18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Verdana"/>
              </a:rPr>
              <a:t>FISCALIZACIÓN DE LAS S.A.</a:t>
            </a:r>
            <a:r>
              <a:rPr b="1" lang="es-MX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125360"/>
            <a:ext cx="77774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auditoría externa podrá estar a cargo de ingenieros comerciales, contadores auditores, en general cualquier persona con facultades para emitir informes de auditorías de estados contables finaci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ben acreditar ejercicio de a lo menos 3 años de la profes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125360"/>
            <a:ext cx="7777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AUDITORÍA EXTERNA TAMBIÉN PUEDE ESTAR A CARGO DE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CONTADORES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, DEBEN ACREDITAR A LO MENOS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5 AÑOS EN EJERCICIO DE LA PROFESIÓ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4508640"/>
            <a:ext cx="1584360" cy="1584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125360"/>
            <a:ext cx="7777440" cy="49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FISCALIZACIÓN INTERNA DE LAS S.A. ABIER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Juntas ordinarias de accionistas deben designar anualmente AUDITORES EXTERNOS INDEPEND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25360"/>
            <a:ext cx="777744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Los estatutos también pueden establecer la existencia de Inspectores de Cuenta de forma permanente y transit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64000" y="4005360"/>
            <a:ext cx="147636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125360"/>
            <a:ext cx="7777440" cy="67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Importancia de los estat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Funciones de los audi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Fiscalización de la S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62864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56360" y="4076640"/>
            <a:ext cx="2016000" cy="133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O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125360"/>
            <a:ext cx="7777440" cy="42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OS AUDITORES EXTERNOS PUEDEN SER PERSONAS NATURALES O JURÍD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Deben estar Inscritos en los </a:t>
            </a:r>
            <a:r>
              <a:rPr b="1" lang="es-CL" sz="1800" spc="-1" strike="noStrike" u="sng">
                <a:solidFill>
                  <a:srgbClr val="3333cc"/>
                </a:solidFill>
                <a:uFillTx/>
                <a:latin typeface="Verdana"/>
              </a:rPr>
              <a:t>Registros de Auditores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que lleva a SVS, deben ser independientes de las Sociedades auditadas (máximo 3% del capital suscrit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Son elegidos de la nómina de la SV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3605400" y="302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125360"/>
            <a:ext cx="7777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ICULO 54º.- La memoria, balance, inventario, actas, libros y los informes de los auditores externos y, en su caso, de los inspectores de cuentas, quedarán a disposición de los accionistas para su examen en la oficina de la administración de la sociedad, durante los quince días anteriores a la fecha señalada para la junta de accionist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981000"/>
            <a:ext cx="7777080" cy="51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Los Auditores extern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 Inspectores de cuenta en las S.A. abiertas al estar sujetos a la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fiscalización de la SVS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, puede impartirles dictámenes y requerirles  cualquiera inform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o antecedentes relacionados a sus fun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84720" y="1268280"/>
            <a:ext cx="1873440" cy="1252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. Tomo II, volumen 1. Editorial Jurídica de Ch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ágina web de la S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836640"/>
            <a:ext cx="7777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600" spc="-1" strike="noStrike">
                <a:solidFill>
                  <a:srgbClr val="3333cc"/>
                </a:solidFill>
                <a:latin typeface="Verdana"/>
              </a:rPr>
              <a:t>Generalid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3600" spc="-1" strike="noStrike">
                <a:solidFill>
                  <a:srgbClr val="3333cc"/>
                </a:solidFill>
                <a:latin typeface="Verdana"/>
              </a:rPr>
              <a:t>Control Delegado al igual que en otras legislaciones.  </a:t>
            </a:r>
            <a:r>
              <a:rPr b="1" lang="es-CL" sz="3600" spc="-1" strike="noStrike" u="sng">
                <a:solidFill>
                  <a:srgbClr val="3333cc"/>
                </a:solidFill>
                <a:uFillTx/>
                <a:latin typeface="Verdana"/>
              </a:rPr>
              <a:t>CONTROL VIGILA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Ver imagen en tamaño complet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1125360"/>
            <a:ext cx="1594080" cy="165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836640"/>
            <a:ext cx="777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600" spc="-1" strike="noStrike">
                <a:solidFill>
                  <a:srgbClr val="3333cc"/>
                </a:solidFill>
                <a:latin typeface="Verdana"/>
              </a:rPr>
              <a:t>Importancia de la Junta de Accionis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Cargos de Inspectores de cuenta y auditores externos son indelegables y esencialmente revocables.</a:t>
            </a:r>
            <a:r>
              <a:rPr b="1" lang="es-CL" sz="36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8720" y="4724280"/>
            <a:ext cx="2303280" cy="1573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981000"/>
            <a:ext cx="7921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OCIEDADES ANÓNIMAS ABIER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omunes u Ordin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pe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SOCIEDADES ANÓNIMAS  CER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25360"/>
            <a:ext cx="7777440" cy="43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FISCALIZACIÓN INTERNA DE LAS S.A. CER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tá a cargo de INSPECTORES DE CUENTA, dos titulares y dos supl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uede efectuarse también por   auditores externos.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25360"/>
            <a:ext cx="77774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u función es examinar la contabilidad, balance, inventario y otros estados financieros, así como también vigilar operaciones sociales y cumplimiento de deberes de los administradores. (Art. 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ben informar por escrito del cumplimiento del manda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125360"/>
            <a:ext cx="77774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 pueden ser Inspectores de cuenta los directores o liquidadores de la sociedad, los gerentes y demás trabajadores de ésta (Art. 44 y 45 del Reglamento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3640" y="3933720"/>
            <a:ext cx="2160360" cy="142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125360"/>
            <a:ext cx="777744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QUIS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1_ Personas Na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2_ Mayores de 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3_ Libres administradores de sus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4_ No haber estado condenados a pena afli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IBERTAD DE LOS ESTATUTOS, PUEDEN ESTABLECER OTROS 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25360"/>
            <a:ext cx="777744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ueden concurrir a Juntas pero únicamente poseen derecho a vo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den hasta por culpa leve por los perjuicios que causaren a los accionistas en virtud de sus informes y actu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IBERTAD DE LAS S.A. CERRADAS PARA SER FISCALIZADAS POR AUDITORES EXT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9-04-15T07:28:33Z</dcterms:modified>
  <cp:revision>104</cp:revision>
  <dc:subject/>
  <dc:title>Diapositiva 1</dc:title>
</cp:coreProperties>
</file>