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5AF-DA14-4631-92A6-7ADDDFF5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AB3-F946-47A7-8A2E-26426C40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2F6-58E1-44E7-91D2-C4A82750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D80-D499-40D5-B67B-3E85A4F0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6C0-CF6D-49EB-8593-5D82F66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8D7-17AF-45EC-8F03-AF9D6DA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3A8-537E-4122-8174-41C1DE15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972-2E04-4F84-8615-2FA58C4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30F-8E67-47A1-9142-72246F3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11E-48D1-47EE-9736-20B66735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627-F776-4D72-B481-C0D8169A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77E-03D0-4A72-8E16-15936E45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EF2D-87B7-4823-B31B-6AC8C22C4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4797360"/>
            <a:ext cx="7345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SOCIE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DOMINIO ADMINISTRACIO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052640"/>
            <a:ext cx="849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s decisiones más significativas las adoptan los accionistas reunidos en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juntas de accionistas pueden ser ordinarias y extraordinarias.   (Art. 55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ordinaria se celebra una vez al año en la época fijada en los estatutos para examinar la situación de la sociedad, los informes de los fiscalizadores y pronunciarse sobre memoria, balance y resultados.  (Art. 56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misma oportunidad, se aprueba la distribución de utilidades y el reparto de dividendos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inalmente, se elige cuando proceda a los directores, liquidadores y fiscalizadores de la sociedad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extraordinaria se celebra en cualquier tiempo que lo exijan las necesidades sociales.  (Art. 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materias que debe tratar la junta extraordinaria, son todas resoluciones sobre asuntos que no están en el giro ordinario de la sociedad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sión o di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forma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misión de bonos o debentures, convertibles en 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ajenación del activo fijo y pasiv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05264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ajenación tot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torgamiento de garantías reales o personales por obligaciones de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acuerdos en la junta de accionistas se adoptan por mayoría absoluta de las acciones emitidas con derecho a voto.  (Art. 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iertas materias especiales requieren 2/3 de las acciones emitidas con derecho a voto.  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sión y di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25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ificación del plazo de d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olución anticip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mbio de domicilio 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minución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fiscalización se ejerce por regla general por los propios s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n perjuicio, dentro del principio de la autonomía de la voluntad, podría acordarse una forma de fiscalización disti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la fiscalización se ejerce a través de auditores externos o inspectores de cuenta que debe designar la junta ordinaria de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12536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fiscalizadores deben revisar los libros de la sociedad e imponerse en detalle de todos los negocios y de los principios de contabilidad que se han utilizado para confeccionar el balance.  (Activos y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n entregar anualmente un informe de su fiscalización tanto al directorio como a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e informe deberá quedar a disposición de los accionistas durante los 15 días anteriores a la junta 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erecho de dominio lo tienen en las sociedades las personas que la integran como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éstas están integradas por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socio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quienes son dueños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derech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sociedad.  El derecho corresponde al interés o cuota de participación que cada socio tiene en esa persona juríd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e derecho nace del aporte de capital que hace el soci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8100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aporte de capital en las sociedades de personas puede hacerse en dinero, en crédito o cualquiera otra clase de bienes, muebles o inmuebles (Art. 352 Nº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ser objetos de aporte dinero, créditos, muebles e inmuebles, mercedes, privilegios de invención, trabajo manual, la mera industria y cualquier cosa comerciables capaz de prestar alguna utilidad.  (Art. 37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052640"/>
            <a:ext cx="8352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n las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las personas que la integran se denomin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ccionista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os accionistas son dueños de su título de inversión que se denomin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cción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e derecho nace del aporte de capital que hace el accionista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aporte de capital en las sociedades anónimas sólo puede ser en dinero efectivo o en otros bienes, muebles o inmue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Por regla general (salvo acuerdo unánime de las acciones), los aportes que no sean dineros deben ser tasados por peritos y en caso de aumento de capital, aprobados por la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administración corresponde por regla general a todos los socios, Arts. 365, 366, 367, 368, 369, 3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dministración corresponde de derecho a todos y cada uno de los socios y éstos pueden desempeñarla por sí mismos, o por sus delegados, sean socios o extraños.  (Art. 3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uando en el contrato social no se designa administración, se entiende que todos los socios se confieren recíprocamente la facultad de administrar. (Art. 38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legada la facultad de administrar en uno o más socios, los demás quedan inhibidos de administrar.  (Art. 3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uando no hay delegados, y existen diferencias de opiniones entre los socios, el acuerdo de la mayoría obliga a la minoría siempre que recaiga sobre actos de simple administración o materias comprendidas en el giro social.  (Art. 39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 administración la ejerce un directorio elegido por la junta de accionistas.  (Art. 31,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funciones de director no son delegables y se ejercen colectivamente en sala legalmente constituid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da director tiene derecho a ser informado plena y directamente por el gerente de todo lo relacionado con la marcha de la empres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legidos por un grupo o clase de acciones tienen los mismos deberes para con la sociedad y los demás accionistas que los directores restantes, no pudiendo faltar a éstos o a aquella, a pretexto de defender los intereses de quienes los eligieron.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irectorio de una sociedad la representa judicial y extrajudicialmente y para el cumplimiento del objeto está investida de todas las facultades de administración que no sean privativas de la junta de accionistas.  (Art. 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sujetos a los deberes de actuar de buena fe, con prudencia y lealtad para con la sociedad, no pudiendo adoptar decisiones que no tengan por fin el interés social sino que sus propios intereses o los de terceros relacionados.  (Art. 4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obligados a guardar reserva respecto de los negocios de la sociedad que no hayan sido divulgados oficialmente.  (Art. 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8-10-21T20:43:09Z</dcterms:modified>
  <cp:revision>111</cp:revision>
  <dc:subject/>
  <dc:title>Diapositiva 1</dc:title>
</cp:coreProperties>
</file>