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D9EC-EAB3-407F-B9E4-C36F4260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8871-448D-468A-AE0E-A0895FCE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B230-53FB-49BD-A3B0-FC234A5C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EBD4-AA2D-4505-9B41-4A65E32D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37EF-C5B3-4BE9-A592-1D3E51BC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BCE7-6DBA-4B2D-8846-A872E281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4B30-0442-4650-89C6-9C8E5AF0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D93B-DBF2-4E1C-896A-B41C3927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41C4-A32F-46DC-B4DB-B5010860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1B65-B586-4AD2-AA70-59114A2A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B22D-0B98-4924-92AB-06F7C6F5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1632-8CC7-49A8-A789-493D97F5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74F9-D4CE-4140-A336-81F72188D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826920" y="4797360"/>
            <a:ext cx="734544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Verdana"/>
              </a:rPr>
              <a:t>SOCIED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Verdana"/>
              </a:rPr>
              <a:t>DOMINIO ADMINISTRACION 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1052640"/>
            <a:ext cx="8498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anónimas las decisiones más significativas las adoptan los accionistas reunidos en ju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s juntas de accionistas pueden ser ordinarias y extraordinarias.   (Art. 55.  Ley S.A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 junta ordinaria se celebra una vez al año en la época fijada en los estatutos para examinar la situación de la sociedad, los informes de los fiscalizadores y pronunciarse sobre memoria, balance y resultados.  (Art. 56.  Ley S.A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125360"/>
            <a:ext cx="8497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 misma oportunidad, se aprueba la distribución de utilidades y el reparto de dividendos.  (Art. 5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inalmente, se elige cuando proceda a los directores, liquidadores y fiscalizadores de la sociedad.  (Art. 5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 junta extraordinaria se celebra en cualquier tiempo que lo exijan las necesidades sociales.  (Art. 5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052640"/>
            <a:ext cx="8497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s materias que debe tratar la junta extraordinaria, son todas resoluciones sobre asuntos que no están en el giro ordinario de la sociedad, por 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isol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rans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usión o div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forma estat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misión de bonos o debentures, convertibles en a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ajenación del activo fijo y pasivo de la soc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052640"/>
            <a:ext cx="8497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ajenación total del a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torgamiento de garantías reales o personales por obligaciones de terc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os acuerdos en la junta de accionistas se adoptan por mayoría absoluta de las acciones emitidas con derecho a voto.  (Art. 6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iertas materias especiales requieren 2/3 de las acciones emitidas con derecho a voto.  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rans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usión y div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12536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ificación del plazo de d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isolución anticip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mbio de domicilio so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isminución del capital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FISCALIZ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125360"/>
            <a:ext cx="8497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de personas la fiscalización se ejerce por regla general por los propios so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n perjuicio, dentro del principio de la autonomía de la voluntad, podría acordarse una forma de fiscalización disti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de personas, la fiscalización se ejerce a través de auditores externos o inspectores de cuenta que debe designar la junta ordinaria de accionist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FISCALIZ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125360"/>
            <a:ext cx="8497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os fiscalizadores deben revisar los libros de la sociedad e imponerse en detalle de todos los negocios y de los principios de contabilidad que se han utilizado para confeccionar el balance.  (Activos y pasiv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ben entregar anualmente un informe de su fiscalización tanto al directorio como a los accioni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ste informe deberá quedar a disposición de los accionistas durante los 15 días anteriores a la junta ordi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DOMI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125360"/>
            <a:ext cx="8497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l derecho de dominio lo tienen en las sociedades las personas que la integran como miemb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de personas, éstas están integradas por 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los socios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quienes son dueños de 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derechos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 sociedad.  El derecho corresponde al interés o cuota de participación que cada socio tiene en esa persona jurídic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se derecho nace del aporte de capital que hace el soci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DOMI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981000"/>
            <a:ext cx="8497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l aporte de capital en las sociedades de personas puede hacerse en dinero, en crédito o cualquiera otra clase de bienes, muebles o inmuebles (Art. 352 Nº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ueden ser objetos de aporte dinero, créditos, muebles e inmuebles, mercedes, privilegios de invención, trabajo manual, la mera industria y cualquier cosa comerciables capaz de prestar alguna utilidad.  (Art. 37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DOMI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052640"/>
            <a:ext cx="835200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n las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las personas que la integran se denominan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accionistas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Los accionistas son dueños de su título de inversión que se denomina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acción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ste derecho nace del aporte de capital que hace el accionista a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l aporte de capital en las sociedades anónimas sólo puede ser en dinero efectivo o en otros bienes, muebles o inmue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Por regla general (salvo acuerdo unánime de las acciones), los aportes que no sean dineros deben ser tasados por peritos y en caso de aumento de capital, aprobados por la junta de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052640"/>
            <a:ext cx="8498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de personas la administración corresponde por regla general a todos los socios, Arts. 365, 366, 367, 368, 369, 38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 administración corresponde de derecho a todos y cada uno de los socios y éstos pueden desempeñarla por sí mismos, o por sus delegados, sean socios o extraños.  (Art. 38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uando en el contrato social no se designa administración, se entiende que todos los socios se confieren recíprocamente la facultad de administrar. (Art. 38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1125360"/>
            <a:ext cx="8498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legada la facultad de administrar en uno o más socios, los demás quedan inhibidos de administrar.  (Art. 39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uando no hay delegados, y existen diferencias de opiniones entre los socios, el acuerdo de la mayoría obliga a la minoría siempre que recaiga sobre actos de simple administración o materias comprendidas en el giro social.  (Art. 39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1052640"/>
            <a:ext cx="8497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n las sociedades anónimas la administración la ejerce un directorio elegido por la junta de accionistas.  (Art. 31, Ley S.A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s funciones de director no son delegables y se ejercen colectivamente en sala legalmente constituida.  (Art. 3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da director tiene derecho a ser informado plena y directamente por el gerente de todo lo relacionado con la marcha de la empresa.  (Art. 3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1125360"/>
            <a:ext cx="8498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os directores elegidos por un grupo o clase de acciones tienen los mismos deberes para con la sociedad y los demás accionistas que los directores restantes, no pudiendo faltar a éstos o a aquella, a pretexto de defender los intereses de quienes los eligieron. (Art. 3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l directorio de una sociedad la representa judicial y extrajudicialmente y para el cumplimiento del objeto está investida de todas las facultades de administración que no sean privativas de la junta de accionistas.  (Art. 4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.  ADMINISTR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1125360"/>
            <a:ext cx="8498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os directores están sujetos a los deberes de actuar de buena fe, con prudencia y lealtad para con la sociedad, no pudiendo adoptar decisiones que no tengan por fin el interés social sino que sus propios intereses o los de terceros relacionados.  (Art. 4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os directores están obligados a guardar reserva respecto de los negocios de la sociedad que no hayan sido divulgados oficialmente.  (Art. 4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pc</cp:lastModifiedBy>
  <dcterms:modified xsi:type="dcterms:W3CDTF">2008-10-21T20:43:09Z</dcterms:modified>
  <cp:revision>111</cp:revision>
  <dc:subject/>
  <dc:title>Diapositiva 1</dc:title>
</cp:coreProperties>
</file>