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D7B8D-47DD-4DB7-AC44-05E168169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2DA8E-F9DC-453B-BB54-49AB80C78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61E5D-31DF-436A-B77C-F735B9C12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4BEC7-D879-46F2-990D-EDE439EEE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2114E-AE16-4157-BAD0-D7ADBFC4C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1DADB-3BC0-47C7-97D0-E10068EB0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0D26-5199-4ABB-982D-EB03A8D35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4894F-A7F6-4859-ABCF-5C27BCF7B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1B00E-9455-40CB-B52D-332CDD0F4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BE3A8-9677-411A-BB9E-2BC2E1DDC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A0D5-FAB1-478B-84F9-EF99A40AB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D41E-73FE-4F86-AD0F-EE653D84E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A9E7D-7415-4099-849A-B2F2C1EAF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826920" y="5084640"/>
            <a:ext cx="749016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SOCIEDAD ANONI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ORGANOS, CONTROL E INFORMAC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97080" y="-90360"/>
            <a:ext cx="3600360" cy="78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
        <p:nvSpPr>
          <p:cNvPr id="81" name="PlaceHolder 2"/>
          <p:cNvSpPr>
            <a:spLocks noGrp="1"/>
          </p:cNvSpPr>
          <p:nvPr>
            <p:ph/>
          </p:nvPr>
        </p:nvSpPr>
        <p:spPr>
          <a:xfrm>
            <a:off x="250920" y="473040"/>
            <a:ext cx="8353440" cy="5043600"/>
          </a:xfrm>
          <a:prstGeom prst="rect">
            <a:avLst/>
          </a:prstGeom>
          <a:noFill/>
          <a:ln w="0">
            <a:noFill/>
          </a:ln>
        </p:spPr>
        <p:txBody>
          <a:bodyPr lIns="90000" rIns="90000" tIns="46800" bIns="46800" anchor="t">
            <a:normAutofit fontScale="87000"/>
          </a:bodyPr>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l directorio (Art. 41 LSA)</a:t>
            </a:r>
            <a:br>
              <a:rPr sz="2400"/>
            </a:b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de por culpa leve</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Solidaridad</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Modificación estatutaria a la regla general de responsabilidad del directorio</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beres de conducta de administradores para con la sociedad y los accionista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ligencia y cuidado (art. 41 LS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cisiones de negocios:</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Con información plena</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8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6720" y="188640"/>
            <a:ext cx="259236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br>
              <a:rPr sz="2400"/>
            </a:br>
            <a:endParaRPr b="0" lang="en-US" sz="2400" spc="-1" strike="noStrike">
              <a:solidFill>
                <a:srgbClr val="000000"/>
              </a:solidFill>
              <a:latin typeface="Times New Roman"/>
            </a:endParaRPr>
          </a:p>
        </p:txBody>
      </p:sp>
      <p:sp>
        <p:nvSpPr>
          <p:cNvPr id="8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24000" y="1095120"/>
            <a:ext cx="806436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 buena f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conflicto de interés (Art.44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 ausencia de ilegalidad en el actuar del direct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bligación de medi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Lealtad y transparencia: Art. 39, 42 a 44, 46, 54, 74, y 76 LSA; Art. 9, 10, 165 y 207 LMV</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reserva: Art. 43</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Presunciones de culpabilidad de los directores: Art. 4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Deber de informar a los accionistas y a terceros: Art. 46</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8000" y="-100440"/>
            <a:ext cx="403056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8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79280" y="543240"/>
            <a:ext cx="8569440" cy="5946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aterias de la junta ordinaria de accionistas (art. 56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xamen de la situación de la sociedad y de informes de los inspectores de cuentas y auditores extern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probación o rechazo de la memoria, del balance, de los estados y demostraciones financieras, presentada por los administradores o liquidadores de la sociedad.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79280" y="1197000"/>
            <a:ext cx="87138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istribución de las utilidades de cada ejercicio y, en especial, el reparto de dividendo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lección y revocación de los miembros titulares y suplentes del directorio, de los liquidadores y de los fiscalizadores de la administr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general, cualquier materia de interés social que no sea propia de una junta extraordina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La Junta de Accionistas no puede acordar materias que competen a la administración: Caso especial del art. 44.</a:t>
            </a:r>
            <a:endParaRPr b="0" lang="en-US" sz="2400" spc="-1" strike="noStrike">
              <a:solidFill>
                <a:srgbClr val="000000"/>
              </a:solidFill>
              <a:latin typeface="Times New Roman"/>
            </a:endParaRPr>
          </a:p>
        </p:txBody>
      </p:sp>
      <p:sp>
        <p:nvSpPr>
          <p:cNvPr id="9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9280" y="830520"/>
            <a:ext cx="8640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itación a junta ordinaria de accionistas (Art. 59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aviso destacado publicado, por lo menos, tres veces en días distintos en el periódico del domicilio social que haya determinado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además, se deberá enviar citación por correo a cada accionista con al menos 15 días de anticipación a la fecha de la junta. Art. 59 inc.2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una fecha no posterior a la del primero de los avisos de citación, el directorio de la S.A. debe enviar a cada accionista copia del balance y de la memoria de la sociedad. Art 75.</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18432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8000" y="-27360"/>
            <a:ext cx="4533840" cy="63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96" name=""/>
          <p:cNvSpPr/>
          <p:nvPr/>
        </p:nvSpPr>
        <p:spPr>
          <a:xfrm>
            <a:off x="209520" y="679680"/>
            <a:ext cx="875520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las SAA existe la obligación de comunicar a la Superintendencia de la celebración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egunda citación (art. 61 inc. 2)</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podrá efectuarse tras haber fracasado la junta a efectuarse de la primera cit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rá realizarse dentro de los 45 días siguientes a la fecha fijada para la junta no efectuad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77840" y="663480"/>
            <a:ext cx="86421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para celebrar la junta (Art. 61</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1º Citación: Mayoría absoluta de las acciones con Dº a voto (salvo que la ley o el estatuto social determinen algo distint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2º Citación: Presentes o representados, cualquiera sea su núme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ienes pueden participar en la junta (Art. 6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n ejercer derecho a voz y voto los titulares de acciones inscritas en el Registro de Accionistas con cinco días de anticipación a la fecha de celebración de la junt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cciones sin derecho a voto: Pueden comparecer pero sólo con derecho a voz, de la misma forma: Directores y gerentes no accionistas</a:t>
            </a:r>
            <a:endParaRPr b="0" lang="en-US" sz="2400" spc="-1" strike="noStrike">
              <a:solidFill>
                <a:srgbClr val="000000"/>
              </a:solidFill>
              <a:latin typeface="Times New Roman"/>
            </a:endParaRPr>
          </a:p>
        </p:txBody>
      </p:sp>
      <p:sp>
        <p:nvSpPr>
          <p:cNvPr id="9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0"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79280" y="620640"/>
            <a:ext cx="86425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celebrar la junta ordinaria de accionist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sist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Perso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Representad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uede no ser accioni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 constar por escr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r el total de las acciones de las cuales el mandante  </a:t>
            </a:r>
            <a:r>
              <a:rPr b="0" lang="es-ES_tradnl" sz="2400" spc="-1" strike="noStrike">
                <a:solidFill>
                  <a:srgbClr val="3333cc"/>
                </a:solidFill>
                <a:latin typeface="Arial"/>
              </a:rPr>
              <a:t>	</a:t>
            </a:r>
            <a:r>
              <a:rPr b="0" lang="es-ES_tradnl" sz="2400" spc="-1" strike="noStrike">
                <a:solidFill>
                  <a:srgbClr val="3333cc"/>
                </a:solidFill>
                <a:latin typeface="Arial"/>
              </a:rPr>
              <a:t>sea tit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rma de hoja de asistencia: art. 71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pertura de la junta: art. 72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Quórum: Mayoría absoluta de las acciones con derecho a voto</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xclusión de Quórum</a:t>
            </a:r>
            <a:endParaRPr b="0" lang="en-US" sz="2400" spc="-1" strike="noStrike">
              <a:solidFill>
                <a:srgbClr val="000000"/>
              </a:solidFill>
              <a:latin typeface="Times New Roman"/>
            </a:endParaRPr>
          </a:p>
        </p:txBody>
      </p:sp>
      <p:sp>
        <p:nvSpPr>
          <p:cNvPr id="102"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3" name=""/>
          <p:cNvSpPr/>
          <p:nvPr/>
        </p:nvSpPr>
        <p:spPr>
          <a:xfrm>
            <a:off x="250920" y="404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179280" y="657720"/>
            <a:ext cx="8964720" cy="5946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extraordinari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aterias de junta extraordinaria de accionistas (Art. 57 L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solución anticipada de la sociedad</a:t>
            </a:r>
            <a:endParaRPr b="0" lang="en-US" sz="2400" spc="-1" strike="noStrike">
              <a:solidFill>
                <a:srgbClr val="000000"/>
              </a:solidFill>
              <a:latin typeface="Times New Roman"/>
            </a:endParaRPr>
          </a:p>
          <a:p>
            <a:pPr>
              <a:lnSpc>
                <a:spcPct val="100000"/>
              </a:lnSpc>
              <a:buClr>
                <a:srgbClr val="3333cc"/>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ransformación, fusión, división y reforma estatutar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misión de bonos y </a:t>
            </a:r>
            <a:r>
              <a:rPr b="0" i="1" lang="es-ES_tradnl" sz="2400" spc="-1" strike="noStrike">
                <a:solidFill>
                  <a:srgbClr val="3333cc"/>
                </a:solidFill>
                <a:latin typeface="Arial"/>
              </a:rPr>
              <a:t>debenture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Enajenación del activo fijo y pasivo social, o del total de su         activ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orgamiento de garantías reales o personales para caucionar obligaciones de tercero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Otras materias que por ley o estatutos correspondan a competencia de la junta de accionistas</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
        <p:nvSpPr>
          <p:cNvPr id="10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179280" y="83124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cuerdos que impliquen reformas estatutarias, o saneamiento de las modificaciones de ellos: Mayoría que indique el estat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uerdos de la junta extraordinaria de accionistas (Art.6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Quórum de 2/3 de las acciones con derecho a voto: Art. 67 inc. 2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Transformación de la sociedad, división, fus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Modificación del plazo de duración de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Disolución anticip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Disminución del capital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ambio de domicilio soc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Disminución del número de miembros del directorio</a:t>
            </a:r>
            <a:endParaRPr b="0" lang="en-US" sz="2400" spc="-1" strike="noStrike">
              <a:solidFill>
                <a:srgbClr val="000000"/>
              </a:solidFill>
              <a:latin typeface="Times New Roman"/>
            </a:endParaRPr>
          </a:p>
        </p:txBody>
      </p:sp>
      <p:sp>
        <p:nvSpPr>
          <p:cNvPr id="10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4320" y="4428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0920" y="126828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81080" y="18900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GOBIERNO CORPORATIVO</a:t>
            </a:r>
            <a:endParaRPr b="0" lang="en-US" sz="2400" spc="-1" strike="noStrike">
              <a:solidFill>
                <a:srgbClr val="000000"/>
              </a:solidFill>
              <a:latin typeface="Times New Roman"/>
            </a:endParaRPr>
          </a:p>
        </p:txBody>
      </p:sp>
      <p:sp>
        <p:nvSpPr>
          <p:cNvPr id="49" name=""/>
          <p:cNvSpPr/>
          <p:nvPr/>
        </p:nvSpPr>
        <p:spPr>
          <a:xfrm>
            <a:off x="179280" y="765000"/>
            <a:ext cx="87138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Gobierno Corporativ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Es la normativa legal, reglamentaria y estatutaria relativa a la administración y funcionamiento de la sociedad anónima, sus órganos, procedimientos y forma de tomar resolucio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Objetiv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Estructura eficient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beres y responsabi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ondiciones básica para confianza en una sociedad </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Propiedad y Administración: Problema de Agen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250920" y="759960"/>
            <a:ext cx="856908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onvocación a junta extraordinaria de accionistas (Art. 58)</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si mismo, si los intereses sociales lo justifica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r requerimiento de accionistas que representen al menos el 10% de las acciones con derecho a vo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requerimient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lazo de 30 días para realizar la junta, desde la fecha de la solicitud, cuando es a requerimiento de los accionistas o de la Superintendenci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250920" y="1004760"/>
            <a:ext cx="8713800" cy="484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presentación y calificación de poderes (Art. 63 RSA)</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oder de representación debe contene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ugar y fecha de otorgamient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apoderado</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mbre y apellidos del poderdante</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dicación de la naturaleza de la junta para la cual se </a:t>
            </a:r>
            <a:r>
              <a:rPr b="0" lang="es-ES_tradnl" sz="2400" spc="-1" strike="noStrike">
                <a:solidFill>
                  <a:srgbClr val="3333cc"/>
                </a:solidFill>
                <a:latin typeface="Arial"/>
              </a:rPr>
              <a:t>	</a:t>
            </a:r>
            <a:r>
              <a:rPr b="0" lang="es-ES_tradnl" sz="2400" spc="-1" strike="noStrike">
                <a:solidFill>
                  <a:srgbClr val="3333cc"/>
                </a:solidFill>
                <a:latin typeface="Arial"/>
              </a:rPr>
              <a:t>otorga y fecha de su celebración</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apoderado podrá ejercer todos los </a:t>
            </a:r>
            <a:r>
              <a:rPr b="0" lang="es-ES_tradnl" sz="2400" spc="-1" strike="noStrike">
                <a:solidFill>
                  <a:srgbClr val="3333cc"/>
                </a:solidFill>
                <a:latin typeface="Arial"/>
              </a:rPr>
              <a:t>	</a:t>
            </a:r>
            <a:r>
              <a:rPr b="0" lang="es-ES_tradnl" sz="2400" spc="-1" strike="noStrike">
                <a:solidFill>
                  <a:srgbClr val="3333cc"/>
                </a:solidFill>
                <a:latin typeface="Arial"/>
              </a:rPr>
              <a:t>derechos del mandante </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eclaración de que el poder sólo podrá entenderse </a:t>
            </a:r>
            <a:r>
              <a:rPr b="0" lang="es-ES_tradnl" sz="2400" spc="-1" strike="noStrike">
                <a:solidFill>
                  <a:srgbClr val="3333cc"/>
                </a:solidFill>
                <a:latin typeface="Arial"/>
              </a:rPr>
              <a:t>	</a:t>
            </a:r>
            <a:r>
              <a:rPr b="0" lang="es-ES_tradnl" sz="2400" spc="-1" strike="noStrike">
                <a:solidFill>
                  <a:srgbClr val="3333cc"/>
                </a:solidFill>
                <a:latin typeface="Arial"/>
              </a:rPr>
              <a:t>revocado por otro con fecha posterior</a:t>
            </a:r>
            <a:endParaRPr b="0" lang="en-US" sz="24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rma del poderdante</a:t>
            </a:r>
            <a:endParaRPr b="0" lang="en-US" sz="2400" spc="-1" strike="noStrike">
              <a:solidFill>
                <a:srgbClr val="000000"/>
              </a:solidFill>
              <a:latin typeface="Times New Roman"/>
            </a:endParaRPr>
          </a:p>
        </p:txBody>
      </p:sp>
      <p:sp>
        <p:nvSpPr>
          <p:cNvPr id="11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51280" y="9216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79280" y="634320"/>
            <a:ext cx="8785440" cy="521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alificación de pode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ebe realizarse el mismo día de la junta, a la hora en que ésta deba inici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odrá anticiparse el proceso de calificación hasta con tres días de anticipa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el proceso de calificación se verifica que los poderes cumplan con los elementos del artículo 63 del RSA. (Art. 67 R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Una vez adoptada la resolución definitiva no podrán presentarse nuevos poderes.</a:t>
            </a:r>
            <a:endParaRPr b="0" lang="en-US" sz="2400" spc="-1" strike="noStrike">
              <a:solidFill>
                <a:srgbClr val="000000"/>
              </a:solidFill>
              <a:latin typeface="Times New Roman"/>
            </a:endParaRPr>
          </a:p>
        </p:txBody>
      </p:sp>
      <p:sp>
        <p:nvSpPr>
          <p:cNvPr id="117"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55960" y="115920"/>
            <a:ext cx="3884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JUNTA DE ACCIONIS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0" name="PlaceHolder 2"/>
          <p:cNvSpPr>
            <a:spLocks noGrp="1"/>
          </p:cNvSpPr>
          <p:nvPr>
            <p:ph/>
          </p:nvPr>
        </p:nvSpPr>
        <p:spPr>
          <a:xfrm>
            <a:off x="-360" y="2923920"/>
            <a:ext cx="8604360" cy="3600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Accionista disidente</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se hubiere opuesto a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l que no habiendo concurrido a la junta, manifieste su disidencia por escrito a la sociedad dentro de plaz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Forma de realizar el aviso</a:t>
            </a:r>
            <a:endParaRPr b="0" lang="en-US" sz="2400" spc="-1" strike="noStrike">
              <a:solidFill>
                <a:srgbClr val="000000"/>
              </a:solidFill>
              <a:latin typeface="Times New Roman"/>
            </a:endParaRPr>
          </a:p>
        </p:txBody>
      </p:sp>
      <p:sp>
        <p:nvSpPr>
          <p:cNvPr id="12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50920" y="836640"/>
            <a:ext cx="820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r>
              <a:rPr b="0" lang="es-ES_tradnl" sz="2400" spc="-1" strike="noStrike">
                <a:solidFill>
                  <a:srgbClr val="3333cc"/>
                </a:solidFill>
                <a:latin typeface="Arial"/>
              </a:rPr>
              <a:t>: Facultad que otorga el Legislador al accionista disidente, para retirarse de la sociedad, en el caso que la Junta de Accionistas apruebe determinadas materias. Ordenándose previamente el pago del valor de sus acciones (Art. 69 y siguientes LS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25" name="PlaceHolder 2"/>
          <p:cNvSpPr>
            <a:spLocks noGrp="1"/>
          </p:cNvSpPr>
          <p:nvPr>
            <p:ph/>
          </p:nvPr>
        </p:nvSpPr>
        <p:spPr>
          <a:xfrm>
            <a:off x="-360" y="2565000"/>
            <a:ext cx="8604360" cy="360036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ecio a pagar</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Cerradas (Art. 77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Valor libro en SA con series de acciones de valor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iferente</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En las Sociedades Anónimas Abiertas (Art. 79 RSA)</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con transacción bursátil</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cciones sin transacción bursátil</a:t>
            </a: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12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2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50920" y="765000"/>
            <a:ext cx="820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orma de ejercer el derecho a retir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arta certificada</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resentación escrita entre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0" name="PlaceHolder 2"/>
          <p:cNvSpPr>
            <a:spLocks noGrp="1"/>
          </p:cNvSpPr>
          <p:nvPr>
            <p:ph/>
          </p:nvPr>
        </p:nvSpPr>
        <p:spPr>
          <a:xfrm>
            <a:off x="-360" y="2060640"/>
            <a:ext cx="8604360" cy="4392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ago parcial de acciones (Art. 80)</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Materias que proporcionan derecho a retiro (Art. 69)</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0" lang="es-ES_tradnl" sz="2400" spc="-1" strike="noStrike">
                <a:solidFill>
                  <a:srgbClr val="3333cc"/>
                </a:solidFill>
                <a:latin typeface="Arial"/>
              </a:rPr>
              <a:t>1.- Transformac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2.- Fusió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3.- Enajenación de 50% o más del activo socia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4.- Otorgamiento de cauciones reales o personales </a:t>
            </a:r>
            <a:r>
              <a:rPr b="0" lang="es-ES_tradnl" sz="2400" spc="-1" strike="noStrike">
                <a:solidFill>
                  <a:srgbClr val="3333cc"/>
                </a:solidFill>
                <a:latin typeface="Arial"/>
              </a:rPr>
              <a:t>	</a:t>
            </a:r>
            <a:r>
              <a:rPr b="0" lang="es-ES_tradnl" sz="2400" spc="-1" strike="noStrike">
                <a:solidFill>
                  <a:srgbClr val="3333cc"/>
                </a:solidFill>
                <a:latin typeface="Arial"/>
              </a:rPr>
              <a:t>para obligaciones de terceros que excedan el 50%</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del activo, excepto respecto de filial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5.- Creación de preferencias, aumento o reducción de las existentes</a:t>
            </a:r>
            <a:endParaRPr b="0" lang="en-US" sz="2400" spc="-1" strike="noStrike">
              <a:solidFill>
                <a:srgbClr val="000000"/>
              </a:solidFill>
              <a:latin typeface="Times New Roman"/>
            </a:endParaRPr>
          </a:p>
        </p:txBody>
      </p:sp>
      <p:sp>
        <p:nvSpPr>
          <p:cNvPr id="131"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50920" y="83664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echa del pago (Art. 71 inc. II LSA)</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0 días desde la junta, sin recargo</a:t>
            </a:r>
            <a:endParaRPr b="0" lang="en-US" sz="2400" spc="-1" strike="noStrike">
              <a:solidFill>
                <a:srgbClr val="000000"/>
              </a:solidFill>
              <a:latin typeface="Times New Roman"/>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go posterior al plaz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95280" y="-360"/>
            <a:ext cx="7772400" cy="86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000"/>
            </a:br>
            <a:endParaRPr b="0" lang="en-US" sz="2400" spc="-1" strike="noStrike">
              <a:solidFill>
                <a:srgbClr val="000000"/>
              </a:solidFill>
              <a:latin typeface="Times New Roman"/>
            </a:endParaRPr>
          </a:p>
        </p:txBody>
      </p:sp>
      <p:sp>
        <p:nvSpPr>
          <p:cNvPr id="135" name="PlaceHolder 2"/>
          <p:cNvSpPr>
            <a:spLocks noGrp="1"/>
          </p:cNvSpPr>
          <p:nvPr>
            <p:ph/>
          </p:nvPr>
        </p:nvSpPr>
        <p:spPr>
          <a:xfrm>
            <a:off x="-360" y="2852280"/>
            <a:ext cx="8604360" cy="352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	</a:t>
            </a:r>
            <a:r>
              <a:rPr b="1" lang="es-ES_tradnl" sz="2400" spc="-1" strike="noStrike">
                <a:solidFill>
                  <a:srgbClr val="3333cc"/>
                </a:solidFill>
                <a:latin typeface="Arial"/>
              </a:rPr>
              <a:t>Plazo para ejercer el derecho a retiro (Art. 70 LS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El derecho de retiro y la quiebr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Reconsideración o ratificación del acuerdo que da derecho a retir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95280" y="-316080"/>
            <a:ext cx="6334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RECHO A RETIRO</a:t>
            </a:r>
            <a:endParaRPr b="0" lang="en-US" sz="2400" spc="-1" strike="noStrike">
              <a:solidFill>
                <a:srgbClr val="000000"/>
              </a:solidFill>
              <a:latin typeface="Times New Roman"/>
            </a:endParaRPr>
          </a:p>
        </p:txBody>
      </p:sp>
      <p:sp>
        <p:nvSpPr>
          <p:cNvPr id="137"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50920" y="836640"/>
            <a:ext cx="820872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6.- Saneamiento de nulidad causada por vicios </a:t>
            </a:r>
            <a:r>
              <a:rPr b="0" lang="es-ES_tradnl" sz="2400" spc="-1" strike="noStrike">
                <a:solidFill>
                  <a:srgbClr val="3333cc"/>
                </a:solidFill>
                <a:latin typeface="Arial"/>
              </a:rPr>
              <a:t>	</a:t>
            </a:r>
            <a:r>
              <a:rPr b="0" lang="es-ES_tradnl" sz="2400" spc="-1" strike="noStrike">
                <a:solidFill>
                  <a:srgbClr val="3333cc"/>
                </a:solidFill>
                <a:latin typeface="Arial"/>
              </a:rPr>
              <a:t>formal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7.- No cumplimiento de las disposiciones del </a:t>
            </a:r>
            <a:r>
              <a:rPr b="0" lang="es-ES_tradnl" sz="2400" spc="-1" strike="noStrike">
                <a:solidFill>
                  <a:srgbClr val="3333cc"/>
                </a:solidFill>
                <a:latin typeface="Arial"/>
              </a:rPr>
              <a:t>	</a:t>
            </a:r>
            <a:r>
              <a:rPr b="0" lang="es-ES_tradnl" sz="2400" spc="-1" strike="noStrike">
                <a:solidFill>
                  <a:srgbClr val="3333cc"/>
                </a:solidFill>
                <a:latin typeface="Arial"/>
              </a:rPr>
              <a:t>artículo 69 ter L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250920" y="3284640"/>
            <a:ext cx="8353440" cy="2595600"/>
          </a:xfrm>
          <a:prstGeom prst="rect">
            <a:avLst/>
          </a:prstGeom>
          <a:noFill/>
          <a:ln w="0">
            <a:noFill/>
          </a:ln>
        </p:spPr>
        <p:txBody>
          <a:bodyPr lIns="90000" rIns="90000" tIns="46800" bIns="46800" anchor="t">
            <a:normAutofit fontScale="97000"/>
          </a:bodyPr>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Ventajas del Mercado de Valores</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Mayor rentabilidad</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nanciamiento a largo plaz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Más barato</a:t>
            </a: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30040" y="91080"/>
            <a:ext cx="470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r>
              <a:rPr b="0"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142" name=""/>
          <p:cNvSpPr/>
          <p:nvPr/>
        </p:nvSpPr>
        <p:spPr>
          <a:xfrm>
            <a:off x="250920" y="1197000"/>
            <a:ext cx="244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inanciamiento</a:t>
            </a:r>
            <a:endParaRPr b="0" lang="en-US" sz="2400" spc="-1" strike="noStrike">
              <a:solidFill>
                <a:srgbClr val="000000"/>
              </a:solidFill>
              <a:latin typeface="Times New Roman"/>
            </a:endParaRPr>
          </a:p>
        </p:txBody>
      </p:sp>
      <p:sp>
        <p:nvSpPr>
          <p:cNvPr id="143" name=""/>
          <p:cNvSpPr/>
          <p:nvPr/>
        </p:nvSpPr>
        <p:spPr>
          <a:xfrm>
            <a:off x="3061800" y="1143000"/>
            <a:ext cx="2821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Bancario</a:t>
            </a:r>
            <a:endParaRPr b="0" lang="en-US" sz="2400" spc="-1" strike="noStrike">
              <a:solidFill>
                <a:srgbClr val="000000"/>
              </a:solidFill>
              <a:latin typeface="Times New Roman"/>
            </a:endParaRPr>
          </a:p>
        </p:txBody>
      </p:sp>
      <p:sp>
        <p:nvSpPr>
          <p:cNvPr id="144" name=""/>
          <p:cNvSpPr/>
          <p:nvPr/>
        </p:nvSpPr>
        <p:spPr>
          <a:xfrm>
            <a:off x="3024720" y="1817640"/>
            <a:ext cx="305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Mercado de Valores</a:t>
            </a:r>
            <a:endParaRPr b="0" lang="en-US" sz="2400" spc="-1" strike="noStrike">
              <a:solidFill>
                <a:srgbClr val="000000"/>
              </a:solidFill>
              <a:latin typeface="Times New Roman"/>
            </a:endParaRPr>
          </a:p>
        </p:txBody>
      </p:sp>
      <p:sp>
        <p:nvSpPr>
          <p:cNvPr id="145" name=""/>
          <p:cNvSpPr/>
          <p:nvPr/>
        </p:nvSpPr>
        <p:spPr>
          <a:xfrm>
            <a:off x="2330280" y="2637000"/>
            <a:ext cx="378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ciedad Anónima Abierta</a:t>
            </a:r>
            <a:endParaRPr b="0" lang="en-US" sz="2400" spc="-1" strike="noStrike">
              <a:solidFill>
                <a:srgbClr val="000000"/>
              </a:solidFill>
              <a:latin typeface="Times New Roman"/>
            </a:endParaRPr>
          </a:p>
        </p:txBody>
      </p:sp>
      <p:sp>
        <p:nvSpPr>
          <p:cNvPr id="146" name=""/>
          <p:cNvSpPr/>
          <p:nvPr/>
        </p:nvSpPr>
        <p:spPr>
          <a:xfrm>
            <a:off x="6227640" y="1125360"/>
            <a:ext cx="2737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Arial"/>
              </a:rPr>
              <a:t>Personas naturales y pequeñas empresas</a:t>
            </a:r>
            <a:endParaRPr b="0" lang="en-US" sz="2000" spc="-1" strike="noStrike">
              <a:solidFill>
                <a:srgbClr val="000000"/>
              </a:solidFill>
              <a:latin typeface="Times New Roman"/>
            </a:endParaRPr>
          </a:p>
        </p:txBody>
      </p:sp>
      <p:sp>
        <p:nvSpPr>
          <p:cNvPr id="147" name=""/>
          <p:cNvSpPr/>
          <p:nvPr/>
        </p:nvSpPr>
        <p:spPr>
          <a:xfrm>
            <a:off x="2627280" y="1413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484360" y="1700280"/>
            <a:ext cx="5749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96000" y="134136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140360" y="22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81440" y="1125360"/>
            <a:ext cx="8712360" cy="583272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mportancia de la información: Inversionistas tomen decisión racional sobre donde invertir</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Regulación de la información permite acceso igualitario a la información.</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os deberes de información afectan a todas la entidades inscritas en el Registro de Valores.</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1. Información continua y periódica</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Obligación periódica (Trimestral) </a:t>
            </a:r>
            <a:endParaRPr b="0" lang="en-US" sz="2400" spc="-1" strike="noStrike">
              <a:solidFill>
                <a:srgbClr val="000000"/>
              </a:solidFill>
              <a:latin typeface="Times New Roman"/>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FECU (Ficha Estadística Codificada Técnica)</a:t>
            </a:r>
            <a:endParaRPr b="0" lang="en-US" sz="2400" spc="-1" strike="noStrike">
              <a:solidFill>
                <a:srgbClr val="000000"/>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325800" y="4428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3"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81440" y="1054080"/>
            <a:ext cx="9145800" cy="6120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ES_tradnl" sz="2400" spc="-1" strike="noStrike">
                <a:solidFill>
                  <a:srgbClr val="3333cc"/>
                </a:solidFill>
                <a:latin typeface="Arial"/>
              </a:rPr>
              <a:t>2. Información esenci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Aquella que un hombre juicioso consideraría importante para sus decisiones sobre inversión. (Art. 9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Todo aquello que pueda tener alguna injerencia o afectar la decisión de inversión de un agente en un momento determin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Divulgación en forma veraz, suficiente y oportuna, al momento que ocurra o llegue a su conocimient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Siempre se debe publica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scalización por SVS; Norma de Carácter General Nº 21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25800" y="16344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79280" y="679320"/>
            <a:ext cx="828036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Arial"/>
              </a:rPr>
              <a:t>Característica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Mandatarios revocab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Tempo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Número variabl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Arial"/>
              </a:rPr>
              <a:t>	</a:t>
            </a:r>
            <a:r>
              <a:rPr b="0" lang="es-CL" sz="2400" spc="-1" strike="noStrike">
                <a:solidFill>
                  <a:srgbClr val="3333cc"/>
                </a:solidFill>
                <a:latin typeface="Arial"/>
              </a:rPr>
              <a:t>	</a:t>
            </a:r>
            <a:r>
              <a:rPr b="0" lang="es-CL" sz="2400" spc="-1" strike="noStrike">
                <a:solidFill>
                  <a:srgbClr val="3333cc"/>
                </a:solidFill>
                <a:latin typeface="Arial"/>
              </a:rPr>
              <a:t>Pueden ser remunerad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Inhabilidades generales de los directores (Art. 35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Inhabilidades especiales, SAA (Art. 36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Prohibiciones a lo directores (Art. 42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p:txBody>
      </p:sp>
      <p:sp>
        <p:nvSpPr>
          <p:cNvPr id="52" name=""/>
          <p:cNvSpPr/>
          <p:nvPr/>
        </p:nvSpPr>
        <p:spPr>
          <a:xfrm>
            <a:off x="250920" y="115920"/>
            <a:ext cx="7777080" cy="459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0" y="981000"/>
            <a:ext cx="8820000" cy="5114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3. Información reservada</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cc"/>
                </a:solidFill>
                <a:latin typeface="Arial"/>
              </a:rPr>
              <a:t>     </a:t>
            </a:r>
            <a:r>
              <a:rPr b="0" lang="es-ES_tradnl" sz="2400" spc="-1" strike="noStrike">
                <a:solidFill>
                  <a:srgbClr val="3333cc"/>
                </a:solidFill>
                <a:latin typeface="Arial"/>
              </a:rPr>
              <a:t>Hecho esencial,  pero su publicación causaría perjuicios a las negociaciones pendient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No requiere ser publicada mientras dure el hecho pendient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4. Información de interé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0" lang="es-ES_tradnl" sz="2400" spc="-1" strike="noStrike">
                <a:solidFill>
                  <a:srgbClr val="3333cc"/>
                </a:solidFill>
                <a:latin typeface="Arial"/>
              </a:rPr>
              <a:t>Toda aquella que, sin revestir el carácter de hecho   esencial, puede ser de utilidad para un adecuado análisis  de la situación económica y financiera del emisor, de sus valores o de la oferta de éstos</a:t>
            </a:r>
            <a:r>
              <a:rPr b="1" lang="es-ES_tradnl" sz="2400" spc="-1" strike="noStrike">
                <a:solidFill>
                  <a:srgbClr val="3333cc"/>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
          <p:cNvSpPr/>
          <p:nvPr/>
        </p:nvSpPr>
        <p:spPr>
          <a:xfrm>
            <a:off x="252720" y="9216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59"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8920" y="906480"/>
            <a:ext cx="8713800" cy="53308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5. Información Privilegiada</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3333cc"/>
                </a:solidFill>
                <a:latin typeface="Arial"/>
              </a:rPr>
              <a:t>    </a:t>
            </a:r>
            <a:r>
              <a:rPr b="0" lang="es-ES_tradnl" sz="2400" spc="-1" strike="noStrike">
                <a:solidFill>
                  <a:srgbClr val="3333cc"/>
                </a:solidFill>
                <a:latin typeface="Arial"/>
              </a:rPr>
              <a:t>Cualquier información referida a un emisor, a sus negocios o a valores por ellos emitidos, no divulgada al mercado y cuyo conocimiento, por su naturaleza, sea capaz de influir en el precio de los valores emitidos.(Art. 164 LMV)</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    </a:t>
            </a:r>
            <a:r>
              <a:rPr b="1" lang="es-MX" sz="2400" spc="-1" strike="noStrike">
                <a:solidFill>
                  <a:srgbClr val="3333cc"/>
                </a:solidFill>
                <a:latin typeface="Arial"/>
              </a:rPr>
              <a:t>Requisit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1. Puede tratarse de cualquier inform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2. No divulgada al merca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3. Que su conocimiento sea capaz de influir en el precio de los valores emitidos</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0" lang="es-MX" sz="2400" spc="-1" strike="noStrike">
                <a:solidFill>
                  <a:srgbClr val="3333cc"/>
                </a:solidFill>
                <a:latin typeface="Arial"/>
              </a:rPr>
              <a:t>4. En razón al cargo, posición, actividad o relación con la sociedad emisor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25800" y="115920"/>
            <a:ext cx="4615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720" y="-27000"/>
            <a:ext cx="6481800" cy="56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INFORMACIÓN PRIVILEGIADA</a:t>
            </a:r>
            <a:endParaRPr b="0" lang="en-US" sz="2400" spc="-1" strike="noStrike">
              <a:solidFill>
                <a:srgbClr val="000000"/>
              </a:solidFill>
              <a:latin typeface="Times New Roman"/>
            </a:endParaRPr>
          </a:p>
        </p:txBody>
      </p:sp>
      <p:sp>
        <p:nvSpPr>
          <p:cNvPr id="164" name="PlaceHolder 2"/>
          <p:cNvSpPr>
            <a:spLocks noGrp="1"/>
          </p:cNvSpPr>
          <p:nvPr>
            <p:ph/>
          </p:nvPr>
        </p:nvSpPr>
        <p:spPr>
          <a:xfrm>
            <a:off x="250560" y="979560"/>
            <a:ext cx="8351640" cy="4897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Deber de abstención de uso de información privilegiada (Art. 165 LMV)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ualquier persona que en razón de su cargo, posición, actividad o relación tenga acceso a información privilegiada, deberá guardar estricta reserva y no podrá utilizarla en beneficio propio o ajeno, ni adquirir para sí o para terceros, los valores sobre los cuales posea información privilegiada”.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cc"/>
                </a:solidFill>
                <a:latin typeface="Arial"/>
              </a:rPr>
              <a:t>   </a:t>
            </a:r>
            <a:r>
              <a:rPr b="1" lang="es-MX" sz="2400" spc="-1" strike="noStrike">
                <a:solidFill>
                  <a:srgbClr val="3333cc"/>
                </a:solidFill>
                <a:latin typeface="Arial"/>
              </a:rPr>
              <a:t>Caso Piñera</a:t>
            </a:r>
            <a:endParaRPr b="0" lang="en-US" sz="2400" spc="-1" strike="noStrike">
              <a:solidFill>
                <a:srgbClr val="000000"/>
              </a:solidFill>
              <a:latin typeface="Times New Roman"/>
            </a:endParaRPr>
          </a:p>
        </p:txBody>
      </p:sp>
      <p:sp>
        <p:nvSpPr>
          <p:cNvPr id="165"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00360" y="-6480"/>
            <a:ext cx="467820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67" name="PlaceHolder 2"/>
          <p:cNvSpPr>
            <a:spLocks noGrp="1"/>
          </p:cNvSpPr>
          <p:nvPr>
            <p:ph/>
          </p:nvPr>
        </p:nvSpPr>
        <p:spPr>
          <a:xfrm>
            <a:off x="0" y="836640"/>
            <a:ext cx="8964720" cy="5472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     </a:t>
            </a:r>
            <a:r>
              <a:rPr b="0" lang="es-MX" sz="2400" spc="-1" strike="noStrike">
                <a:solidFill>
                  <a:srgbClr val="3333cc"/>
                </a:solidFill>
                <a:latin typeface="Arial"/>
              </a:rPr>
              <a:t>Es la oportunidad efectiva de dirigir los negocios sociales aunque, desde el punto de vista de la propiedad, los activos no le pertenezcan de manera íntegr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cc"/>
                </a:solidFill>
                <a:latin typeface="Arial"/>
              </a:rPr>
              <a:t>   </a:t>
            </a:r>
            <a:r>
              <a:rPr b="1" lang="es-MX" sz="2400" spc="-1" strike="noStrike">
                <a:solidFill>
                  <a:srgbClr val="3333cc"/>
                </a:solidFill>
                <a:latin typeface="Arial"/>
              </a:rPr>
              <a:t>SVS:</a:t>
            </a:r>
            <a:r>
              <a:rPr b="0" lang="es-MX" sz="2400" spc="-1" strike="noStrike">
                <a:solidFill>
                  <a:srgbClr val="3333cc"/>
                </a:solidFill>
                <a:latin typeface="Arial"/>
              </a:rPr>
              <a:t> (Art. 97 y 99 LMV)</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Asegurar la mayoría de votos en las juntas de accionistas y   elegir a la mayoría de los directores tratándose de sociedades anónimas, o asegurar la mayoría de votos en las asambleas o reuniones de sus miembros y designar al administrador o representante legal o a la mayoría de ellos, en otro tipo de sociedades, 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Influir decisivamente en la administración de la sociedad. </a:t>
            </a:r>
            <a:endParaRPr b="0" lang="en-US" sz="2400" spc="-1" strike="noStrike">
              <a:solidFill>
                <a:srgbClr val="000000"/>
              </a:solidFill>
              <a:latin typeface="Times New Roman"/>
            </a:endParaRPr>
          </a:p>
        </p:txBody>
      </p:sp>
      <p:sp>
        <p:nvSpPr>
          <p:cNvPr id="16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836640"/>
            <a:ext cx="885492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Influye decisivamente: Si controla al menos un 25% del capital con Dº a voto de la sociedad, except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 Si otra persona controla un porcentaje igual o mayo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b) Que no controle directamente más del 40%, y que simultáneamente el porcentaje controlado sea inferior a la suma de las participaciones de los demás socios o accionistas con más de un 5% de dicho capital.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c) Cuando así lo determine la SVS en consideración de la distribución y dispersión de la propiedad de la sociedad</a:t>
            </a:r>
            <a:endParaRPr b="0" lang="en-US" sz="2400" spc="-1" strike="noStrike">
              <a:solidFill>
                <a:srgbClr val="000000"/>
              </a:solidFill>
              <a:latin typeface="Times New Roman"/>
            </a:endParaRPr>
          </a:p>
        </p:txBody>
      </p:sp>
      <p:sp>
        <p:nvSpPr>
          <p:cNvPr id="170" name=""/>
          <p:cNvSpPr/>
          <p:nvPr/>
        </p:nvSpPr>
        <p:spPr>
          <a:xfrm>
            <a:off x="347760" y="42840"/>
            <a:ext cx="216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1"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44280"/>
            <a:ext cx="2301840" cy="555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3" name="PlaceHolder 2"/>
          <p:cNvSpPr>
            <a:spLocks noGrp="1"/>
          </p:cNvSpPr>
          <p:nvPr>
            <p:ph/>
          </p:nvPr>
        </p:nvSpPr>
        <p:spPr>
          <a:xfrm>
            <a:off x="34560" y="764640"/>
            <a:ext cx="892980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0" lang="es-ES_tradnl" sz="2800" spc="-1" strike="noStrike">
                <a:solidFill>
                  <a:srgbClr val="3333cc"/>
                </a:solidFill>
                <a:latin typeface="Arial"/>
              </a:rPr>
              <a:t>Importancia del contro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800" spc="-1" strike="noStrike">
                <a:solidFill>
                  <a:srgbClr val="3333cc"/>
                </a:solidFill>
                <a:latin typeface="Arial"/>
              </a:rPr>
              <a:t>Caso Chispa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1" lang="es-MX" sz="2400" spc="-1" strike="noStrike">
                <a:solidFill>
                  <a:srgbClr val="3333cc"/>
                </a:solidFill>
                <a:latin typeface="Arial"/>
              </a:rPr>
              <a:t>Grupos empresarial (Art. 96 LS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Arial"/>
              </a:rPr>
              <a:t>    </a:t>
            </a:r>
            <a:r>
              <a:rPr b="0" lang="es-ES_tradnl" sz="2400" spc="-1" strike="noStrike">
                <a:solidFill>
                  <a:srgbClr val="3333cc"/>
                </a:solidFill>
                <a:latin typeface="Arial"/>
              </a:rPr>
              <a:t>Conjunto de entidades que presentan vínculos (Propiedad, administración o responsabilidad crediticia) que hacen presumir que la actuación económica y financiera de sus integrantes está guiada por los intereses comunes del grupo o subordinada a éstos, o que existen riesgos financieros comunes en los créditos que se les otorgan o en la adquisición de valores que emiten.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720" y="65160"/>
            <a:ext cx="4533840" cy="411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EL CONTROL</a:t>
            </a:r>
            <a:endParaRPr b="0" lang="en-US" sz="2400" spc="-1" strike="noStrike">
              <a:solidFill>
                <a:srgbClr val="000000"/>
              </a:solidFill>
              <a:latin typeface="Times New Roman"/>
            </a:endParaRPr>
          </a:p>
        </p:txBody>
      </p:sp>
      <p:sp>
        <p:nvSpPr>
          <p:cNvPr id="176"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50920" y="549360"/>
            <a:ext cx="856908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ersonas relacionadas (Art. 100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a) Las entidades del grupo empresa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 Calidad de matriz, coligante, filial o coliga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c) Directores, gerentes, administradores o liquidadores de la sociedad, y sus cónyug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 Toda persona que pueda designar al menos un miembro de la administración de la sociedad o controle un 10% o má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3333cc"/>
                </a:solidFill>
                <a:latin typeface="Arial"/>
              </a:rPr>
              <a:t>Acuerdos de actuación conjunta (Art. 98 LMV)</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la convención entre dos o más personas que participan simultáneamente en la propiedad de una sociedad, mediante la cual se comprometen a participar con idéntico interés en la gestión de la sociedad u obtener el control de la mis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85120" y="44280"/>
            <a:ext cx="4138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PACTOS DE ACCIONISTAS</a:t>
            </a:r>
            <a:endParaRPr b="0" lang="en-US" sz="2400" spc="-1" strike="noStrike">
              <a:solidFill>
                <a:srgbClr val="000000"/>
              </a:solidFill>
              <a:latin typeface="Times New Roman"/>
            </a:endParaRPr>
          </a:p>
        </p:txBody>
      </p:sp>
      <p:sp>
        <p:nvSpPr>
          <p:cNvPr id="180" name=""/>
          <p:cNvSpPr/>
          <p:nvPr/>
        </p:nvSpPr>
        <p:spPr>
          <a:xfrm>
            <a:off x="179280" y="907920"/>
            <a:ext cx="8353440" cy="391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n contratos entre un grupo de accionistas con la finalidad de regular, al margen de los Estatutos, las relaciones o intereses entre los accionistas que los suscriben, a fin de determinar cómo será manejada la socie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excepción al principio de libre cesibil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Pacto de Accionistas familia Ibañez con Wal-Mart</a:t>
            </a:r>
            <a:endParaRPr b="0" lang="en-US" sz="2400" spc="-1" strike="noStrike">
              <a:solidFill>
                <a:srgbClr val="000000"/>
              </a:solidFill>
              <a:latin typeface="Times New Roman"/>
            </a:endParaRPr>
          </a:p>
          <a:p>
            <a:pPr algn="ctr">
              <a:lnSpc>
                <a:spcPct val="90000"/>
              </a:lnSpc>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8000" y="-316440"/>
            <a:ext cx="4533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COLIGADAS</a:t>
            </a:r>
            <a:endParaRPr b="0" lang="en-US" sz="2400" spc="-1" strike="noStrike">
              <a:solidFill>
                <a:srgbClr val="000000"/>
              </a:solidFill>
              <a:latin typeface="Times New Roman"/>
            </a:endParaRPr>
          </a:p>
        </p:txBody>
      </p:sp>
      <p:sp>
        <p:nvSpPr>
          <p:cNvPr id="182"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95280" y="1009800"/>
            <a:ext cx="84978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 (Art. 87 LSA</a:t>
            </a:r>
            <a:r>
              <a:rPr b="0" lang="es-ES_tradnl" sz="2400" spc="-1" strike="noStrike">
                <a:solidFill>
                  <a:srgbClr val="3333cc"/>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que la coligante (la sociedad) no es controlada, pero posee directa o a través de otra persona natural o persona jurídica el 10% o más de su capital con derecho a voto o del capital, o que pueda elegir  designar por lo menos a un miembro del director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Filiales y coligadas no pueden tener relaciones recíprocas.</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 coligante (matriz) no podrá tener el 50% o más del capital, ni podrá elegir a la mayoría del directori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Las operaciones relacionadas deberán observar. condiciones de equidad, similares a las que habitualmente prevalecen en el merc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7800" y="-306720"/>
            <a:ext cx="6334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SOCIEDADES FILIALES (ART.86 LMV)</a:t>
            </a:r>
            <a:endParaRPr b="0" lang="en-US" sz="2400" spc="-1" strike="noStrike">
              <a:solidFill>
                <a:srgbClr val="000000"/>
              </a:solidFill>
              <a:latin typeface="Times New Roman"/>
            </a:endParaRPr>
          </a:p>
        </p:txBody>
      </p:sp>
      <p:sp>
        <p:nvSpPr>
          <p:cNvPr id="185" name=""/>
          <p:cNvSpPr/>
          <p:nvPr/>
        </p:nvSpPr>
        <p:spPr>
          <a:xfrm>
            <a:off x="250920" y="476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50920" y="1052640"/>
            <a:ext cx="8208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efinició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s aquella en la que está controlada, directamente o a través de otra persona natural o jurídica, más del 50% de su capital con derecho a voto, o que pueda elegir o designar a mayoría del director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Balance consolid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Para coligada y fil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olo se permite relación patrimonial aguas abajo.</a:t>
            </a:r>
            <a:endParaRPr b="0" lang="en-US" sz="24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Sólo una sociedad anónima puede tener  una coligada o fil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50920" y="692280"/>
            <a:ext cx="8569080" cy="484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Operaciones con parte relacionada (Conflicto de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gula el procedimiento para la aprobación de operaciones, evitando la existencia de un mismo interés en ambos lados de la operación que permita que la operación haga en condiciones diversas de aquellas en que se habría aprobado de no existir comprometido tal interé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1" lang="es-ES_tradnl" sz="2400" spc="-1" strike="noStrike">
                <a:solidFill>
                  <a:srgbClr val="3333cc"/>
                </a:solidFill>
                <a:latin typeface="Arial"/>
              </a:rPr>
              <a:t>Presunciones de interés (Art. 44 Inc. 2º)</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1. Con un representado del director.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Con las sociedades o empresas en las cuales sea también director.</a:t>
            </a:r>
            <a:endParaRPr b="0" lang="en-US" sz="2400" spc="-1" strike="noStrike">
              <a:solidFill>
                <a:srgbClr val="000000"/>
              </a:solidFill>
              <a:latin typeface="Times New Roman"/>
            </a:endParaRPr>
          </a:p>
        </p:txBody>
      </p:sp>
      <p:sp>
        <p:nvSpPr>
          <p:cNvPr id="56" name=""/>
          <p:cNvSpPr/>
          <p:nvPr/>
        </p:nvSpPr>
        <p:spPr>
          <a:xfrm>
            <a:off x="263880" y="9216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327600" y="16344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
        <p:nvSpPr>
          <p:cNvPr id="60" name=""/>
          <p:cNvSpPr/>
          <p:nvPr/>
        </p:nvSpPr>
        <p:spPr>
          <a:xfrm>
            <a:off x="324000" y="884160"/>
            <a:ext cx="864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Con las sociedades o empresas en las cuales el director sea dueño directo o a través de otras personas naturales o jurídicas de un 10% o más de su capi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4. Con las sociedades o empresas en las cuales sea director el cónyuge, los parientes hasta el segundo grado de consanguinidad o afinidad o e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5. Con las sociedades o empresas en las cuales sea dueño directo o indirecto del 10% o más del capital, el cónyuge, los parientes hasta el segundo grado de consanguinidad o afinidad o al representado del direct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6. Cuando el director o personas relacionadas con él presten asesoría para la celebración del acto o contra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34920" y="476280"/>
            <a:ext cx="8569440" cy="704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Sanción por infracción de esta disposició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No afecta la validez del acto, sin perjuicio de </a:t>
            </a:r>
            <a:r>
              <a:rPr b="0" lang="es-ES_tradnl" sz="2400" spc="-1" strike="noStrike">
                <a:solidFill>
                  <a:srgbClr val="3333cc"/>
                </a:solidFill>
                <a:latin typeface="Arial"/>
              </a:rPr>
              <a:t>	</a:t>
            </a:r>
            <a:r>
              <a:rPr b="0" lang="es-ES_tradnl" sz="2400" spc="-1" strike="noStrike">
                <a:solidFill>
                  <a:srgbClr val="3333cc"/>
                </a:solidFill>
                <a:latin typeface="Arial"/>
              </a:rPr>
              <a:t>sanciones administrada y pen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Otorga a accionistas, la sociedad o los 3º interesados </a:t>
            </a:r>
            <a:r>
              <a:rPr b="0" lang="es-ES_tradnl" sz="2400" spc="-1" strike="noStrike">
                <a:solidFill>
                  <a:srgbClr val="3333cc"/>
                </a:solidFill>
                <a:latin typeface="Arial"/>
              </a:rPr>
              <a:t>	</a:t>
            </a:r>
            <a:r>
              <a:rPr b="0" lang="es-ES_tradnl" sz="2400" spc="-1" strike="noStrike">
                <a:solidFill>
                  <a:srgbClr val="3333cc"/>
                </a:solidFill>
                <a:latin typeface="Arial"/>
              </a:rPr>
              <a:t>el derecho de exigir indemnización de perjuicio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Término de funciones de los director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4" name=""/>
          <p:cNvCxnSpPr>
            <a:stCxn id="63" idx="1"/>
            <a:endCxn id="63" idx="1"/>
          </p:cNvCxnSpPr>
          <p:nvPr/>
        </p:nvCxnSpPr>
        <p:spPr>
          <a:xfrm>
            <a:off x="34560" y="3990600"/>
            <a:ext cx="1080" cy="1080"/>
          </a:xfrm>
          <a:prstGeom prst="straightConnector1">
            <a:avLst/>
          </a:prstGeom>
          <a:ln w="9360">
            <a:solidFill>
              <a:srgbClr val="000000"/>
            </a:solidFill>
            <a:miter/>
          </a:ln>
        </p:spPr>
      </p:cxnSp>
      <p:sp>
        <p:nvSpPr>
          <p:cNvPr id="65" name=""/>
          <p:cNvSpPr/>
          <p:nvPr/>
        </p:nvSpPr>
        <p:spPr>
          <a:xfrm>
            <a:off x="336960" y="187200"/>
            <a:ext cx="2175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Arial"/>
              </a:rPr>
              <a:t>DIRECT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50920" y="62064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24000" y="677880"/>
            <a:ext cx="8496000" cy="484884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Facultades (Art. 40 L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Representación judicial y extrajudi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Administración y disposición que no sean aquellas privativas de la junta general de accionist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3. Nombrar empleados de la plana ejecutiva de la sociedad. Y delegar parte de sus funciones en gerente, subgerente, abogados de la sociedad, un director, una comisión de directores. (no confundir con las funciones de un director, que no son delegables, art.39 LSA) </a:t>
            </a:r>
            <a:endParaRPr b="0" lang="en-US" sz="2400" spc="-1" strike="noStrike">
              <a:solidFill>
                <a:srgbClr val="000000"/>
              </a:solidFill>
              <a:latin typeface="Times New Roman"/>
            </a:endParaRPr>
          </a:p>
        </p:txBody>
      </p:sp>
      <p:sp>
        <p:nvSpPr>
          <p:cNvPr id="68"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25800" y="115920"/>
            <a:ext cx="2093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250920" y="54936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79280" y="551160"/>
            <a:ext cx="8785440" cy="59461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uniones del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Antecedentes general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Clases de sesion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3333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No requieren citación espe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La fecha y hora de reunión se determina por el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ropio Directori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Para las SAA se requiere al menos una sesión al mes.</a:t>
            </a:r>
            <a:endParaRPr b="0" lang="en-US" sz="2400" spc="-1" strike="noStrike">
              <a:solidFill>
                <a:srgbClr val="000000"/>
              </a:solidFill>
              <a:latin typeface="Times New Roman"/>
            </a:endParaRPr>
          </a:p>
          <a:p>
            <a:pPr marL="457200" indent="-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2) Extraordinaria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 citación del Presidente de Directorio, previa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calificación de su necesidad.</a:t>
            </a:r>
            <a:endParaRPr b="0" lang="en-US" sz="2400" spc="-1" strike="noStrike">
              <a:solidFill>
                <a:srgbClr val="000000"/>
              </a:solidFill>
              <a:latin typeface="Times New Roman"/>
            </a:endParaRPr>
          </a:p>
        </p:txBody>
      </p:sp>
      <p:sp>
        <p:nvSpPr>
          <p:cNvPr id="74" name=""/>
          <p:cNvSpPr/>
          <p:nvPr/>
        </p:nvSpPr>
        <p:spPr>
          <a:xfrm>
            <a:off x="252000" y="115920"/>
            <a:ext cx="21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
          <p:cNvSpPr/>
          <p:nvPr/>
        </p:nvSpPr>
        <p:spPr>
          <a:xfrm>
            <a:off x="250920" y="692280"/>
            <a:ext cx="864216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395280" y="98100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50920" y="-346680"/>
            <a:ext cx="8569080" cy="704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En caso de ser solicitada por la mayoría absoluta de los directores, se celebrará sin necesidad de calificación del Presidente.</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dopción de acuerdos.</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cuerdos del Directorio: Art.48 LSA</a:t>
            </a: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ibro de actas:         Importancia</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	</a:t>
            </a:r>
            <a:r>
              <a:rPr b="0" lang="es-ES_tradnl" sz="2400" spc="-1" strike="noStrike">
                <a:solidFill>
                  <a:srgbClr val="3333cc"/>
                </a:solidFill>
                <a:latin typeface="Arial"/>
              </a:rPr>
              <a:t>Aprobación</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Responsabilidad de la sociedad </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Responsabilidad de administradores con terceros (art. 133 LSA y 55 LMV)</a:t>
            </a:r>
            <a:endParaRPr b="0" lang="en-US" sz="2400" spc="-1" strike="noStrike">
              <a:solidFill>
                <a:srgbClr val="000000"/>
              </a:solidFill>
              <a:latin typeface="Times New Roman"/>
            </a:endParaRPr>
          </a:p>
          <a:p>
            <a:pPr lvl="2" marL="914400">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	</a:t>
            </a:r>
            <a:r>
              <a:rPr b="0" lang="es-ES_tradnl" sz="2400" spc="-1" strike="noStrike">
                <a:solidFill>
                  <a:srgbClr val="3333cc"/>
                </a:solidFill>
                <a:latin typeface="Arial"/>
              </a:rPr>
              <a:t>* Solidaridad (art. 133 inc 3 LSA; 55 inc3 LMV)</a:t>
            </a:r>
            <a:endParaRPr b="0" lang="en-US" sz="2400" spc="-1" strike="noStrike">
              <a:solidFill>
                <a:srgbClr val="000000"/>
              </a:solidFill>
              <a:latin typeface="Times New Roman"/>
            </a:endParaRPr>
          </a:p>
        </p:txBody>
      </p:sp>
      <p:sp>
        <p:nvSpPr>
          <p:cNvPr id="79" name=""/>
          <p:cNvSpPr/>
          <p:nvPr/>
        </p:nvSpPr>
        <p:spPr>
          <a:xfrm>
            <a:off x="325440" y="189000"/>
            <a:ext cx="21697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Arial"/>
              </a:rPr>
              <a:t>DIRECTO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Olidata </cp:lastModifiedBy>
  <dcterms:modified xsi:type="dcterms:W3CDTF">2009-04-09T15:12:38Z</dcterms:modified>
  <cp:revision>152</cp:revision>
  <dc:subject/>
  <dc:title>Diapositiva 1</dc:title>
</cp:coreProperties>
</file>